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74AB-7FA9-418D-8ACD-1350AB679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F543-55C4-4C32-A784-3F8AF08CC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DCF3-01CD-407E-83C2-36C605184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0AB0-A8B4-42C7-8E84-EBF56454D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E291-F570-4E16-BAC3-10F36DBBD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9CE2-2A02-4AF0-8412-BF6F1F4D3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5019-E07A-420E-88A2-D532FF85B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992B-63AD-4899-9742-5C56E927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B2F8-D60C-4029-88DC-9897D9A59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DEEB-3A05-413B-AE62-6623AE2C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7992-ED22-4DDD-934D-1DF6865C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49C6-5ADB-4FF6-9239-B80DF728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71E55-923E-42FC-89C4-AAD0830A4E8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2057040"/>
            <a:ext cx="73915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 the component form and magnitude of a vector with initial point  (-3, 5) and terminal point (7, 1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Ink 4"/>
          <p:cNvSpPr/>
          <p:nvPr/>
        </p:nvSpPr>
        <p:spPr>
          <a:xfrm>
            <a:off x="1438200" y="3803760"/>
            <a:ext cx="1687680" cy="760320"/>
          </a:xfrm>
          <a:custGeom>
            <a:avLst/>
            <a:gdLst/>
            <a:ahLst/>
            <a:rect l="l" t="t" r="r" b="b"/>
            <a:pathLst>
              <a:path w="4689" h="2109">
                <a:moveTo>
                  <a:pt x="4911" y="10567"/>
                </a:moveTo>
                <a:cubicBezTo>
                  <a:pt x="4873" y="10610"/>
                  <a:pt x="4822" y="10636"/>
                  <a:pt x="4787" y="10691"/>
                </a:cubicBezTo>
                <a:cubicBezTo>
                  <a:pt x="4724" y="10791"/>
                  <a:pt x="4674" y="10754"/>
                  <a:pt x="4589" y="10815"/>
                </a:cubicBezTo>
                <a:cubicBezTo>
                  <a:pt x="4508" y="10873"/>
                  <a:pt x="4433" y="10897"/>
                  <a:pt x="4341" y="10939"/>
                </a:cubicBezTo>
                <a:cubicBezTo>
                  <a:pt x="4261" y="10975"/>
                  <a:pt x="4191" y="11021"/>
                  <a:pt x="4118" y="11063"/>
                </a:cubicBezTo>
                <a:cubicBezTo>
                  <a:pt x="4075" y="11088"/>
                  <a:pt x="4034" y="11112"/>
                  <a:pt x="3994" y="11137"/>
                </a:cubicBezTo>
                <a:cubicBezTo>
                  <a:pt x="4035" y="11185"/>
                  <a:pt x="4055" y="11237"/>
                  <a:pt x="4093" y="11286"/>
                </a:cubicBezTo>
                <a:cubicBezTo>
                  <a:pt x="4173" y="11389"/>
                  <a:pt x="4258" y="11482"/>
                  <a:pt x="4341" y="11584"/>
                </a:cubicBezTo>
                <a:cubicBezTo>
                  <a:pt x="4430" y="11693"/>
                  <a:pt x="4516" y="11804"/>
                  <a:pt x="4614" y="11906"/>
                </a:cubicBezTo>
                <a:cubicBezTo>
                  <a:pt x="4701" y="11997"/>
                  <a:pt x="4810" y="12086"/>
                  <a:pt x="4887" y="12179"/>
                </a:cubicBezTo>
                <a:cubicBezTo>
                  <a:pt x="4922" y="12221"/>
                  <a:pt x="4937" y="12270"/>
                  <a:pt x="4986" y="12303"/>
                </a:cubicBezTo>
                <a:cubicBezTo>
                  <a:pt x="5009" y="12326"/>
                  <a:pt x="5017" y="12337"/>
                  <a:pt x="5011" y="12303"/>
                </a:cubicBezTo>
              </a:path>
              <a:path w="4689" h="2109">
                <a:moveTo>
                  <a:pt x="5209" y="10864"/>
                </a:moveTo>
                <a:cubicBezTo>
                  <a:pt x="5209" y="11171"/>
                  <a:pt x="5200" y="11481"/>
                  <a:pt x="5234" y="11782"/>
                </a:cubicBezTo>
                <a:cubicBezTo>
                  <a:pt x="5244" y="11869"/>
                  <a:pt x="5245" y="11957"/>
                  <a:pt x="5283" y="12030"/>
                </a:cubicBezTo>
                <a:cubicBezTo>
                  <a:pt x="5291" y="12047"/>
                  <a:pt x="5300" y="12063"/>
                  <a:pt x="5308" y="12080"/>
                </a:cubicBezTo>
              </a:path>
              <a:path w="4689" h="2109">
                <a:moveTo>
                  <a:pt x="5680" y="11063"/>
                </a:moveTo>
                <a:cubicBezTo>
                  <a:pt x="5672" y="11124"/>
                  <a:pt x="5650" y="11183"/>
                  <a:pt x="5631" y="11237"/>
                </a:cubicBezTo>
                <a:cubicBezTo>
                  <a:pt x="5601" y="11321"/>
                  <a:pt x="5606" y="11395"/>
                  <a:pt x="5606" y="11485"/>
                </a:cubicBezTo>
                <a:cubicBezTo>
                  <a:pt x="5606" y="11585"/>
                  <a:pt x="5620" y="11640"/>
                  <a:pt x="5655" y="11733"/>
                </a:cubicBezTo>
                <a:cubicBezTo>
                  <a:pt x="5691" y="11829"/>
                  <a:pt x="5742" y="11931"/>
                  <a:pt x="5829" y="11981"/>
                </a:cubicBezTo>
                <a:cubicBezTo>
                  <a:pt x="5905" y="12025"/>
                  <a:pt x="5937" y="12050"/>
                  <a:pt x="6028" y="12005"/>
                </a:cubicBezTo>
                <a:cubicBezTo>
                  <a:pt x="6066" y="11986"/>
                  <a:pt x="6107" y="11894"/>
                  <a:pt x="6127" y="11857"/>
                </a:cubicBezTo>
                <a:cubicBezTo>
                  <a:pt x="6165" y="11786"/>
                  <a:pt x="6172" y="11688"/>
                  <a:pt x="6176" y="11609"/>
                </a:cubicBezTo>
                <a:cubicBezTo>
                  <a:pt x="6179" y="11534"/>
                  <a:pt x="6154" y="11432"/>
                  <a:pt x="6127" y="11361"/>
                </a:cubicBezTo>
                <a:cubicBezTo>
                  <a:pt x="6092" y="11270"/>
                  <a:pt x="6047" y="11195"/>
                  <a:pt x="5978" y="11137"/>
                </a:cubicBezTo>
                <a:cubicBezTo>
                  <a:pt x="5932" y="11099"/>
                  <a:pt x="5868" y="11064"/>
                  <a:pt x="5804" y="11088"/>
                </a:cubicBezTo>
                <a:cubicBezTo>
                  <a:pt x="5765" y="11102"/>
                  <a:pt x="5719" y="11178"/>
                  <a:pt x="5705" y="11212"/>
                </a:cubicBezTo>
                <a:cubicBezTo>
                  <a:pt x="5671" y="11294"/>
                  <a:pt x="5680" y="11373"/>
                  <a:pt x="5680" y="11460"/>
                </a:cubicBezTo>
                <a:cubicBezTo>
                  <a:pt x="5680" y="11476"/>
                  <a:pt x="5680" y="11493"/>
                  <a:pt x="5680" y="11509"/>
                </a:cubicBezTo>
              </a:path>
              <a:path w="4689" h="2109">
                <a:moveTo>
                  <a:pt x="6573" y="11956"/>
                </a:moveTo>
                <a:cubicBezTo>
                  <a:pt x="6597" y="12004"/>
                  <a:pt x="6615" y="12092"/>
                  <a:pt x="6598" y="12154"/>
                </a:cubicBezTo>
                <a:cubicBezTo>
                  <a:pt x="6578" y="12224"/>
                  <a:pt x="6558" y="12286"/>
                  <a:pt x="6524" y="12353"/>
                </a:cubicBezTo>
                <a:cubicBezTo>
                  <a:pt x="6494" y="12412"/>
                  <a:pt x="6463" y="12473"/>
                  <a:pt x="6424" y="12526"/>
                </a:cubicBezTo>
                <a:cubicBezTo>
                  <a:pt x="6385" y="12578"/>
                  <a:pt x="6309" y="12660"/>
                  <a:pt x="6251" y="12675"/>
                </a:cubicBezTo>
              </a:path>
              <a:path w="4689" h="2109">
                <a:moveTo>
                  <a:pt x="7144" y="11112"/>
                </a:moveTo>
                <a:cubicBezTo>
                  <a:pt x="7247" y="11118"/>
                  <a:pt x="7325" y="11120"/>
                  <a:pt x="7417" y="11162"/>
                </a:cubicBezTo>
                <a:cubicBezTo>
                  <a:pt x="7473" y="11187"/>
                  <a:pt x="7531" y="11200"/>
                  <a:pt x="7590" y="11212"/>
                </a:cubicBezTo>
              </a:path>
              <a:path w="4689" h="2109">
                <a:moveTo>
                  <a:pt x="7392" y="11063"/>
                </a:moveTo>
                <a:cubicBezTo>
                  <a:pt x="7327" y="11109"/>
                  <a:pt x="7315" y="11149"/>
                  <a:pt x="7268" y="11212"/>
                </a:cubicBezTo>
                <a:cubicBezTo>
                  <a:pt x="7238" y="11252"/>
                  <a:pt x="7181" y="11332"/>
                  <a:pt x="7169" y="11385"/>
                </a:cubicBezTo>
                <a:cubicBezTo>
                  <a:pt x="7169" y="11435"/>
                  <a:pt x="7169" y="11452"/>
                  <a:pt x="7169" y="11485"/>
                </a:cubicBezTo>
                <a:cubicBezTo>
                  <a:pt x="7243" y="11485"/>
                  <a:pt x="7297" y="11464"/>
                  <a:pt x="7367" y="11460"/>
                </a:cubicBezTo>
                <a:cubicBezTo>
                  <a:pt x="7448" y="11455"/>
                  <a:pt x="7500" y="11460"/>
                  <a:pt x="7565" y="11509"/>
                </a:cubicBezTo>
                <a:cubicBezTo>
                  <a:pt x="7601" y="11536"/>
                  <a:pt x="7649" y="11615"/>
                  <a:pt x="7665" y="11658"/>
                </a:cubicBezTo>
                <a:cubicBezTo>
                  <a:pt x="7704" y="11761"/>
                  <a:pt x="7734" y="11856"/>
                  <a:pt x="7689" y="11956"/>
                </a:cubicBezTo>
                <a:cubicBezTo>
                  <a:pt x="7663" y="12014"/>
                  <a:pt x="7576" y="12071"/>
                  <a:pt x="7516" y="12055"/>
                </a:cubicBezTo>
                <a:cubicBezTo>
                  <a:pt x="7467" y="12042"/>
                  <a:pt x="7416" y="12010"/>
                  <a:pt x="7367" y="11981"/>
                </a:cubicBezTo>
                <a:cubicBezTo>
                  <a:pt x="7308" y="11946"/>
                  <a:pt x="7274" y="11900"/>
                  <a:pt x="7218" y="11857"/>
                </a:cubicBezTo>
              </a:path>
              <a:path w="4689" h="2109">
                <a:moveTo>
                  <a:pt x="7739" y="10641"/>
                </a:moveTo>
                <a:cubicBezTo>
                  <a:pt x="7789" y="10691"/>
                  <a:pt x="7885" y="10774"/>
                  <a:pt x="7938" y="10840"/>
                </a:cubicBezTo>
                <a:cubicBezTo>
                  <a:pt x="8023" y="10945"/>
                  <a:pt x="8113" y="11040"/>
                  <a:pt x="8210" y="11137"/>
                </a:cubicBezTo>
                <a:cubicBezTo>
                  <a:pt x="8299" y="11226"/>
                  <a:pt x="8389" y="11304"/>
                  <a:pt x="8483" y="11385"/>
                </a:cubicBezTo>
                <a:cubicBezTo>
                  <a:pt x="8540" y="11434"/>
                  <a:pt x="8591" y="11473"/>
                  <a:pt x="8657" y="11509"/>
                </a:cubicBezTo>
                <a:cubicBezTo>
                  <a:pt x="8704" y="11535"/>
                  <a:pt x="8642" y="11544"/>
                  <a:pt x="8607" y="11584"/>
                </a:cubicBezTo>
                <a:cubicBezTo>
                  <a:pt x="8520" y="11684"/>
                  <a:pt x="8472" y="11757"/>
                  <a:pt x="8409" y="11881"/>
                </a:cubicBezTo>
                <a:cubicBezTo>
                  <a:pt x="8301" y="12092"/>
                  <a:pt x="8178" y="12312"/>
                  <a:pt x="8037" y="12502"/>
                </a:cubicBezTo>
                <a:cubicBezTo>
                  <a:pt x="8004" y="12535"/>
                  <a:pt x="7971" y="12568"/>
                  <a:pt x="7938" y="1260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Ink 5"/>
          <p:cNvSpPr/>
          <p:nvPr/>
        </p:nvSpPr>
        <p:spPr>
          <a:xfrm>
            <a:off x="5456160" y="3776760"/>
            <a:ext cx="2116080" cy="689040"/>
          </a:xfrm>
          <a:custGeom>
            <a:avLst/>
            <a:gdLst/>
            <a:ahLst/>
            <a:rect l="l" t="t" r="r" b="b"/>
            <a:pathLst>
              <a:path w="5879" h="1911">
                <a:moveTo>
                  <a:pt x="15156" y="10740"/>
                </a:moveTo>
                <a:cubicBezTo>
                  <a:pt x="15259" y="10745"/>
                  <a:pt x="15330" y="10737"/>
                  <a:pt x="15429" y="10765"/>
                </a:cubicBezTo>
                <a:cubicBezTo>
                  <a:pt x="15582" y="10809"/>
                  <a:pt x="15713" y="10907"/>
                  <a:pt x="15801" y="11038"/>
                </a:cubicBezTo>
                <a:cubicBezTo>
                  <a:pt x="15873" y="11145"/>
                  <a:pt x="15911" y="11263"/>
                  <a:pt x="15949" y="11385"/>
                </a:cubicBezTo>
                <a:cubicBezTo>
                  <a:pt x="15988" y="11508"/>
                  <a:pt x="15998" y="11635"/>
                  <a:pt x="16024" y="11757"/>
                </a:cubicBezTo>
                <a:cubicBezTo>
                  <a:pt x="16048" y="11866"/>
                  <a:pt x="16071" y="11976"/>
                  <a:pt x="16098" y="12080"/>
                </a:cubicBezTo>
                <a:cubicBezTo>
                  <a:pt x="16098" y="12124"/>
                  <a:pt x="16095" y="12138"/>
                  <a:pt x="16123" y="12154"/>
                </a:cubicBezTo>
                <a:cubicBezTo>
                  <a:pt x="16139" y="12056"/>
                  <a:pt x="16159" y="11955"/>
                  <a:pt x="16173" y="11857"/>
                </a:cubicBezTo>
                <a:cubicBezTo>
                  <a:pt x="16197" y="11684"/>
                  <a:pt x="16216" y="11509"/>
                  <a:pt x="16247" y="11336"/>
                </a:cubicBezTo>
                <a:cubicBezTo>
                  <a:pt x="16272" y="11195"/>
                  <a:pt x="16298" y="11053"/>
                  <a:pt x="16321" y="10914"/>
                </a:cubicBezTo>
                <a:cubicBezTo>
                  <a:pt x="16336" y="10823"/>
                  <a:pt x="16335" y="10728"/>
                  <a:pt x="16371" y="10641"/>
                </a:cubicBezTo>
                <a:cubicBezTo>
                  <a:pt x="16388" y="10601"/>
                  <a:pt x="16399" y="10539"/>
                  <a:pt x="16446" y="10517"/>
                </a:cubicBezTo>
                <a:cubicBezTo>
                  <a:pt x="16522" y="10481"/>
                  <a:pt x="16586" y="10497"/>
                  <a:pt x="16669" y="10492"/>
                </a:cubicBezTo>
                <a:cubicBezTo>
                  <a:pt x="16777" y="10485"/>
                  <a:pt x="16913" y="10492"/>
                  <a:pt x="17016" y="10517"/>
                </a:cubicBezTo>
                <a:cubicBezTo>
                  <a:pt x="17243" y="10571"/>
                  <a:pt x="17454" y="10545"/>
                  <a:pt x="17686" y="10567"/>
                </a:cubicBezTo>
                <a:cubicBezTo>
                  <a:pt x="17943" y="10591"/>
                  <a:pt x="18200" y="10633"/>
                  <a:pt x="18455" y="10641"/>
                </a:cubicBezTo>
                <a:cubicBezTo>
                  <a:pt x="18800" y="10652"/>
                  <a:pt x="19134" y="10659"/>
                  <a:pt x="19472" y="10691"/>
                </a:cubicBezTo>
                <a:cubicBezTo>
                  <a:pt x="19686" y="10712"/>
                  <a:pt x="19902" y="10720"/>
                  <a:pt x="20117" y="10740"/>
                </a:cubicBezTo>
                <a:cubicBezTo>
                  <a:pt x="20336" y="10760"/>
                  <a:pt x="20548" y="10793"/>
                  <a:pt x="20762" y="10815"/>
                </a:cubicBezTo>
                <a:cubicBezTo>
                  <a:pt x="20781" y="10817"/>
                  <a:pt x="21031" y="10816"/>
                  <a:pt x="21034" y="10840"/>
                </a:cubicBezTo>
                <a:cubicBezTo>
                  <a:pt x="21039" y="10881"/>
                  <a:pt x="20971" y="10844"/>
                  <a:pt x="20935" y="10864"/>
                </a:cubicBezTo>
              </a:path>
              <a:path w="5879" h="1911">
                <a:moveTo>
                  <a:pt x="16991" y="10964"/>
                </a:moveTo>
                <a:cubicBezTo>
                  <a:pt x="17083" y="10964"/>
                  <a:pt x="17151" y="10976"/>
                  <a:pt x="17239" y="10988"/>
                </a:cubicBezTo>
                <a:cubicBezTo>
                  <a:pt x="17302" y="10997"/>
                  <a:pt x="17363" y="10993"/>
                  <a:pt x="17413" y="10964"/>
                </a:cubicBezTo>
              </a:path>
              <a:path w="5879" h="1911">
                <a:moveTo>
                  <a:pt x="16991" y="10939"/>
                </a:moveTo>
                <a:cubicBezTo>
                  <a:pt x="16956" y="11040"/>
                  <a:pt x="16898" y="11159"/>
                  <a:pt x="16892" y="11261"/>
                </a:cubicBezTo>
                <a:cubicBezTo>
                  <a:pt x="16892" y="11311"/>
                  <a:pt x="16892" y="11328"/>
                  <a:pt x="16892" y="11361"/>
                </a:cubicBezTo>
                <a:cubicBezTo>
                  <a:pt x="16921" y="11302"/>
                  <a:pt x="16945" y="11258"/>
                  <a:pt x="16991" y="11212"/>
                </a:cubicBezTo>
                <a:cubicBezTo>
                  <a:pt x="17057" y="11146"/>
                  <a:pt x="17153" y="11218"/>
                  <a:pt x="17214" y="11261"/>
                </a:cubicBezTo>
                <a:cubicBezTo>
                  <a:pt x="17272" y="11302"/>
                  <a:pt x="17289" y="11400"/>
                  <a:pt x="17314" y="11460"/>
                </a:cubicBezTo>
                <a:cubicBezTo>
                  <a:pt x="17354" y="11554"/>
                  <a:pt x="17329" y="11616"/>
                  <a:pt x="17289" y="11708"/>
                </a:cubicBezTo>
                <a:cubicBezTo>
                  <a:pt x="17255" y="11786"/>
                  <a:pt x="17181" y="11806"/>
                  <a:pt x="17115" y="11832"/>
                </a:cubicBezTo>
                <a:cubicBezTo>
                  <a:pt x="17044" y="11860"/>
                  <a:pt x="16990" y="11856"/>
                  <a:pt x="16917" y="11832"/>
                </a:cubicBezTo>
                <a:cubicBezTo>
                  <a:pt x="16864" y="11814"/>
                  <a:pt x="16804" y="11770"/>
                  <a:pt x="16818" y="11708"/>
                </a:cubicBezTo>
                <a:cubicBezTo>
                  <a:pt x="16826" y="11691"/>
                  <a:pt x="16834" y="11675"/>
                  <a:pt x="16842" y="11658"/>
                </a:cubicBezTo>
              </a:path>
              <a:path w="5879" h="1911">
                <a:moveTo>
                  <a:pt x="17760" y="11559"/>
                </a:moveTo>
                <a:cubicBezTo>
                  <a:pt x="17726" y="11593"/>
                  <a:pt x="17686" y="11665"/>
                  <a:pt x="17785" y="11633"/>
                </a:cubicBezTo>
                <a:cubicBezTo>
                  <a:pt x="17812" y="11624"/>
                  <a:pt x="17728" y="11570"/>
                  <a:pt x="17760" y="11683"/>
                </a:cubicBezTo>
              </a:path>
              <a:path w="5879" h="1911">
                <a:moveTo>
                  <a:pt x="18281" y="11187"/>
                </a:moveTo>
                <a:cubicBezTo>
                  <a:pt x="18364" y="11156"/>
                  <a:pt x="18438" y="11162"/>
                  <a:pt x="18529" y="11162"/>
                </a:cubicBezTo>
                <a:cubicBezTo>
                  <a:pt x="18614" y="11162"/>
                  <a:pt x="18675" y="11158"/>
                  <a:pt x="18752" y="11187"/>
                </a:cubicBezTo>
              </a:path>
              <a:path w="5879" h="1911">
                <a:moveTo>
                  <a:pt x="18207" y="11237"/>
                </a:moveTo>
                <a:cubicBezTo>
                  <a:pt x="18141" y="11404"/>
                  <a:pt x="18109" y="11382"/>
                  <a:pt x="18157" y="11509"/>
                </a:cubicBezTo>
                <a:cubicBezTo>
                  <a:pt x="18230" y="11499"/>
                  <a:pt x="18276" y="11450"/>
                  <a:pt x="18355" y="11435"/>
                </a:cubicBezTo>
                <a:cubicBezTo>
                  <a:pt x="18433" y="11420"/>
                  <a:pt x="18468" y="11449"/>
                  <a:pt x="18529" y="11485"/>
                </a:cubicBezTo>
                <a:cubicBezTo>
                  <a:pt x="18606" y="11530"/>
                  <a:pt x="18645" y="11599"/>
                  <a:pt x="18678" y="11683"/>
                </a:cubicBezTo>
                <a:cubicBezTo>
                  <a:pt x="18710" y="11764"/>
                  <a:pt x="18750" y="11866"/>
                  <a:pt x="18728" y="11956"/>
                </a:cubicBezTo>
                <a:cubicBezTo>
                  <a:pt x="18710" y="12032"/>
                  <a:pt x="18622" y="12067"/>
                  <a:pt x="18554" y="12080"/>
                </a:cubicBezTo>
                <a:cubicBezTo>
                  <a:pt x="18464" y="12097"/>
                  <a:pt x="18385" y="12068"/>
                  <a:pt x="18306" y="12030"/>
                </a:cubicBezTo>
                <a:cubicBezTo>
                  <a:pt x="18227" y="11993"/>
                  <a:pt x="18194" y="11990"/>
                  <a:pt x="18182" y="11906"/>
                </a:cubicBezTo>
              </a:path>
              <a:path w="5879" h="1911">
                <a:moveTo>
                  <a:pt x="19174" y="11658"/>
                </a:moveTo>
                <a:cubicBezTo>
                  <a:pt x="19166" y="11666"/>
                  <a:pt x="19082" y="11750"/>
                  <a:pt x="19149" y="11683"/>
                </a:cubicBezTo>
              </a:path>
              <a:path w="5879" h="1911">
                <a:moveTo>
                  <a:pt x="19546" y="11162"/>
                </a:moveTo>
                <a:cubicBezTo>
                  <a:pt x="19679" y="11147"/>
                  <a:pt x="19830" y="11145"/>
                  <a:pt x="19968" y="11162"/>
                </a:cubicBezTo>
                <a:cubicBezTo>
                  <a:pt x="20050" y="11183"/>
                  <a:pt x="20066" y="11191"/>
                  <a:pt x="20117" y="11187"/>
                </a:cubicBezTo>
              </a:path>
              <a:path w="5879" h="1911">
                <a:moveTo>
                  <a:pt x="19546" y="11237"/>
                </a:moveTo>
                <a:cubicBezTo>
                  <a:pt x="19517" y="11296"/>
                  <a:pt x="19403" y="11468"/>
                  <a:pt x="19521" y="11534"/>
                </a:cubicBezTo>
                <a:cubicBezTo>
                  <a:pt x="19582" y="11568"/>
                  <a:pt x="19696" y="11528"/>
                  <a:pt x="19769" y="11559"/>
                </a:cubicBezTo>
                <a:cubicBezTo>
                  <a:pt x="19839" y="11589"/>
                  <a:pt x="19919" y="11623"/>
                  <a:pt x="19968" y="11683"/>
                </a:cubicBezTo>
                <a:cubicBezTo>
                  <a:pt x="20045" y="11777"/>
                  <a:pt x="20086" y="11834"/>
                  <a:pt x="20092" y="11956"/>
                </a:cubicBezTo>
                <a:cubicBezTo>
                  <a:pt x="20096" y="12046"/>
                  <a:pt x="20033" y="12054"/>
                  <a:pt x="19968" y="12080"/>
                </a:cubicBezTo>
                <a:cubicBezTo>
                  <a:pt x="19865" y="12120"/>
                  <a:pt x="19776" y="12106"/>
                  <a:pt x="19670" y="12080"/>
                </a:cubicBezTo>
                <a:cubicBezTo>
                  <a:pt x="19546" y="12050"/>
                  <a:pt x="19459" y="11995"/>
                  <a:pt x="19348" y="11931"/>
                </a:cubicBezTo>
              </a:path>
              <a:path w="5879" h="1911">
                <a:moveTo>
                  <a:pt x="18604" y="11112"/>
                </a:moveTo>
                <a:cubicBezTo>
                  <a:pt x="18513" y="11015"/>
                  <a:pt x="18444" y="10964"/>
                  <a:pt x="18331" y="10889"/>
                </a:cubicBezTo>
                <a:cubicBezTo>
                  <a:pt x="18228" y="10821"/>
                  <a:pt x="18125" y="10756"/>
                  <a:pt x="18008" y="10716"/>
                </a:cubicBezTo>
                <a:cubicBezTo>
                  <a:pt x="17820" y="10651"/>
                  <a:pt x="17638" y="10573"/>
                  <a:pt x="17438" y="10567"/>
                </a:cubicBezTo>
                <a:cubicBezTo>
                  <a:pt x="17265" y="10562"/>
                  <a:pt x="17029" y="10529"/>
                  <a:pt x="16867" y="10592"/>
                </a:cubicBezTo>
                <a:cubicBezTo>
                  <a:pt x="16722" y="10649"/>
                  <a:pt x="16624" y="10689"/>
                  <a:pt x="16495" y="10790"/>
                </a:cubicBezTo>
                <a:cubicBezTo>
                  <a:pt x="16429" y="10841"/>
                  <a:pt x="16344" y="10890"/>
                  <a:pt x="16297" y="10964"/>
                </a:cubicBezTo>
                <a:cubicBezTo>
                  <a:pt x="16256" y="11027"/>
                  <a:pt x="16231" y="11091"/>
                  <a:pt x="16222" y="11162"/>
                </a:cubicBezTo>
                <a:cubicBezTo>
                  <a:pt x="16214" y="11231"/>
                  <a:pt x="16223" y="11348"/>
                  <a:pt x="16247" y="11410"/>
                </a:cubicBezTo>
                <a:cubicBezTo>
                  <a:pt x="16282" y="11503"/>
                  <a:pt x="16364" y="11581"/>
                  <a:pt x="16421" y="11658"/>
                </a:cubicBezTo>
                <a:cubicBezTo>
                  <a:pt x="16496" y="11758"/>
                  <a:pt x="16591" y="11833"/>
                  <a:pt x="16694" y="11906"/>
                </a:cubicBezTo>
                <a:cubicBezTo>
                  <a:pt x="16813" y="11990"/>
                  <a:pt x="16909" y="12063"/>
                  <a:pt x="17041" y="12129"/>
                </a:cubicBezTo>
                <a:cubicBezTo>
                  <a:pt x="17179" y="12198"/>
                  <a:pt x="17316" y="12256"/>
                  <a:pt x="17462" y="12303"/>
                </a:cubicBezTo>
                <a:cubicBezTo>
                  <a:pt x="17611" y="12351"/>
                  <a:pt x="17759" y="12355"/>
                  <a:pt x="17909" y="12378"/>
                </a:cubicBezTo>
                <a:cubicBezTo>
                  <a:pt x="18046" y="12399"/>
                  <a:pt x="18191" y="12420"/>
                  <a:pt x="18331" y="12402"/>
                </a:cubicBezTo>
                <a:cubicBezTo>
                  <a:pt x="18462" y="12385"/>
                  <a:pt x="18562" y="12362"/>
                  <a:pt x="18678" y="12303"/>
                </a:cubicBezTo>
                <a:cubicBezTo>
                  <a:pt x="18835" y="12223"/>
                  <a:pt x="18881" y="12185"/>
                  <a:pt x="18951" y="12030"/>
                </a:cubicBezTo>
                <a:cubicBezTo>
                  <a:pt x="18988" y="11948"/>
                  <a:pt x="19011" y="11796"/>
                  <a:pt x="19000" y="11708"/>
                </a:cubicBezTo>
                <a:cubicBezTo>
                  <a:pt x="18986" y="11600"/>
                  <a:pt x="18960" y="11490"/>
                  <a:pt x="18926" y="11385"/>
                </a:cubicBezTo>
                <a:cubicBezTo>
                  <a:pt x="18894" y="11285"/>
                  <a:pt x="18839" y="11217"/>
                  <a:pt x="18777" y="11137"/>
                </a:cubicBezTo>
                <a:cubicBezTo>
                  <a:pt x="18708" y="11048"/>
                  <a:pt x="18668" y="10983"/>
                  <a:pt x="18554" y="10939"/>
                </a:cubicBezTo>
                <a:cubicBezTo>
                  <a:pt x="18508" y="10921"/>
                  <a:pt x="18407" y="10899"/>
                  <a:pt x="18355" y="10914"/>
                </a:cubicBezTo>
                <a:cubicBezTo>
                  <a:pt x="18318" y="10925"/>
                  <a:pt x="18274" y="10953"/>
                  <a:pt x="18231" y="1096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Ink 6"/>
          <p:cNvSpPr/>
          <p:nvPr/>
        </p:nvSpPr>
        <p:spPr>
          <a:xfrm>
            <a:off x="1133640" y="4626000"/>
            <a:ext cx="4340160" cy="803160"/>
          </a:xfrm>
          <a:custGeom>
            <a:avLst/>
            <a:gdLst/>
            <a:ahLst/>
            <a:rect l="l" t="t" r="r" b="b"/>
            <a:pathLst>
              <a:path w="12056" h="2233">
                <a:moveTo>
                  <a:pt x="3150" y="13271"/>
                </a:moveTo>
                <a:cubicBezTo>
                  <a:pt x="3234" y="13262"/>
                  <a:pt x="3257" y="13267"/>
                  <a:pt x="3349" y="13271"/>
                </a:cubicBezTo>
                <a:cubicBezTo>
                  <a:pt x="3421" y="13274"/>
                  <a:pt x="3506" y="13268"/>
                  <a:pt x="3572" y="13295"/>
                </a:cubicBezTo>
                <a:cubicBezTo>
                  <a:pt x="3608" y="13310"/>
                  <a:pt x="3674" y="13359"/>
                  <a:pt x="3696" y="13395"/>
                </a:cubicBezTo>
                <a:cubicBezTo>
                  <a:pt x="3734" y="13457"/>
                  <a:pt x="3741" y="13597"/>
                  <a:pt x="3746" y="13667"/>
                </a:cubicBezTo>
                <a:cubicBezTo>
                  <a:pt x="3754" y="13777"/>
                  <a:pt x="3757" y="13883"/>
                  <a:pt x="3770" y="13990"/>
                </a:cubicBezTo>
                <a:cubicBezTo>
                  <a:pt x="3785" y="14119"/>
                  <a:pt x="3821" y="14235"/>
                  <a:pt x="3845" y="14362"/>
                </a:cubicBezTo>
                <a:cubicBezTo>
                  <a:pt x="3864" y="14462"/>
                  <a:pt x="3873" y="14562"/>
                  <a:pt x="3894" y="14660"/>
                </a:cubicBezTo>
                <a:cubicBezTo>
                  <a:pt x="3918" y="14708"/>
                  <a:pt x="3927" y="14722"/>
                  <a:pt x="3919" y="14759"/>
                </a:cubicBezTo>
                <a:cubicBezTo>
                  <a:pt x="3911" y="14708"/>
                  <a:pt x="3895" y="14649"/>
                  <a:pt x="3894" y="14585"/>
                </a:cubicBezTo>
                <a:cubicBezTo>
                  <a:pt x="3891" y="14457"/>
                  <a:pt x="3913" y="14335"/>
                  <a:pt x="3919" y="14213"/>
                </a:cubicBezTo>
                <a:cubicBezTo>
                  <a:pt x="3927" y="14066"/>
                  <a:pt x="3939" y="13908"/>
                  <a:pt x="3944" y="13767"/>
                </a:cubicBezTo>
                <a:cubicBezTo>
                  <a:pt x="3952" y="13542"/>
                  <a:pt x="3933" y="13312"/>
                  <a:pt x="3919" y="13097"/>
                </a:cubicBezTo>
                <a:cubicBezTo>
                  <a:pt x="3913" y="13007"/>
                  <a:pt x="3907" y="12936"/>
                  <a:pt x="3894" y="12849"/>
                </a:cubicBezTo>
                <a:cubicBezTo>
                  <a:pt x="4012" y="12932"/>
                  <a:pt x="4069" y="12990"/>
                  <a:pt x="4217" y="13022"/>
                </a:cubicBezTo>
                <a:cubicBezTo>
                  <a:pt x="4332" y="13047"/>
                  <a:pt x="4448" y="13053"/>
                  <a:pt x="4564" y="13072"/>
                </a:cubicBezTo>
                <a:cubicBezTo>
                  <a:pt x="4746" y="13102"/>
                  <a:pt x="4927" y="13116"/>
                  <a:pt x="5110" y="13146"/>
                </a:cubicBezTo>
                <a:cubicBezTo>
                  <a:pt x="5333" y="13183"/>
                  <a:pt x="5554" y="13213"/>
                  <a:pt x="5779" y="13246"/>
                </a:cubicBezTo>
                <a:cubicBezTo>
                  <a:pt x="6046" y="13285"/>
                  <a:pt x="6308" y="13342"/>
                  <a:pt x="6573" y="13395"/>
                </a:cubicBezTo>
                <a:cubicBezTo>
                  <a:pt x="6887" y="13458"/>
                  <a:pt x="7201" y="13514"/>
                  <a:pt x="7516" y="13568"/>
                </a:cubicBezTo>
                <a:cubicBezTo>
                  <a:pt x="7698" y="13599"/>
                  <a:pt x="7878" y="13633"/>
                  <a:pt x="8062" y="13643"/>
                </a:cubicBezTo>
                <a:cubicBezTo>
                  <a:pt x="8169" y="13649"/>
                  <a:pt x="8338" y="13649"/>
                  <a:pt x="8434" y="13593"/>
                </a:cubicBezTo>
                <a:cubicBezTo>
                  <a:pt x="8499" y="13555"/>
                  <a:pt x="8500" y="13482"/>
                  <a:pt x="8533" y="13444"/>
                </a:cubicBezTo>
                <a:cubicBezTo>
                  <a:pt x="8468" y="13467"/>
                  <a:pt x="8441" y="13484"/>
                  <a:pt x="8359" y="13494"/>
                </a:cubicBezTo>
              </a:path>
              <a:path w="12056" h="2233">
                <a:moveTo>
                  <a:pt x="4415" y="13519"/>
                </a:moveTo>
                <a:cubicBezTo>
                  <a:pt x="4406" y="13598"/>
                  <a:pt x="4406" y="13689"/>
                  <a:pt x="4390" y="13767"/>
                </a:cubicBezTo>
                <a:cubicBezTo>
                  <a:pt x="4369" y="13871"/>
                  <a:pt x="4329" y="13984"/>
                  <a:pt x="4316" y="14089"/>
                </a:cubicBezTo>
                <a:cubicBezTo>
                  <a:pt x="4303" y="14199"/>
                  <a:pt x="4281" y="14304"/>
                  <a:pt x="4266" y="14412"/>
                </a:cubicBezTo>
                <a:cubicBezTo>
                  <a:pt x="4264" y="14428"/>
                  <a:pt x="4278" y="14601"/>
                  <a:pt x="4291" y="14585"/>
                </a:cubicBezTo>
                <a:cubicBezTo>
                  <a:pt x="4299" y="14560"/>
                  <a:pt x="4308" y="14536"/>
                  <a:pt x="4316" y="14511"/>
                </a:cubicBezTo>
              </a:path>
              <a:path w="12056" h="2233">
                <a:moveTo>
                  <a:pt x="4738" y="13667"/>
                </a:moveTo>
                <a:cubicBezTo>
                  <a:pt x="4722" y="13759"/>
                  <a:pt x="4711" y="13853"/>
                  <a:pt x="4688" y="13940"/>
                </a:cubicBezTo>
                <a:cubicBezTo>
                  <a:pt x="4663" y="14034"/>
                  <a:pt x="4663" y="14115"/>
                  <a:pt x="4663" y="14213"/>
                </a:cubicBezTo>
                <a:cubicBezTo>
                  <a:pt x="4663" y="14332"/>
                  <a:pt x="4706" y="14426"/>
                  <a:pt x="4787" y="14511"/>
                </a:cubicBezTo>
                <a:cubicBezTo>
                  <a:pt x="4840" y="14567"/>
                  <a:pt x="4905" y="14608"/>
                  <a:pt x="4986" y="14585"/>
                </a:cubicBezTo>
                <a:cubicBezTo>
                  <a:pt x="5076" y="14560"/>
                  <a:pt x="5146" y="14426"/>
                  <a:pt x="5159" y="14337"/>
                </a:cubicBezTo>
                <a:cubicBezTo>
                  <a:pt x="5178" y="14209"/>
                  <a:pt x="5170" y="14116"/>
                  <a:pt x="5159" y="13990"/>
                </a:cubicBezTo>
                <a:cubicBezTo>
                  <a:pt x="5148" y="13859"/>
                  <a:pt x="5098" y="13783"/>
                  <a:pt x="5035" y="13667"/>
                </a:cubicBezTo>
                <a:cubicBezTo>
                  <a:pt x="4998" y="13599"/>
                  <a:pt x="4943" y="13537"/>
                  <a:pt x="4862" y="13519"/>
                </a:cubicBezTo>
                <a:cubicBezTo>
                  <a:pt x="4807" y="13507"/>
                  <a:pt x="4726" y="13523"/>
                  <a:pt x="4688" y="13568"/>
                </a:cubicBezTo>
                <a:cubicBezTo>
                  <a:pt x="4648" y="13615"/>
                  <a:pt x="4599" y="13733"/>
                  <a:pt x="4589" y="13791"/>
                </a:cubicBezTo>
                <a:cubicBezTo>
                  <a:pt x="4578" y="13857"/>
                  <a:pt x="4579" y="13958"/>
                  <a:pt x="4614" y="14015"/>
                </a:cubicBezTo>
                <a:cubicBezTo>
                  <a:pt x="4622" y="14023"/>
                  <a:pt x="4630" y="14031"/>
                  <a:pt x="4638" y="14039"/>
                </a:cubicBezTo>
              </a:path>
              <a:path w="12056" h="2233">
                <a:moveTo>
                  <a:pt x="5383" y="13469"/>
                </a:moveTo>
                <a:cubicBezTo>
                  <a:pt x="5383" y="13486"/>
                  <a:pt x="5383" y="13502"/>
                  <a:pt x="5383" y="13519"/>
                </a:cubicBezTo>
                <a:cubicBezTo>
                  <a:pt x="5421" y="13488"/>
                  <a:pt x="5481" y="13431"/>
                  <a:pt x="5531" y="13419"/>
                </a:cubicBezTo>
                <a:cubicBezTo>
                  <a:pt x="5605" y="13402"/>
                  <a:pt x="5667" y="13480"/>
                  <a:pt x="5680" y="13543"/>
                </a:cubicBezTo>
                <a:cubicBezTo>
                  <a:pt x="5701" y="13648"/>
                  <a:pt x="5651" y="13700"/>
                  <a:pt x="5631" y="13791"/>
                </a:cubicBezTo>
                <a:cubicBezTo>
                  <a:pt x="5613" y="13874"/>
                  <a:pt x="5539" y="13971"/>
                  <a:pt x="5432" y="13940"/>
                </a:cubicBezTo>
                <a:cubicBezTo>
                  <a:pt x="5363" y="13920"/>
                  <a:pt x="5340" y="13871"/>
                  <a:pt x="5383" y="13816"/>
                </a:cubicBezTo>
                <a:cubicBezTo>
                  <a:pt x="5391" y="13808"/>
                  <a:pt x="5399" y="13799"/>
                  <a:pt x="5407" y="13791"/>
                </a:cubicBezTo>
                <a:cubicBezTo>
                  <a:pt x="5480" y="13833"/>
                  <a:pt x="5530" y="13879"/>
                  <a:pt x="5581" y="13940"/>
                </a:cubicBezTo>
                <a:cubicBezTo>
                  <a:pt x="5616" y="13982"/>
                  <a:pt x="5641" y="14025"/>
                  <a:pt x="5680" y="14064"/>
                </a:cubicBezTo>
              </a:path>
              <a:path w="12056" h="2233">
                <a:moveTo>
                  <a:pt x="6102" y="13767"/>
                </a:moveTo>
                <a:cubicBezTo>
                  <a:pt x="6125" y="13872"/>
                  <a:pt x="6127" y="13957"/>
                  <a:pt x="6127" y="14064"/>
                </a:cubicBezTo>
                <a:cubicBezTo>
                  <a:pt x="6127" y="14229"/>
                  <a:pt x="6127" y="14395"/>
                  <a:pt x="6127" y="14560"/>
                </a:cubicBezTo>
              </a:path>
              <a:path w="12056" h="2233">
                <a:moveTo>
                  <a:pt x="5978" y="14039"/>
                </a:moveTo>
                <a:cubicBezTo>
                  <a:pt x="6048" y="14048"/>
                  <a:pt x="6134" y="14070"/>
                  <a:pt x="6201" y="14089"/>
                </a:cubicBezTo>
                <a:cubicBezTo>
                  <a:pt x="6275" y="14110"/>
                  <a:pt x="6294" y="14132"/>
                  <a:pt x="6375" y="14139"/>
                </a:cubicBezTo>
              </a:path>
              <a:path w="12056" h="2233">
                <a:moveTo>
                  <a:pt x="6747" y="13618"/>
                </a:moveTo>
                <a:cubicBezTo>
                  <a:pt x="6875" y="13624"/>
                  <a:pt x="6971" y="13643"/>
                  <a:pt x="7094" y="13643"/>
                </a:cubicBezTo>
              </a:path>
              <a:path w="12056" h="2233">
                <a:moveTo>
                  <a:pt x="6722" y="13643"/>
                </a:moveTo>
                <a:cubicBezTo>
                  <a:pt x="6682" y="13716"/>
                  <a:pt x="6584" y="13841"/>
                  <a:pt x="6623" y="13940"/>
                </a:cubicBezTo>
                <a:cubicBezTo>
                  <a:pt x="6631" y="13948"/>
                  <a:pt x="6640" y="13957"/>
                  <a:pt x="6648" y="13965"/>
                </a:cubicBezTo>
                <a:cubicBezTo>
                  <a:pt x="6705" y="13943"/>
                  <a:pt x="6771" y="13939"/>
                  <a:pt x="6821" y="13915"/>
                </a:cubicBezTo>
                <a:cubicBezTo>
                  <a:pt x="6876" y="13888"/>
                  <a:pt x="6920" y="13920"/>
                  <a:pt x="6970" y="13965"/>
                </a:cubicBezTo>
                <a:cubicBezTo>
                  <a:pt x="7002" y="13994"/>
                  <a:pt x="7036" y="14117"/>
                  <a:pt x="7045" y="14163"/>
                </a:cubicBezTo>
                <a:cubicBezTo>
                  <a:pt x="7071" y="14299"/>
                  <a:pt x="7053" y="14480"/>
                  <a:pt x="7020" y="14610"/>
                </a:cubicBezTo>
                <a:cubicBezTo>
                  <a:pt x="6998" y="14699"/>
                  <a:pt x="6948" y="14799"/>
                  <a:pt x="6871" y="14858"/>
                </a:cubicBezTo>
                <a:cubicBezTo>
                  <a:pt x="6822" y="14895"/>
                  <a:pt x="6761" y="14926"/>
                  <a:pt x="6697" y="14908"/>
                </a:cubicBezTo>
                <a:cubicBezTo>
                  <a:pt x="6611" y="14884"/>
                  <a:pt x="6623" y="14832"/>
                  <a:pt x="6623" y="14759"/>
                </a:cubicBezTo>
              </a:path>
              <a:path w="12056" h="2233">
                <a:moveTo>
                  <a:pt x="7367" y="13791"/>
                </a:moveTo>
                <a:cubicBezTo>
                  <a:pt x="7428" y="13821"/>
                  <a:pt x="7420" y="13769"/>
                  <a:pt x="7466" y="13717"/>
                </a:cubicBezTo>
                <a:cubicBezTo>
                  <a:pt x="7487" y="13694"/>
                  <a:pt x="7564" y="13616"/>
                  <a:pt x="7590" y="13618"/>
                </a:cubicBezTo>
                <a:cubicBezTo>
                  <a:pt x="7674" y="13624"/>
                  <a:pt x="7680" y="13734"/>
                  <a:pt x="7689" y="13791"/>
                </a:cubicBezTo>
                <a:cubicBezTo>
                  <a:pt x="7699" y="13859"/>
                  <a:pt x="7667" y="13955"/>
                  <a:pt x="7640" y="14015"/>
                </a:cubicBezTo>
                <a:cubicBezTo>
                  <a:pt x="7616" y="14068"/>
                  <a:pt x="7574" y="14146"/>
                  <a:pt x="7516" y="14163"/>
                </a:cubicBezTo>
                <a:cubicBezTo>
                  <a:pt x="7464" y="14163"/>
                  <a:pt x="7446" y="14162"/>
                  <a:pt x="7417" y="14139"/>
                </a:cubicBezTo>
                <a:cubicBezTo>
                  <a:pt x="7428" y="14057"/>
                  <a:pt x="7437" y="14038"/>
                  <a:pt x="7516" y="14064"/>
                </a:cubicBezTo>
                <a:cubicBezTo>
                  <a:pt x="7594" y="14089"/>
                  <a:pt x="7644" y="14126"/>
                  <a:pt x="7714" y="14163"/>
                </a:cubicBezTo>
                <a:cubicBezTo>
                  <a:pt x="7731" y="14171"/>
                  <a:pt x="7747" y="14180"/>
                  <a:pt x="7764" y="14188"/>
                </a:cubicBezTo>
              </a:path>
              <a:path w="12056" h="2233">
                <a:moveTo>
                  <a:pt x="8533" y="14139"/>
                </a:moveTo>
                <a:cubicBezTo>
                  <a:pt x="8657" y="14156"/>
                  <a:pt x="8664" y="14164"/>
                  <a:pt x="8731" y="14163"/>
                </a:cubicBezTo>
              </a:path>
              <a:path w="12056" h="2233">
                <a:moveTo>
                  <a:pt x="8384" y="14263"/>
                </a:moveTo>
                <a:cubicBezTo>
                  <a:pt x="8455" y="14334"/>
                  <a:pt x="8495" y="14368"/>
                  <a:pt x="8582" y="14412"/>
                </a:cubicBezTo>
              </a:path>
              <a:path w="12056" h="2233">
                <a:moveTo>
                  <a:pt x="9475" y="13866"/>
                </a:moveTo>
                <a:cubicBezTo>
                  <a:pt x="9475" y="13977"/>
                  <a:pt x="9491" y="14079"/>
                  <a:pt x="9500" y="14188"/>
                </a:cubicBezTo>
                <a:cubicBezTo>
                  <a:pt x="9521" y="14435"/>
                  <a:pt x="9542" y="14769"/>
                  <a:pt x="9475" y="15007"/>
                </a:cubicBezTo>
                <a:cubicBezTo>
                  <a:pt x="9475" y="15051"/>
                  <a:pt x="9478" y="15064"/>
                  <a:pt x="9451" y="15081"/>
                </a:cubicBezTo>
                <a:cubicBezTo>
                  <a:pt x="9458" y="14987"/>
                  <a:pt x="9491" y="14902"/>
                  <a:pt x="9500" y="14808"/>
                </a:cubicBezTo>
                <a:cubicBezTo>
                  <a:pt x="9512" y="14683"/>
                  <a:pt x="9539" y="14560"/>
                  <a:pt x="9550" y="14436"/>
                </a:cubicBezTo>
                <a:cubicBezTo>
                  <a:pt x="9565" y="14263"/>
                  <a:pt x="9599" y="14088"/>
                  <a:pt x="9624" y="13915"/>
                </a:cubicBezTo>
                <a:cubicBezTo>
                  <a:pt x="9634" y="13848"/>
                  <a:pt x="9653" y="13757"/>
                  <a:pt x="9674" y="13692"/>
                </a:cubicBezTo>
                <a:cubicBezTo>
                  <a:pt x="9706" y="13592"/>
                  <a:pt x="9734" y="13523"/>
                  <a:pt x="9847" y="13494"/>
                </a:cubicBezTo>
                <a:cubicBezTo>
                  <a:pt x="9957" y="13466"/>
                  <a:pt x="10089" y="13510"/>
                  <a:pt x="10195" y="13519"/>
                </a:cubicBezTo>
                <a:cubicBezTo>
                  <a:pt x="10342" y="13532"/>
                  <a:pt x="10494" y="13540"/>
                  <a:pt x="10641" y="13543"/>
                </a:cubicBezTo>
                <a:cubicBezTo>
                  <a:pt x="10923" y="13549"/>
                  <a:pt x="11209" y="13548"/>
                  <a:pt x="11485" y="13519"/>
                </a:cubicBezTo>
                <a:cubicBezTo>
                  <a:pt x="11571" y="13510"/>
                  <a:pt x="11657" y="13454"/>
                  <a:pt x="11733" y="13494"/>
                </a:cubicBezTo>
                <a:cubicBezTo>
                  <a:pt x="11800" y="13529"/>
                  <a:pt x="11721" y="13534"/>
                  <a:pt x="11708" y="13543"/>
                </a:cubicBezTo>
              </a:path>
              <a:path w="12056" h="2233">
                <a:moveTo>
                  <a:pt x="10344" y="13915"/>
                </a:moveTo>
                <a:cubicBezTo>
                  <a:pt x="10337" y="13991"/>
                  <a:pt x="10337" y="14089"/>
                  <a:pt x="10319" y="14163"/>
                </a:cubicBezTo>
                <a:cubicBezTo>
                  <a:pt x="10296" y="14258"/>
                  <a:pt x="10257" y="14361"/>
                  <a:pt x="10244" y="14461"/>
                </a:cubicBezTo>
                <a:cubicBezTo>
                  <a:pt x="10232" y="14549"/>
                  <a:pt x="10222" y="14649"/>
                  <a:pt x="10195" y="14734"/>
                </a:cubicBezTo>
                <a:cubicBezTo>
                  <a:pt x="10192" y="14743"/>
                  <a:pt x="10170" y="14879"/>
                  <a:pt x="10170" y="14808"/>
                </a:cubicBezTo>
              </a:path>
              <a:path w="12056" h="2233">
                <a:moveTo>
                  <a:pt x="10666" y="13990"/>
                </a:moveTo>
                <a:cubicBezTo>
                  <a:pt x="10783" y="14001"/>
                  <a:pt x="10844" y="14032"/>
                  <a:pt x="10864" y="14163"/>
                </a:cubicBezTo>
                <a:cubicBezTo>
                  <a:pt x="10878" y="14260"/>
                  <a:pt x="10867" y="14369"/>
                  <a:pt x="10840" y="14461"/>
                </a:cubicBezTo>
                <a:cubicBezTo>
                  <a:pt x="10815" y="14545"/>
                  <a:pt x="10767" y="14634"/>
                  <a:pt x="10691" y="14684"/>
                </a:cubicBezTo>
                <a:cubicBezTo>
                  <a:pt x="10625" y="14727"/>
                  <a:pt x="10581" y="14747"/>
                  <a:pt x="10517" y="14709"/>
                </a:cubicBezTo>
                <a:cubicBezTo>
                  <a:pt x="10526" y="14637"/>
                  <a:pt x="10541" y="14611"/>
                  <a:pt x="10592" y="14560"/>
                </a:cubicBezTo>
                <a:cubicBezTo>
                  <a:pt x="10644" y="14508"/>
                  <a:pt x="10669" y="14493"/>
                  <a:pt x="10740" y="14536"/>
                </a:cubicBezTo>
                <a:cubicBezTo>
                  <a:pt x="10787" y="14564"/>
                  <a:pt x="10857" y="14618"/>
                  <a:pt x="10889" y="14660"/>
                </a:cubicBezTo>
                <a:cubicBezTo>
                  <a:pt x="10940" y="14727"/>
                  <a:pt x="10976" y="14781"/>
                  <a:pt x="11038" y="14833"/>
                </a:cubicBezTo>
                <a:cubicBezTo>
                  <a:pt x="11085" y="14872"/>
                  <a:pt x="11062" y="14884"/>
                  <a:pt x="11112" y="14858"/>
                </a:cubicBezTo>
              </a:path>
              <a:path w="12056" h="2233">
                <a:moveTo>
                  <a:pt x="11237" y="13891"/>
                </a:moveTo>
                <a:cubicBezTo>
                  <a:pt x="11348" y="13854"/>
                  <a:pt x="11444" y="13817"/>
                  <a:pt x="11559" y="13866"/>
                </a:cubicBezTo>
                <a:cubicBezTo>
                  <a:pt x="11587" y="13894"/>
                  <a:pt x="11600" y="13903"/>
                  <a:pt x="11633" y="13891"/>
                </a:cubicBezTo>
              </a:path>
              <a:path w="12056" h="2233">
                <a:moveTo>
                  <a:pt x="11286" y="13891"/>
                </a:moveTo>
                <a:cubicBezTo>
                  <a:pt x="11243" y="13965"/>
                  <a:pt x="11186" y="14046"/>
                  <a:pt x="11212" y="14139"/>
                </a:cubicBezTo>
                <a:cubicBezTo>
                  <a:pt x="11242" y="14247"/>
                  <a:pt x="11315" y="14200"/>
                  <a:pt x="11385" y="14188"/>
                </a:cubicBezTo>
                <a:cubicBezTo>
                  <a:pt x="11450" y="14177"/>
                  <a:pt x="11561" y="14189"/>
                  <a:pt x="11609" y="14238"/>
                </a:cubicBezTo>
                <a:cubicBezTo>
                  <a:pt x="11673" y="14303"/>
                  <a:pt x="11680" y="14428"/>
                  <a:pt x="11683" y="14511"/>
                </a:cubicBezTo>
                <a:cubicBezTo>
                  <a:pt x="11687" y="14620"/>
                  <a:pt x="11674" y="14706"/>
                  <a:pt x="11633" y="14808"/>
                </a:cubicBezTo>
                <a:cubicBezTo>
                  <a:pt x="11593" y="14908"/>
                  <a:pt x="11574" y="14937"/>
                  <a:pt x="11460" y="14957"/>
                </a:cubicBezTo>
                <a:cubicBezTo>
                  <a:pt x="11391" y="14969"/>
                  <a:pt x="11340" y="14948"/>
                  <a:pt x="11286" y="14908"/>
                </a:cubicBezTo>
                <a:cubicBezTo>
                  <a:pt x="11218" y="14858"/>
                  <a:pt x="11198" y="14845"/>
                  <a:pt x="11187" y="14759"/>
                </a:cubicBezTo>
              </a:path>
              <a:path w="12056" h="2233">
                <a:moveTo>
                  <a:pt x="12204" y="14238"/>
                </a:moveTo>
                <a:cubicBezTo>
                  <a:pt x="12278" y="14238"/>
                  <a:pt x="12287" y="14238"/>
                  <a:pt x="12328" y="14238"/>
                </a:cubicBezTo>
              </a:path>
              <a:path w="12056" h="2233">
                <a:moveTo>
                  <a:pt x="12129" y="14362"/>
                </a:moveTo>
                <a:cubicBezTo>
                  <a:pt x="12195" y="14387"/>
                  <a:pt x="12262" y="14411"/>
                  <a:pt x="12328" y="14436"/>
                </a:cubicBezTo>
              </a:path>
              <a:path w="12056" h="2233">
                <a:moveTo>
                  <a:pt x="13022" y="13667"/>
                </a:moveTo>
                <a:cubicBezTo>
                  <a:pt x="13111" y="13683"/>
                  <a:pt x="13214" y="13681"/>
                  <a:pt x="13295" y="13717"/>
                </a:cubicBezTo>
                <a:cubicBezTo>
                  <a:pt x="13336" y="13737"/>
                  <a:pt x="13342" y="13746"/>
                  <a:pt x="13370" y="13742"/>
                </a:cubicBezTo>
              </a:path>
              <a:path w="12056" h="2233">
                <a:moveTo>
                  <a:pt x="12998" y="13767"/>
                </a:moveTo>
                <a:cubicBezTo>
                  <a:pt x="12950" y="13834"/>
                  <a:pt x="12909" y="13866"/>
                  <a:pt x="12898" y="13940"/>
                </a:cubicBezTo>
                <a:cubicBezTo>
                  <a:pt x="12963" y="13979"/>
                  <a:pt x="13045" y="13965"/>
                  <a:pt x="13122" y="13990"/>
                </a:cubicBezTo>
                <a:cubicBezTo>
                  <a:pt x="13212" y="14019"/>
                  <a:pt x="13249" y="14056"/>
                  <a:pt x="13295" y="14139"/>
                </a:cubicBezTo>
                <a:cubicBezTo>
                  <a:pt x="13343" y="14225"/>
                  <a:pt x="13366" y="14315"/>
                  <a:pt x="13370" y="14412"/>
                </a:cubicBezTo>
                <a:cubicBezTo>
                  <a:pt x="13374" y="14513"/>
                  <a:pt x="13332" y="14616"/>
                  <a:pt x="13295" y="14709"/>
                </a:cubicBezTo>
                <a:cubicBezTo>
                  <a:pt x="13260" y="14796"/>
                  <a:pt x="13181" y="14804"/>
                  <a:pt x="13097" y="14808"/>
                </a:cubicBezTo>
                <a:cubicBezTo>
                  <a:pt x="13023" y="14811"/>
                  <a:pt x="12998" y="14759"/>
                  <a:pt x="12948" y="14709"/>
                </a:cubicBezTo>
                <a:cubicBezTo>
                  <a:pt x="12893" y="14654"/>
                  <a:pt x="12898" y="14611"/>
                  <a:pt x="12898" y="14536"/>
                </a:cubicBezTo>
              </a:path>
              <a:path w="12056" h="2233">
                <a:moveTo>
                  <a:pt x="13742" y="14163"/>
                </a:moveTo>
                <a:cubicBezTo>
                  <a:pt x="13765" y="14268"/>
                  <a:pt x="13767" y="14353"/>
                  <a:pt x="13767" y="14461"/>
                </a:cubicBezTo>
                <a:cubicBezTo>
                  <a:pt x="13767" y="14547"/>
                  <a:pt x="13761" y="14675"/>
                  <a:pt x="13742" y="14759"/>
                </a:cubicBezTo>
                <a:cubicBezTo>
                  <a:pt x="13718" y="14807"/>
                  <a:pt x="13709" y="14821"/>
                  <a:pt x="13717" y="14858"/>
                </a:cubicBezTo>
                <a:cubicBezTo>
                  <a:pt x="13774" y="14972"/>
                  <a:pt x="13732" y="14736"/>
                  <a:pt x="13742" y="14684"/>
                </a:cubicBezTo>
                <a:cubicBezTo>
                  <a:pt x="13790" y="14437"/>
                  <a:pt x="13791" y="14218"/>
                  <a:pt x="13791" y="13965"/>
                </a:cubicBezTo>
                <a:cubicBezTo>
                  <a:pt x="13791" y="13888"/>
                  <a:pt x="13798" y="13768"/>
                  <a:pt x="13816" y="13692"/>
                </a:cubicBezTo>
                <a:cubicBezTo>
                  <a:pt x="13829" y="13638"/>
                  <a:pt x="13865" y="13624"/>
                  <a:pt x="13915" y="13618"/>
                </a:cubicBezTo>
                <a:cubicBezTo>
                  <a:pt x="13994" y="13609"/>
                  <a:pt x="14080" y="13643"/>
                  <a:pt x="14163" y="13643"/>
                </a:cubicBezTo>
                <a:cubicBezTo>
                  <a:pt x="14246" y="13643"/>
                  <a:pt x="14323" y="13618"/>
                  <a:pt x="14412" y="13618"/>
                </a:cubicBezTo>
                <a:cubicBezTo>
                  <a:pt x="14513" y="13618"/>
                  <a:pt x="14605" y="13643"/>
                  <a:pt x="14709" y="13643"/>
                </a:cubicBezTo>
                <a:cubicBezTo>
                  <a:pt x="14847" y="13643"/>
                  <a:pt x="14976" y="13646"/>
                  <a:pt x="15106" y="13667"/>
                </a:cubicBezTo>
                <a:cubicBezTo>
                  <a:pt x="15157" y="13675"/>
                  <a:pt x="15191" y="13648"/>
                  <a:pt x="15205" y="13643"/>
                </a:cubicBezTo>
              </a:path>
              <a:path w="12056" h="2233">
                <a:moveTo>
                  <a:pt x="14238" y="13891"/>
                </a:moveTo>
                <a:cubicBezTo>
                  <a:pt x="14395" y="13891"/>
                  <a:pt x="14552" y="13891"/>
                  <a:pt x="14709" y="13891"/>
                </a:cubicBezTo>
              </a:path>
              <a:path w="12056" h="2233">
                <a:moveTo>
                  <a:pt x="14362" y="13866"/>
                </a:moveTo>
                <a:cubicBezTo>
                  <a:pt x="14327" y="13901"/>
                  <a:pt x="14228" y="13985"/>
                  <a:pt x="14213" y="14039"/>
                </a:cubicBezTo>
                <a:cubicBezTo>
                  <a:pt x="14195" y="14108"/>
                  <a:pt x="14259" y="14157"/>
                  <a:pt x="14312" y="14163"/>
                </a:cubicBezTo>
                <a:cubicBezTo>
                  <a:pt x="14394" y="14173"/>
                  <a:pt x="14429" y="14113"/>
                  <a:pt x="14511" y="14163"/>
                </a:cubicBezTo>
                <a:cubicBezTo>
                  <a:pt x="14591" y="14212"/>
                  <a:pt x="14598" y="14252"/>
                  <a:pt x="14635" y="14337"/>
                </a:cubicBezTo>
                <a:cubicBezTo>
                  <a:pt x="14681" y="14443"/>
                  <a:pt x="14752" y="14591"/>
                  <a:pt x="14734" y="14709"/>
                </a:cubicBezTo>
                <a:cubicBezTo>
                  <a:pt x="14721" y="14798"/>
                  <a:pt x="14702" y="14881"/>
                  <a:pt x="14660" y="14957"/>
                </a:cubicBezTo>
                <a:cubicBezTo>
                  <a:pt x="14617" y="15034"/>
                  <a:pt x="14535" y="15061"/>
                  <a:pt x="14461" y="15007"/>
                </a:cubicBezTo>
                <a:cubicBezTo>
                  <a:pt x="14419" y="14977"/>
                  <a:pt x="14349" y="14908"/>
                  <a:pt x="14337" y="14858"/>
                </a:cubicBezTo>
                <a:cubicBezTo>
                  <a:pt x="14337" y="14813"/>
                  <a:pt x="14340" y="14793"/>
                  <a:pt x="14312" y="1483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Ink 7"/>
          <p:cNvSpPr/>
          <p:nvPr/>
        </p:nvSpPr>
        <p:spPr>
          <a:xfrm>
            <a:off x="1152360" y="2955960"/>
            <a:ext cx="1589400" cy="98280"/>
          </a:xfrm>
          <a:custGeom>
            <a:avLst/>
            <a:gdLst/>
            <a:ahLst/>
            <a:rect l="l" t="t" r="r" b="b"/>
            <a:pathLst>
              <a:path w="4416" h="274">
                <a:moveTo>
                  <a:pt x="3200" y="8483"/>
                </a:moveTo>
                <a:cubicBezTo>
                  <a:pt x="3327" y="8483"/>
                  <a:pt x="3410" y="8455"/>
                  <a:pt x="3522" y="8434"/>
                </a:cubicBezTo>
                <a:cubicBezTo>
                  <a:pt x="3651" y="8410"/>
                  <a:pt x="3813" y="8412"/>
                  <a:pt x="3944" y="8409"/>
                </a:cubicBezTo>
                <a:cubicBezTo>
                  <a:pt x="4144" y="8404"/>
                  <a:pt x="4322" y="8381"/>
                  <a:pt x="4514" y="8359"/>
                </a:cubicBezTo>
                <a:cubicBezTo>
                  <a:pt x="4730" y="8335"/>
                  <a:pt x="4966" y="8345"/>
                  <a:pt x="5184" y="8334"/>
                </a:cubicBezTo>
                <a:cubicBezTo>
                  <a:pt x="5736" y="8305"/>
                  <a:pt x="6296" y="8341"/>
                  <a:pt x="6846" y="8310"/>
                </a:cubicBezTo>
                <a:cubicBezTo>
                  <a:pt x="6985" y="8302"/>
                  <a:pt x="7112" y="8276"/>
                  <a:pt x="7243" y="8260"/>
                </a:cubicBezTo>
                <a:cubicBezTo>
                  <a:pt x="7349" y="8247"/>
                  <a:pt x="7436" y="8265"/>
                  <a:pt x="7541" y="8235"/>
                </a:cubicBezTo>
                <a:cubicBezTo>
                  <a:pt x="7638" y="8207"/>
                  <a:pt x="7600" y="8203"/>
                  <a:pt x="7565" y="826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nk 8"/>
          <p:cNvSpPr/>
          <p:nvPr/>
        </p:nvSpPr>
        <p:spPr>
          <a:xfrm>
            <a:off x="2820960" y="384120"/>
            <a:ext cx="1974960" cy="822240"/>
          </a:xfrm>
          <a:custGeom>
            <a:avLst/>
            <a:gdLst/>
            <a:ahLst/>
            <a:rect l="l" t="t" r="r" b="b"/>
            <a:pathLst>
              <a:path w="5483" h="2283">
                <a:moveTo>
                  <a:pt x="7838" y="2232"/>
                </a:moveTo>
                <a:cubicBezTo>
                  <a:pt x="7909" y="2193"/>
                  <a:pt x="7952" y="2148"/>
                  <a:pt x="8037" y="2133"/>
                </a:cubicBezTo>
                <a:cubicBezTo>
                  <a:pt x="8159" y="2111"/>
                  <a:pt x="8327" y="2148"/>
                  <a:pt x="8434" y="2208"/>
                </a:cubicBezTo>
                <a:cubicBezTo>
                  <a:pt x="8547" y="2271"/>
                  <a:pt x="8615" y="2339"/>
                  <a:pt x="8682" y="2456"/>
                </a:cubicBezTo>
                <a:cubicBezTo>
                  <a:pt x="8798" y="2658"/>
                  <a:pt x="8789" y="2907"/>
                  <a:pt x="8756" y="3125"/>
                </a:cubicBezTo>
                <a:cubicBezTo>
                  <a:pt x="8744" y="3202"/>
                  <a:pt x="8719" y="3273"/>
                  <a:pt x="8706" y="3349"/>
                </a:cubicBezTo>
                <a:cubicBezTo>
                  <a:pt x="8697" y="3268"/>
                  <a:pt x="8683" y="3189"/>
                  <a:pt x="8682" y="3101"/>
                </a:cubicBezTo>
                <a:cubicBezTo>
                  <a:pt x="8674" y="2614"/>
                  <a:pt x="8687" y="2115"/>
                  <a:pt x="8657" y="1637"/>
                </a:cubicBezTo>
                <a:cubicBezTo>
                  <a:pt x="8652" y="1555"/>
                  <a:pt x="8641" y="1492"/>
                  <a:pt x="8632" y="1414"/>
                </a:cubicBezTo>
                <a:cubicBezTo>
                  <a:pt x="8632" y="1397"/>
                  <a:pt x="8632" y="1381"/>
                  <a:pt x="8632" y="1364"/>
                </a:cubicBezTo>
                <a:cubicBezTo>
                  <a:pt x="8704" y="1353"/>
                  <a:pt x="8781" y="1321"/>
                  <a:pt x="8855" y="1315"/>
                </a:cubicBezTo>
                <a:cubicBezTo>
                  <a:pt x="8965" y="1307"/>
                  <a:pt x="9070" y="1307"/>
                  <a:pt x="9178" y="1290"/>
                </a:cubicBezTo>
                <a:cubicBezTo>
                  <a:pt x="9340" y="1265"/>
                  <a:pt x="9511" y="1227"/>
                  <a:pt x="9674" y="1215"/>
                </a:cubicBezTo>
                <a:cubicBezTo>
                  <a:pt x="9938" y="1196"/>
                  <a:pt x="10204" y="1157"/>
                  <a:pt x="10468" y="1141"/>
                </a:cubicBezTo>
                <a:cubicBezTo>
                  <a:pt x="10715" y="1126"/>
                  <a:pt x="10965" y="1134"/>
                  <a:pt x="11212" y="1116"/>
                </a:cubicBezTo>
                <a:cubicBezTo>
                  <a:pt x="11752" y="1077"/>
                  <a:pt x="12283" y="1067"/>
                  <a:pt x="12824" y="1067"/>
                </a:cubicBezTo>
                <a:cubicBezTo>
                  <a:pt x="12959" y="1067"/>
                  <a:pt x="13255" y="1083"/>
                  <a:pt x="13295" y="109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Ink 9"/>
          <p:cNvSpPr/>
          <p:nvPr/>
        </p:nvSpPr>
        <p:spPr>
          <a:xfrm>
            <a:off x="3187800" y="500040"/>
            <a:ext cx="1563480" cy="758880"/>
          </a:xfrm>
          <a:custGeom>
            <a:avLst/>
            <a:gdLst/>
            <a:ahLst/>
            <a:rect l="l" t="t" r="r" b="b"/>
            <a:pathLst>
              <a:path w="4342" h="2109">
                <a:moveTo>
                  <a:pt x="9277" y="2133"/>
                </a:moveTo>
                <a:cubicBezTo>
                  <a:pt x="9277" y="2267"/>
                  <a:pt x="9296" y="2059"/>
                  <a:pt x="9302" y="2034"/>
                </a:cubicBezTo>
                <a:cubicBezTo>
                  <a:pt x="9327" y="1925"/>
                  <a:pt x="9348" y="1900"/>
                  <a:pt x="9426" y="1836"/>
                </a:cubicBezTo>
                <a:cubicBezTo>
                  <a:pt x="9481" y="1790"/>
                  <a:pt x="9504" y="1759"/>
                  <a:pt x="9575" y="1811"/>
                </a:cubicBezTo>
                <a:cubicBezTo>
                  <a:pt x="9660" y="1874"/>
                  <a:pt x="9669" y="2013"/>
                  <a:pt x="9674" y="2108"/>
                </a:cubicBezTo>
                <a:cubicBezTo>
                  <a:pt x="9683" y="2256"/>
                  <a:pt x="9659" y="2387"/>
                  <a:pt x="9624" y="2530"/>
                </a:cubicBezTo>
                <a:cubicBezTo>
                  <a:pt x="9586" y="2684"/>
                  <a:pt x="9517" y="2780"/>
                  <a:pt x="9426" y="2902"/>
                </a:cubicBezTo>
                <a:cubicBezTo>
                  <a:pt x="9372" y="2974"/>
                  <a:pt x="9324" y="3054"/>
                  <a:pt x="9227" y="3076"/>
                </a:cubicBezTo>
                <a:cubicBezTo>
                  <a:pt x="9127" y="3099"/>
                  <a:pt x="9106" y="3026"/>
                  <a:pt x="9103" y="2952"/>
                </a:cubicBezTo>
                <a:cubicBezTo>
                  <a:pt x="9100" y="2882"/>
                  <a:pt x="9126" y="2785"/>
                  <a:pt x="9203" y="2753"/>
                </a:cubicBezTo>
                <a:cubicBezTo>
                  <a:pt x="9257" y="2730"/>
                  <a:pt x="9320" y="2719"/>
                  <a:pt x="9376" y="2753"/>
                </a:cubicBezTo>
                <a:cubicBezTo>
                  <a:pt x="9405" y="2771"/>
                  <a:pt x="9489" y="2815"/>
                  <a:pt x="9500" y="2853"/>
                </a:cubicBezTo>
                <a:cubicBezTo>
                  <a:pt x="9517" y="2911"/>
                  <a:pt x="9545" y="2953"/>
                  <a:pt x="9525" y="3001"/>
                </a:cubicBezTo>
              </a:path>
              <a:path w="4342" h="2109">
                <a:moveTo>
                  <a:pt x="9947" y="2456"/>
                </a:moveTo>
                <a:cubicBezTo>
                  <a:pt x="9955" y="2448"/>
                  <a:pt x="9963" y="2439"/>
                  <a:pt x="9971" y="2431"/>
                </a:cubicBezTo>
              </a:path>
              <a:path w="4342" h="2109">
                <a:moveTo>
                  <a:pt x="10145" y="1960"/>
                </a:moveTo>
                <a:cubicBezTo>
                  <a:pt x="10243" y="1856"/>
                  <a:pt x="10295" y="1761"/>
                  <a:pt x="10443" y="1811"/>
                </a:cubicBezTo>
                <a:cubicBezTo>
                  <a:pt x="10573" y="1855"/>
                  <a:pt x="10594" y="1945"/>
                  <a:pt x="10616" y="2084"/>
                </a:cubicBezTo>
                <a:cubicBezTo>
                  <a:pt x="10636" y="2209"/>
                  <a:pt x="10619" y="2358"/>
                  <a:pt x="10592" y="2480"/>
                </a:cubicBezTo>
                <a:cubicBezTo>
                  <a:pt x="10564" y="2606"/>
                  <a:pt x="10489" y="2697"/>
                  <a:pt x="10418" y="2803"/>
                </a:cubicBezTo>
                <a:cubicBezTo>
                  <a:pt x="10372" y="2871"/>
                  <a:pt x="10306" y="2978"/>
                  <a:pt x="10220" y="3001"/>
                </a:cubicBezTo>
                <a:cubicBezTo>
                  <a:pt x="10118" y="3029"/>
                  <a:pt x="10100" y="2990"/>
                  <a:pt x="10096" y="2902"/>
                </a:cubicBezTo>
                <a:cubicBezTo>
                  <a:pt x="10091" y="2796"/>
                  <a:pt x="10148" y="2803"/>
                  <a:pt x="10220" y="2753"/>
                </a:cubicBezTo>
                <a:cubicBezTo>
                  <a:pt x="10275" y="2715"/>
                  <a:pt x="10357" y="2716"/>
                  <a:pt x="10418" y="2753"/>
                </a:cubicBezTo>
                <a:cubicBezTo>
                  <a:pt x="10475" y="2788"/>
                  <a:pt x="10498" y="2830"/>
                  <a:pt x="10542" y="2877"/>
                </a:cubicBezTo>
                <a:cubicBezTo>
                  <a:pt x="10607" y="2946"/>
                  <a:pt x="10607" y="2938"/>
                  <a:pt x="10616" y="3026"/>
                </a:cubicBezTo>
              </a:path>
              <a:path w="4342" h="2109">
                <a:moveTo>
                  <a:pt x="10988" y="2456"/>
                </a:moveTo>
                <a:lnTo>
                  <a:pt x="10988" y="2456"/>
                </a:lnTo>
              </a:path>
              <a:path w="4342" h="2109">
                <a:moveTo>
                  <a:pt x="11261" y="1761"/>
                </a:moveTo>
                <a:cubicBezTo>
                  <a:pt x="11399" y="1700"/>
                  <a:pt x="11481" y="1618"/>
                  <a:pt x="11609" y="1687"/>
                </a:cubicBezTo>
                <a:cubicBezTo>
                  <a:pt x="11678" y="1724"/>
                  <a:pt x="11702" y="1752"/>
                  <a:pt x="11683" y="1836"/>
                </a:cubicBezTo>
                <a:cubicBezTo>
                  <a:pt x="11665" y="1919"/>
                  <a:pt x="11612" y="2019"/>
                  <a:pt x="11559" y="2084"/>
                </a:cubicBezTo>
                <a:cubicBezTo>
                  <a:pt x="11517" y="2135"/>
                  <a:pt x="11482" y="2186"/>
                  <a:pt x="11435" y="2232"/>
                </a:cubicBezTo>
                <a:cubicBezTo>
                  <a:pt x="11427" y="2240"/>
                  <a:pt x="11418" y="2249"/>
                  <a:pt x="11410" y="2257"/>
                </a:cubicBezTo>
                <a:cubicBezTo>
                  <a:pt x="11462" y="2222"/>
                  <a:pt x="11549" y="2171"/>
                  <a:pt x="11609" y="2232"/>
                </a:cubicBezTo>
                <a:cubicBezTo>
                  <a:pt x="11693" y="2317"/>
                  <a:pt x="11722" y="2468"/>
                  <a:pt x="11733" y="2580"/>
                </a:cubicBezTo>
                <a:cubicBezTo>
                  <a:pt x="11739" y="2641"/>
                  <a:pt x="11748" y="2732"/>
                  <a:pt x="11708" y="2778"/>
                </a:cubicBezTo>
                <a:cubicBezTo>
                  <a:pt x="11640" y="2856"/>
                  <a:pt x="11565" y="2911"/>
                  <a:pt x="11460" y="2927"/>
                </a:cubicBezTo>
                <a:cubicBezTo>
                  <a:pt x="11349" y="2943"/>
                  <a:pt x="11335" y="2943"/>
                  <a:pt x="11237" y="2902"/>
                </a:cubicBezTo>
              </a:path>
              <a:path w="4342" h="2109">
                <a:moveTo>
                  <a:pt x="12105" y="2406"/>
                </a:moveTo>
                <a:lnTo>
                  <a:pt x="12105" y="2406"/>
                </a:lnTo>
              </a:path>
              <a:path w="4342" h="2109">
                <a:moveTo>
                  <a:pt x="12427" y="1712"/>
                </a:moveTo>
                <a:cubicBezTo>
                  <a:pt x="12574" y="1705"/>
                  <a:pt x="12704" y="1676"/>
                  <a:pt x="12849" y="1662"/>
                </a:cubicBezTo>
                <a:cubicBezTo>
                  <a:pt x="12936" y="1653"/>
                  <a:pt x="13063" y="1662"/>
                  <a:pt x="13146" y="1637"/>
                </a:cubicBezTo>
                <a:cubicBezTo>
                  <a:pt x="13171" y="1612"/>
                  <a:pt x="13179" y="1604"/>
                  <a:pt x="13196" y="1637"/>
                </a:cubicBezTo>
                <a:cubicBezTo>
                  <a:pt x="13156" y="1717"/>
                  <a:pt x="13102" y="1804"/>
                  <a:pt x="13072" y="1885"/>
                </a:cubicBezTo>
                <a:cubicBezTo>
                  <a:pt x="13028" y="2001"/>
                  <a:pt x="13001" y="2135"/>
                  <a:pt x="12998" y="2257"/>
                </a:cubicBezTo>
                <a:cubicBezTo>
                  <a:pt x="12994" y="2408"/>
                  <a:pt x="12983" y="2557"/>
                  <a:pt x="12973" y="2704"/>
                </a:cubicBezTo>
                <a:cubicBezTo>
                  <a:pt x="12965" y="2818"/>
                  <a:pt x="12987" y="2899"/>
                  <a:pt x="12948" y="3001"/>
                </a:cubicBezTo>
              </a:path>
              <a:path w="4342" h="2109">
                <a:moveTo>
                  <a:pt x="8905" y="3349"/>
                </a:moveTo>
                <a:cubicBezTo>
                  <a:pt x="8965" y="3381"/>
                  <a:pt x="9018" y="3400"/>
                  <a:pt x="9079" y="3423"/>
                </a:cubicBezTo>
                <a:cubicBezTo>
                  <a:pt x="9181" y="3461"/>
                  <a:pt x="9264" y="3494"/>
                  <a:pt x="9376" y="3497"/>
                </a:cubicBezTo>
                <a:cubicBezTo>
                  <a:pt x="9537" y="3502"/>
                  <a:pt x="9689" y="3483"/>
                  <a:pt x="9847" y="3473"/>
                </a:cubicBezTo>
                <a:cubicBezTo>
                  <a:pt x="10017" y="3462"/>
                  <a:pt x="10176" y="3432"/>
                  <a:pt x="10344" y="3398"/>
                </a:cubicBezTo>
                <a:cubicBezTo>
                  <a:pt x="10513" y="3364"/>
                  <a:pt x="10648" y="3294"/>
                  <a:pt x="10790" y="3200"/>
                </a:cubicBezTo>
                <a:cubicBezTo>
                  <a:pt x="10894" y="3131"/>
                  <a:pt x="10983" y="3041"/>
                  <a:pt x="11038" y="2927"/>
                </a:cubicBezTo>
                <a:cubicBezTo>
                  <a:pt x="11076" y="2849"/>
                  <a:pt x="11099" y="2689"/>
                  <a:pt x="11088" y="2604"/>
                </a:cubicBezTo>
                <a:cubicBezTo>
                  <a:pt x="11062" y="2411"/>
                  <a:pt x="10975" y="2160"/>
                  <a:pt x="10864" y="2009"/>
                </a:cubicBezTo>
                <a:cubicBezTo>
                  <a:pt x="10787" y="1904"/>
                  <a:pt x="10717" y="1773"/>
                  <a:pt x="10616" y="1687"/>
                </a:cubicBezTo>
                <a:cubicBezTo>
                  <a:pt x="10497" y="1586"/>
                  <a:pt x="10397" y="1485"/>
                  <a:pt x="10244" y="1439"/>
                </a:cubicBezTo>
                <a:cubicBezTo>
                  <a:pt x="10133" y="1405"/>
                  <a:pt x="10015" y="1369"/>
                  <a:pt x="9897" y="1389"/>
                </a:cubicBezTo>
                <a:cubicBezTo>
                  <a:pt x="9781" y="1408"/>
                  <a:pt x="9638" y="1490"/>
                  <a:pt x="9550" y="1563"/>
                </a:cubicBezTo>
                <a:cubicBezTo>
                  <a:pt x="9389" y="1697"/>
                  <a:pt x="9260" y="1831"/>
                  <a:pt x="9153" y="2009"/>
                </a:cubicBezTo>
                <a:cubicBezTo>
                  <a:pt x="9079" y="2132"/>
                  <a:pt x="8976" y="2296"/>
                  <a:pt x="8930" y="2431"/>
                </a:cubicBezTo>
                <a:cubicBezTo>
                  <a:pt x="8884" y="2567"/>
                  <a:pt x="8834" y="2706"/>
                  <a:pt x="8855" y="2853"/>
                </a:cubicBezTo>
                <a:cubicBezTo>
                  <a:pt x="8879" y="3022"/>
                  <a:pt x="8941" y="3103"/>
                  <a:pt x="9054" y="3225"/>
                </a:cubicBezTo>
                <a:cubicBezTo>
                  <a:pt x="9101" y="3276"/>
                  <a:pt x="9153" y="3324"/>
                  <a:pt x="9203" y="337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Ink 10"/>
          <p:cNvSpPr/>
          <p:nvPr/>
        </p:nvSpPr>
        <p:spPr>
          <a:xfrm>
            <a:off x="2901960" y="1517760"/>
            <a:ext cx="1482840" cy="527040"/>
          </a:xfrm>
          <a:custGeom>
            <a:avLst/>
            <a:gdLst/>
            <a:ahLst/>
            <a:rect l="l" t="t" r="r" b="b"/>
            <a:pathLst>
              <a:path w="4118" h="1464">
                <a:moveTo>
                  <a:pt x="8310" y="4614"/>
                </a:moveTo>
                <a:cubicBezTo>
                  <a:pt x="8318" y="4545"/>
                  <a:pt x="8330" y="4479"/>
                  <a:pt x="8359" y="4415"/>
                </a:cubicBezTo>
                <a:cubicBezTo>
                  <a:pt x="8395" y="4335"/>
                  <a:pt x="8441" y="4337"/>
                  <a:pt x="8508" y="4291"/>
                </a:cubicBezTo>
                <a:cubicBezTo>
                  <a:pt x="8575" y="4244"/>
                  <a:pt x="8614" y="4230"/>
                  <a:pt x="8682" y="4266"/>
                </a:cubicBezTo>
                <a:cubicBezTo>
                  <a:pt x="8758" y="4306"/>
                  <a:pt x="8818" y="4331"/>
                  <a:pt x="8855" y="4415"/>
                </a:cubicBezTo>
                <a:cubicBezTo>
                  <a:pt x="8896" y="4509"/>
                  <a:pt x="8943" y="4635"/>
                  <a:pt x="8930" y="4738"/>
                </a:cubicBezTo>
                <a:cubicBezTo>
                  <a:pt x="8911" y="4890"/>
                  <a:pt x="8854" y="4990"/>
                  <a:pt x="8781" y="5110"/>
                </a:cubicBezTo>
                <a:cubicBezTo>
                  <a:pt x="8686" y="5267"/>
                  <a:pt x="8582" y="5354"/>
                  <a:pt x="8409" y="5432"/>
                </a:cubicBezTo>
                <a:cubicBezTo>
                  <a:pt x="8327" y="5469"/>
                  <a:pt x="8203" y="5506"/>
                  <a:pt x="8111" y="5482"/>
                </a:cubicBezTo>
                <a:cubicBezTo>
                  <a:pt x="8056" y="5467"/>
                  <a:pt x="8051" y="5375"/>
                  <a:pt x="8062" y="5333"/>
                </a:cubicBezTo>
                <a:cubicBezTo>
                  <a:pt x="8082" y="5257"/>
                  <a:pt x="8132" y="5231"/>
                  <a:pt x="8186" y="5209"/>
                </a:cubicBezTo>
                <a:cubicBezTo>
                  <a:pt x="8270" y="5174"/>
                  <a:pt x="8324" y="5180"/>
                  <a:pt x="8409" y="5209"/>
                </a:cubicBezTo>
                <a:cubicBezTo>
                  <a:pt x="8517" y="5246"/>
                  <a:pt x="8533" y="5278"/>
                  <a:pt x="8607" y="5358"/>
                </a:cubicBezTo>
                <a:cubicBezTo>
                  <a:pt x="8640" y="5393"/>
                  <a:pt x="8695" y="5459"/>
                  <a:pt x="8706" y="5507"/>
                </a:cubicBezTo>
                <a:cubicBezTo>
                  <a:pt x="8715" y="5547"/>
                  <a:pt x="8706" y="5540"/>
                  <a:pt x="8706" y="5581"/>
                </a:cubicBezTo>
              </a:path>
              <a:path w="4118" h="1464">
                <a:moveTo>
                  <a:pt x="9327" y="4589"/>
                </a:moveTo>
                <a:cubicBezTo>
                  <a:pt x="9363" y="4593"/>
                  <a:pt x="9477" y="4577"/>
                  <a:pt x="9525" y="4638"/>
                </a:cubicBezTo>
                <a:cubicBezTo>
                  <a:pt x="9588" y="4718"/>
                  <a:pt x="9638" y="4912"/>
                  <a:pt x="9649" y="5011"/>
                </a:cubicBezTo>
                <a:cubicBezTo>
                  <a:pt x="9664" y="5140"/>
                  <a:pt x="9698" y="5301"/>
                  <a:pt x="9674" y="5432"/>
                </a:cubicBezTo>
                <a:cubicBezTo>
                  <a:pt x="9658" y="5516"/>
                  <a:pt x="9640" y="5599"/>
                  <a:pt x="9624" y="5680"/>
                </a:cubicBezTo>
                <a:cubicBezTo>
                  <a:pt x="9629" y="5587"/>
                  <a:pt x="9632" y="5497"/>
                  <a:pt x="9649" y="5407"/>
                </a:cubicBezTo>
                <a:cubicBezTo>
                  <a:pt x="9674" y="5277"/>
                  <a:pt x="9706" y="5143"/>
                  <a:pt x="9723" y="5011"/>
                </a:cubicBezTo>
                <a:cubicBezTo>
                  <a:pt x="9736" y="4905"/>
                  <a:pt x="9736" y="4792"/>
                  <a:pt x="9748" y="4688"/>
                </a:cubicBezTo>
                <a:cubicBezTo>
                  <a:pt x="9757" y="4605"/>
                  <a:pt x="9753" y="4544"/>
                  <a:pt x="9773" y="4465"/>
                </a:cubicBezTo>
                <a:cubicBezTo>
                  <a:pt x="9798" y="4365"/>
                  <a:pt x="9823" y="4393"/>
                  <a:pt x="9922" y="4366"/>
                </a:cubicBezTo>
                <a:cubicBezTo>
                  <a:pt x="10021" y="4339"/>
                  <a:pt x="10139" y="4324"/>
                  <a:pt x="10244" y="4316"/>
                </a:cubicBezTo>
                <a:cubicBezTo>
                  <a:pt x="10426" y="4303"/>
                  <a:pt x="10609" y="4310"/>
                  <a:pt x="10790" y="4291"/>
                </a:cubicBezTo>
                <a:cubicBezTo>
                  <a:pt x="11061" y="4263"/>
                  <a:pt x="11337" y="4247"/>
                  <a:pt x="11609" y="4242"/>
                </a:cubicBezTo>
                <a:cubicBezTo>
                  <a:pt x="11759" y="4239"/>
                  <a:pt x="12189" y="4289"/>
                  <a:pt x="12105" y="4242"/>
                </a:cubicBezTo>
                <a:cubicBezTo>
                  <a:pt x="12097" y="4234"/>
                  <a:pt x="12088" y="4225"/>
                  <a:pt x="12080" y="4217"/>
                </a:cubicBezTo>
              </a:path>
              <a:path w="4118" h="1464">
                <a:moveTo>
                  <a:pt x="10145" y="4911"/>
                </a:moveTo>
                <a:cubicBezTo>
                  <a:pt x="10115" y="4823"/>
                  <a:pt x="10153" y="4794"/>
                  <a:pt x="10220" y="4738"/>
                </a:cubicBezTo>
                <a:cubicBezTo>
                  <a:pt x="10276" y="4691"/>
                  <a:pt x="10342" y="4668"/>
                  <a:pt x="10418" y="4688"/>
                </a:cubicBezTo>
                <a:cubicBezTo>
                  <a:pt x="10515" y="4713"/>
                  <a:pt x="10559" y="4775"/>
                  <a:pt x="10592" y="4862"/>
                </a:cubicBezTo>
                <a:cubicBezTo>
                  <a:pt x="10636" y="4979"/>
                  <a:pt x="10633" y="5141"/>
                  <a:pt x="10592" y="5259"/>
                </a:cubicBezTo>
                <a:cubicBezTo>
                  <a:pt x="10557" y="5358"/>
                  <a:pt x="10475" y="5488"/>
                  <a:pt x="10393" y="5556"/>
                </a:cubicBezTo>
                <a:cubicBezTo>
                  <a:pt x="10308" y="5627"/>
                  <a:pt x="10203" y="5652"/>
                  <a:pt x="10096" y="5655"/>
                </a:cubicBezTo>
                <a:cubicBezTo>
                  <a:pt x="10079" y="5656"/>
                  <a:pt x="9917" y="5652"/>
                  <a:pt x="9922" y="5581"/>
                </a:cubicBezTo>
                <a:cubicBezTo>
                  <a:pt x="9929" y="5492"/>
                  <a:pt x="9969" y="5413"/>
                  <a:pt x="10046" y="5358"/>
                </a:cubicBezTo>
                <a:cubicBezTo>
                  <a:pt x="10104" y="5316"/>
                  <a:pt x="10251" y="5317"/>
                  <a:pt x="10319" y="5333"/>
                </a:cubicBezTo>
                <a:cubicBezTo>
                  <a:pt x="10386" y="5348"/>
                  <a:pt x="10468" y="5437"/>
                  <a:pt x="10517" y="5482"/>
                </a:cubicBezTo>
                <a:cubicBezTo>
                  <a:pt x="10558" y="5520"/>
                  <a:pt x="10582" y="5590"/>
                  <a:pt x="10641" y="5606"/>
                </a:cubicBezTo>
                <a:cubicBezTo>
                  <a:pt x="10693" y="5606"/>
                  <a:pt x="10711" y="5605"/>
                  <a:pt x="10740" y="5581"/>
                </a:cubicBezTo>
              </a:path>
              <a:path w="4118" h="1464">
                <a:moveTo>
                  <a:pt x="11013" y="4762"/>
                </a:moveTo>
                <a:cubicBezTo>
                  <a:pt x="11024" y="4854"/>
                  <a:pt x="11052" y="4936"/>
                  <a:pt x="11038" y="5035"/>
                </a:cubicBezTo>
                <a:cubicBezTo>
                  <a:pt x="11021" y="5154"/>
                  <a:pt x="11013" y="5261"/>
                  <a:pt x="11013" y="5383"/>
                </a:cubicBezTo>
                <a:cubicBezTo>
                  <a:pt x="11013" y="5463"/>
                  <a:pt x="11060" y="5551"/>
                  <a:pt x="11038" y="5631"/>
                </a:cubicBezTo>
                <a:cubicBezTo>
                  <a:pt x="11030" y="5647"/>
                  <a:pt x="11021" y="5664"/>
                  <a:pt x="11013" y="568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Ink 11"/>
          <p:cNvSpPr/>
          <p:nvPr/>
        </p:nvSpPr>
        <p:spPr>
          <a:xfrm>
            <a:off x="5857920" y="4680000"/>
            <a:ext cx="142920" cy="17280"/>
          </a:xfrm>
          <a:custGeom>
            <a:avLst/>
            <a:gdLst/>
            <a:ahLst/>
            <a:rect l="l" t="t" r="r" b="b"/>
            <a:pathLst>
              <a:path w="398" h="50">
                <a:moveTo>
                  <a:pt x="16272" y="13047"/>
                </a:moveTo>
                <a:cubicBezTo>
                  <a:pt x="16348" y="13018"/>
                  <a:pt x="16412" y="13022"/>
                  <a:pt x="16495" y="13022"/>
                </a:cubicBezTo>
                <a:cubicBezTo>
                  <a:pt x="16562" y="13022"/>
                  <a:pt x="16614" y="13030"/>
                  <a:pt x="16669" y="1299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Ink 12"/>
          <p:cNvSpPr/>
          <p:nvPr/>
        </p:nvSpPr>
        <p:spPr>
          <a:xfrm>
            <a:off x="5796000" y="4680000"/>
            <a:ext cx="177840" cy="312840"/>
          </a:xfrm>
          <a:custGeom>
            <a:avLst/>
            <a:gdLst/>
            <a:ahLst/>
            <a:rect l="l" t="t" r="r" b="b"/>
            <a:pathLst>
              <a:path w="497" h="869">
                <a:moveTo>
                  <a:pt x="16272" y="12998"/>
                </a:moveTo>
                <a:cubicBezTo>
                  <a:pt x="16192" y="13101"/>
                  <a:pt x="16173" y="13104"/>
                  <a:pt x="16173" y="13221"/>
                </a:cubicBezTo>
                <a:cubicBezTo>
                  <a:pt x="16247" y="13184"/>
                  <a:pt x="16292" y="13147"/>
                  <a:pt x="16371" y="13196"/>
                </a:cubicBezTo>
                <a:cubicBezTo>
                  <a:pt x="16443" y="13241"/>
                  <a:pt x="16476" y="13294"/>
                  <a:pt x="16520" y="13370"/>
                </a:cubicBezTo>
                <a:cubicBezTo>
                  <a:pt x="16569" y="13455"/>
                  <a:pt x="16591" y="13547"/>
                  <a:pt x="16594" y="13643"/>
                </a:cubicBezTo>
                <a:cubicBezTo>
                  <a:pt x="16597" y="13739"/>
                  <a:pt x="16552" y="13840"/>
                  <a:pt x="16446" y="13866"/>
                </a:cubicBezTo>
                <a:cubicBezTo>
                  <a:pt x="16371" y="13885"/>
                  <a:pt x="16265" y="13872"/>
                  <a:pt x="16197" y="13841"/>
                </a:cubicBezTo>
                <a:cubicBezTo>
                  <a:pt x="16089" y="13792"/>
                  <a:pt x="16109" y="13716"/>
                  <a:pt x="16123" y="1361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Ink 13"/>
          <p:cNvSpPr/>
          <p:nvPr/>
        </p:nvSpPr>
        <p:spPr>
          <a:xfrm>
            <a:off x="6045120" y="4581360"/>
            <a:ext cx="536760" cy="473400"/>
          </a:xfrm>
          <a:custGeom>
            <a:avLst/>
            <a:gdLst/>
            <a:ahLst/>
            <a:rect l="l" t="t" r="r" b="b"/>
            <a:pathLst>
              <a:path w="1489" h="1315">
                <a:moveTo>
                  <a:pt x="16793" y="12973"/>
                </a:moveTo>
                <a:cubicBezTo>
                  <a:pt x="16876" y="13056"/>
                  <a:pt x="16949" y="13134"/>
                  <a:pt x="16991" y="13246"/>
                </a:cubicBezTo>
                <a:cubicBezTo>
                  <a:pt x="17035" y="13362"/>
                  <a:pt x="17062" y="13496"/>
                  <a:pt x="17066" y="13618"/>
                </a:cubicBezTo>
                <a:cubicBezTo>
                  <a:pt x="17070" y="13760"/>
                  <a:pt x="17076" y="13902"/>
                  <a:pt x="17041" y="14039"/>
                </a:cubicBezTo>
                <a:cubicBezTo>
                  <a:pt x="16998" y="13955"/>
                  <a:pt x="16991" y="13919"/>
                  <a:pt x="16991" y="13816"/>
                </a:cubicBezTo>
                <a:cubicBezTo>
                  <a:pt x="16991" y="13705"/>
                  <a:pt x="17013" y="13604"/>
                  <a:pt x="17016" y="13494"/>
                </a:cubicBezTo>
                <a:cubicBezTo>
                  <a:pt x="17019" y="13382"/>
                  <a:pt x="17024" y="13257"/>
                  <a:pt x="17041" y="13146"/>
                </a:cubicBezTo>
                <a:cubicBezTo>
                  <a:pt x="17054" y="13064"/>
                  <a:pt x="17065" y="12952"/>
                  <a:pt x="17090" y="12874"/>
                </a:cubicBezTo>
                <a:cubicBezTo>
                  <a:pt x="17110" y="12810"/>
                  <a:pt x="17147" y="12747"/>
                  <a:pt x="17214" y="12725"/>
                </a:cubicBezTo>
                <a:cubicBezTo>
                  <a:pt x="17502" y="12629"/>
                  <a:pt x="17974" y="12725"/>
                  <a:pt x="18281" y="1272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Ink 14"/>
          <p:cNvSpPr/>
          <p:nvPr/>
        </p:nvSpPr>
        <p:spPr>
          <a:xfrm>
            <a:off x="6313320" y="4687920"/>
            <a:ext cx="115920" cy="27000"/>
          </a:xfrm>
          <a:custGeom>
            <a:avLst/>
            <a:gdLst/>
            <a:ahLst/>
            <a:rect l="l" t="t" r="r" b="b"/>
            <a:pathLst>
              <a:path w="323" h="76">
                <a:moveTo>
                  <a:pt x="17537" y="13022"/>
                </a:moveTo>
                <a:cubicBezTo>
                  <a:pt x="17621" y="13068"/>
                  <a:pt x="17686" y="13092"/>
                  <a:pt x="17785" y="13097"/>
                </a:cubicBezTo>
                <a:cubicBezTo>
                  <a:pt x="17826" y="13097"/>
                  <a:pt x="17834" y="13097"/>
                  <a:pt x="17859" y="1309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Ink 15"/>
          <p:cNvSpPr/>
          <p:nvPr/>
        </p:nvSpPr>
        <p:spPr>
          <a:xfrm>
            <a:off x="6276960" y="4687920"/>
            <a:ext cx="196920" cy="376200"/>
          </a:xfrm>
          <a:custGeom>
            <a:avLst/>
            <a:gdLst/>
            <a:ahLst/>
            <a:rect l="l" t="t" r="r" b="b"/>
            <a:pathLst>
              <a:path w="546" h="1043">
                <a:moveTo>
                  <a:pt x="17587" y="13022"/>
                </a:moveTo>
                <a:cubicBezTo>
                  <a:pt x="17506" y="13079"/>
                  <a:pt x="17454" y="13115"/>
                  <a:pt x="17438" y="13221"/>
                </a:cubicBezTo>
                <a:cubicBezTo>
                  <a:pt x="17428" y="13287"/>
                  <a:pt x="17456" y="13334"/>
                  <a:pt x="17512" y="13370"/>
                </a:cubicBezTo>
                <a:cubicBezTo>
                  <a:pt x="17575" y="13411"/>
                  <a:pt x="17642" y="13407"/>
                  <a:pt x="17711" y="13444"/>
                </a:cubicBezTo>
                <a:cubicBezTo>
                  <a:pt x="17800" y="13491"/>
                  <a:pt x="17892" y="13602"/>
                  <a:pt x="17934" y="13692"/>
                </a:cubicBezTo>
                <a:cubicBezTo>
                  <a:pt x="17993" y="13819"/>
                  <a:pt x="17967" y="13978"/>
                  <a:pt x="17934" y="14064"/>
                </a:cubicBezTo>
                <a:cubicBezTo>
                  <a:pt x="17826" y="14052"/>
                  <a:pt x="17728" y="14026"/>
                  <a:pt x="17636" y="13965"/>
                </a:cubicBezTo>
                <a:cubicBezTo>
                  <a:pt x="17537" y="13891"/>
                  <a:pt x="17503" y="13866"/>
                  <a:pt x="17462" y="1379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Unit vector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unit vector is usually labeled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t vectors equal 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||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v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||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t may also equal (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/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||v||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A unit vector should have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magnitude     of 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and be in the same direction as the other vector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9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98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98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98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98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Find the unit vector of </a:t>
            </a: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v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= &lt;3, -2&gt;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2" name="Ink 5"/>
          <p:cNvSpPr/>
          <p:nvPr/>
        </p:nvSpPr>
        <p:spPr>
          <a:xfrm>
            <a:off x="1401840" y="1258920"/>
            <a:ext cx="4170240" cy="608040"/>
          </a:xfrm>
          <a:custGeom>
            <a:avLst/>
            <a:gdLst/>
            <a:ahLst/>
            <a:rect l="l" t="t" r="r" b="b"/>
            <a:pathLst>
              <a:path w="11585" h="1688">
                <a:moveTo>
                  <a:pt x="4118" y="3547"/>
                </a:moveTo>
                <a:cubicBezTo>
                  <a:pt x="4078" y="3426"/>
                  <a:pt x="4101" y="3673"/>
                  <a:pt x="4093" y="3721"/>
                </a:cubicBezTo>
                <a:cubicBezTo>
                  <a:pt x="4072" y="3847"/>
                  <a:pt x="4047" y="3965"/>
                  <a:pt x="4043" y="4093"/>
                </a:cubicBezTo>
                <a:cubicBezTo>
                  <a:pt x="4039" y="4220"/>
                  <a:pt x="4022" y="4339"/>
                  <a:pt x="4018" y="4465"/>
                </a:cubicBezTo>
                <a:cubicBezTo>
                  <a:pt x="4015" y="4579"/>
                  <a:pt x="4008" y="4705"/>
                  <a:pt x="3969" y="4812"/>
                </a:cubicBezTo>
                <a:cubicBezTo>
                  <a:pt x="3945" y="4878"/>
                  <a:pt x="3939" y="4929"/>
                  <a:pt x="3894" y="4986"/>
                </a:cubicBezTo>
                <a:cubicBezTo>
                  <a:pt x="3894" y="4922"/>
                  <a:pt x="3897" y="4896"/>
                  <a:pt x="3919" y="4837"/>
                </a:cubicBezTo>
              </a:path>
              <a:path w="11585" h="1688">
                <a:moveTo>
                  <a:pt x="4390" y="3522"/>
                </a:moveTo>
                <a:cubicBezTo>
                  <a:pt x="4390" y="3976"/>
                  <a:pt x="4437" y="4469"/>
                  <a:pt x="4366" y="4911"/>
                </a:cubicBezTo>
                <a:cubicBezTo>
                  <a:pt x="4347" y="5027"/>
                  <a:pt x="4387" y="4911"/>
                  <a:pt x="4390" y="4887"/>
                </a:cubicBezTo>
              </a:path>
              <a:path w="11585" h="1688">
                <a:moveTo>
                  <a:pt x="4713" y="4341"/>
                </a:moveTo>
                <a:cubicBezTo>
                  <a:pt x="4741" y="4414"/>
                  <a:pt x="4758" y="4461"/>
                  <a:pt x="4762" y="4539"/>
                </a:cubicBezTo>
                <a:cubicBezTo>
                  <a:pt x="4767" y="4639"/>
                  <a:pt x="4788" y="4767"/>
                  <a:pt x="4812" y="4862"/>
                </a:cubicBezTo>
                <a:cubicBezTo>
                  <a:pt x="4825" y="4912"/>
                  <a:pt x="4859" y="5000"/>
                  <a:pt x="4887" y="5035"/>
                </a:cubicBezTo>
                <a:cubicBezTo>
                  <a:pt x="4895" y="5043"/>
                  <a:pt x="4903" y="5052"/>
                  <a:pt x="4911" y="5060"/>
                </a:cubicBezTo>
                <a:cubicBezTo>
                  <a:pt x="4936" y="5018"/>
                  <a:pt x="4954" y="4939"/>
                  <a:pt x="4961" y="4887"/>
                </a:cubicBezTo>
                <a:cubicBezTo>
                  <a:pt x="4973" y="4794"/>
                  <a:pt x="4991" y="4704"/>
                  <a:pt x="5011" y="4614"/>
                </a:cubicBezTo>
                <a:cubicBezTo>
                  <a:pt x="5032" y="4522"/>
                  <a:pt x="5073" y="4427"/>
                  <a:pt x="5110" y="4341"/>
                </a:cubicBezTo>
                <a:cubicBezTo>
                  <a:pt x="5135" y="4283"/>
                  <a:pt x="5170" y="4204"/>
                  <a:pt x="5184" y="4142"/>
                </a:cubicBezTo>
                <a:cubicBezTo>
                  <a:pt x="5184" y="4126"/>
                  <a:pt x="5184" y="4109"/>
                  <a:pt x="5184" y="4093"/>
                </a:cubicBezTo>
              </a:path>
              <a:path w="11585" h="1688">
                <a:moveTo>
                  <a:pt x="5606" y="3597"/>
                </a:moveTo>
                <a:cubicBezTo>
                  <a:pt x="5606" y="3718"/>
                  <a:pt x="5605" y="3826"/>
                  <a:pt x="5581" y="3944"/>
                </a:cubicBezTo>
                <a:cubicBezTo>
                  <a:pt x="5536" y="4166"/>
                  <a:pt x="5503" y="4387"/>
                  <a:pt x="5482" y="4614"/>
                </a:cubicBezTo>
                <a:cubicBezTo>
                  <a:pt x="5469" y="4752"/>
                  <a:pt x="5482" y="4897"/>
                  <a:pt x="5482" y="5035"/>
                </a:cubicBezTo>
                <a:cubicBezTo>
                  <a:pt x="5517" y="4955"/>
                  <a:pt x="5525" y="4856"/>
                  <a:pt x="5531" y="4762"/>
                </a:cubicBezTo>
              </a:path>
              <a:path w="11585" h="1688">
                <a:moveTo>
                  <a:pt x="5904" y="3522"/>
                </a:moveTo>
                <a:cubicBezTo>
                  <a:pt x="5896" y="3613"/>
                  <a:pt x="5892" y="3703"/>
                  <a:pt x="5879" y="3795"/>
                </a:cubicBezTo>
                <a:cubicBezTo>
                  <a:pt x="5859" y="3943"/>
                  <a:pt x="5840" y="4095"/>
                  <a:pt x="5829" y="4242"/>
                </a:cubicBezTo>
                <a:cubicBezTo>
                  <a:pt x="5818" y="4390"/>
                  <a:pt x="5815" y="4542"/>
                  <a:pt x="5804" y="4688"/>
                </a:cubicBezTo>
                <a:cubicBezTo>
                  <a:pt x="5793" y="4832"/>
                  <a:pt x="5799" y="4969"/>
                  <a:pt x="5779" y="5110"/>
                </a:cubicBezTo>
                <a:cubicBezTo>
                  <a:pt x="5779" y="5167"/>
                  <a:pt x="5779" y="5175"/>
                  <a:pt x="5779" y="5085"/>
                </a:cubicBezTo>
              </a:path>
              <a:path w="11585" h="1688">
                <a:moveTo>
                  <a:pt x="6226" y="4341"/>
                </a:moveTo>
                <a:cubicBezTo>
                  <a:pt x="6331" y="4341"/>
                  <a:pt x="6433" y="4348"/>
                  <a:pt x="6524" y="4366"/>
                </a:cubicBezTo>
                <a:cubicBezTo>
                  <a:pt x="6565" y="4366"/>
                  <a:pt x="6573" y="4366"/>
                  <a:pt x="6598" y="4366"/>
                </a:cubicBezTo>
              </a:path>
              <a:path w="11585" h="1688">
                <a:moveTo>
                  <a:pt x="6276" y="4564"/>
                </a:moveTo>
                <a:cubicBezTo>
                  <a:pt x="6377" y="4598"/>
                  <a:pt x="6443" y="4569"/>
                  <a:pt x="6548" y="4564"/>
                </a:cubicBezTo>
                <a:cubicBezTo>
                  <a:pt x="6565" y="4564"/>
                  <a:pt x="6581" y="4564"/>
                  <a:pt x="6598" y="4564"/>
                </a:cubicBezTo>
              </a:path>
              <a:path w="11585" h="1688">
                <a:moveTo>
                  <a:pt x="6871" y="4142"/>
                </a:moveTo>
                <a:cubicBezTo>
                  <a:pt x="6951" y="4137"/>
                  <a:pt x="7029" y="4103"/>
                  <a:pt x="7119" y="4118"/>
                </a:cubicBezTo>
                <a:cubicBezTo>
                  <a:pt x="7179" y="4128"/>
                  <a:pt x="7267" y="4153"/>
                  <a:pt x="7317" y="4192"/>
                </a:cubicBezTo>
                <a:cubicBezTo>
                  <a:pt x="7353" y="4220"/>
                  <a:pt x="7405" y="4349"/>
                  <a:pt x="7417" y="4390"/>
                </a:cubicBezTo>
                <a:cubicBezTo>
                  <a:pt x="7437" y="4462"/>
                  <a:pt x="7435" y="4564"/>
                  <a:pt x="7441" y="4638"/>
                </a:cubicBezTo>
                <a:cubicBezTo>
                  <a:pt x="7448" y="4732"/>
                  <a:pt x="7460" y="4818"/>
                  <a:pt x="7466" y="4911"/>
                </a:cubicBezTo>
                <a:cubicBezTo>
                  <a:pt x="7472" y="5007"/>
                  <a:pt x="7452" y="5103"/>
                  <a:pt x="7441" y="5184"/>
                </a:cubicBezTo>
                <a:cubicBezTo>
                  <a:pt x="7452" y="5127"/>
                  <a:pt x="7451" y="5070"/>
                  <a:pt x="7466" y="5011"/>
                </a:cubicBezTo>
                <a:cubicBezTo>
                  <a:pt x="7487" y="4929"/>
                  <a:pt x="7522" y="4847"/>
                  <a:pt x="7541" y="4762"/>
                </a:cubicBezTo>
                <a:cubicBezTo>
                  <a:pt x="7564" y="4660"/>
                  <a:pt x="7586" y="4567"/>
                  <a:pt x="7615" y="4465"/>
                </a:cubicBezTo>
                <a:cubicBezTo>
                  <a:pt x="7651" y="4341"/>
                  <a:pt x="7687" y="4217"/>
                  <a:pt x="7714" y="4093"/>
                </a:cubicBezTo>
                <a:cubicBezTo>
                  <a:pt x="7734" y="4000"/>
                  <a:pt x="7746" y="3917"/>
                  <a:pt x="7739" y="3820"/>
                </a:cubicBezTo>
                <a:cubicBezTo>
                  <a:pt x="7734" y="3759"/>
                  <a:pt x="7739" y="3685"/>
                  <a:pt x="7739" y="3646"/>
                </a:cubicBezTo>
                <a:cubicBezTo>
                  <a:pt x="7802" y="3636"/>
                  <a:pt x="7854" y="3625"/>
                  <a:pt x="7913" y="3621"/>
                </a:cubicBezTo>
                <a:cubicBezTo>
                  <a:pt x="7992" y="3615"/>
                  <a:pt x="8061" y="3601"/>
                  <a:pt x="8136" y="3597"/>
                </a:cubicBezTo>
                <a:cubicBezTo>
                  <a:pt x="8258" y="3591"/>
                  <a:pt x="8366" y="3579"/>
                  <a:pt x="8483" y="3572"/>
                </a:cubicBezTo>
                <a:cubicBezTo>
                  <a:pt x="9161" y="3534"/>
                  <a:pt x="9842" y="3597"/>
                  <a:pt x="10517" y="3597"/>
                </a:cubicBezTo>
                <a:cubicBezTo>
                  <a:pt x="10751" y="3597"/>
                  <a:pt x="10980" y="3618"/>
                  <a:pt x="11212" y="3621"/>
                </a:cubicBezTo>
                <a:cubicBezTo>
                  <a:pt x="11363" y="3623"/>
                  <a:pt x="11508" y="3638"/>
                  <a:pt x="11658" y="3646"/>
                </a:cubicBezTo>
                <a:cubicBezTo>
                  <a:pt x="11807" y="3654"/>
                  <a:pt x="11956" y="3658"/>
                  <a:pt x="12105" y="3671"/>
                </a:cubicBezTo>
                <a:cubicBezTo>
                  <a:pt x="12223" y="3681"/>
                  <a:pt x="12332" y="3694"/>
                  <a:pt x="12452" y="3696"/>
                </a:cubicBezTo>
                <a:cubicBezTo>
                  <a:pt x="12551" y="3698"/>
                  <a:pt x="12551" y="3696"/>
                  <a:pt x="12650" y="3696"/>
                </a:cubicBezTo>
              </a:path>
              <a:path w="11585" h="1688">
                <a:moveTo>
                  <a:pt x="8136" y="4142"/>
                </a:moveTo>
                <a:cubicBezTo>
                  <a:pt x="8187" y="4055"/>
                  <a:pt x="8199" y="4068"/>
                  <a:pt x="8285" y="4018"/>
                </a:cubicBezTo>
                <a:cubicBezTo>
                  <a:pt x="8348" y="3981"/>
                  <a:pt x="8412" y="3968"/>
                  <a:pt x="8483" y="3994"/>
                </a:cubicBezTo>
                <a:cubicBezTo>
                  <a:pt x="8568" y="4025"/>
                  <a:pt x="8602" y="4052"/>
                  <a:pt x="8607" y="4142"/>
                </a:cubicBezTo>
                <a:cubicBezTo>
                  <a:pt x="8611" y="4214"/>
                  <a:pt x="8555" y="4265"/>
                  <a:pt x="8508" y="4316"/>
                </a:cubicBezTo>
                <a:cubicBezTo>
                  <a:pt x="8460" y="4368"/>
                  <a:pt x="8413" y="4399"/>
                  <a:pt x="8359" y="4440"/>
                </a:cubicBezTo>
                <a:cubicBezTo>
                  <a:pt x="8334" y="4465"/>
                  <a:pt x="8326" y="4473"/>
                  <a:pt x="8310" y="4490"/>
                </a:cubicBezTo>
                <a:cubicBezTo>
                  <a:pt x="8298" y="4444"/>
                  <a:pt x="8359" y="4402"/>
                  <a:pt x="8434" y="4415"/>
                </a:cubicBezTo>
                <a:cubicBezTo>
                  <a:pt x="8618" y="4447"/>
                  <a:pt x="8648" y="4502"/>
                  <a:pt x="8706" y="4688"/>
                </a:cubicBezTo>
                <a:cubicBezTo>
                  <a:pt x="8720" y="4732"/>
                  <a:pt x="8716" y="4853"/>
                  <a:pt x="8682" y="4887"/>
                </a:cubicBezTo>
                <a:cubicBezTo>
                  <a:pt x="8635" y="4934"/>
                  <a:pt x="8544" y="4963"/>
                  <a:pt x="8483" y="4986"/>
                </a:cubicBezTo>
                <a:cubicBezTo>
                  <a:pt x="8417" y="5011"/>
                  <a:pt x="8307" y="5031"/>
                  <a:pt x="8235" y="5011"/>
                </a:cubicBezTo>
                <a:cubicBezTo>
                  <a:pt x="8189" y="4998"/>
                  <a:pt x="8147" y="4965"/>
                  <a:pt x="8111" y="4936"/>
                </a:cubicBezTo>
              </a:path>
              <a:path w="11585" h="1688">
                <a:moveTo>
                  <a:pt x="8731" y="3894"/>
                </a:moveTo>
                <a:cubicBezTo>
                  <a:pt x="8775" y="3843"/>
                  <a:pt x="8847" y="3819"/>
                  <a:pt x="8930" y="3845"/>
                </a:cubicBezTo>
                <a:cubicBezTo>
                  <a:pt x="8999" y="3867"/>
                  <a:pt x="8974" y="3930"/>
                  <a:pt x="8954" y="3969"/>
                </a:cubicBezTo>
                <a:cubicBezTo>
                  <a:pt x="8928" y="4018"/>
                  <a:pt x="8878" y="4062"/>
                  <a:pt x="8830" y="4093"/>
                </a:cubicBezTo>
                <a:cubicBezTo>
                  <a:pt x="8789" y="4120"/>
                  <a:pt x="8766" y="4133"/>
                  <a:pt x="8731" y="4167"/>
                </a:cubicBezTo>
                <a:cubicBezTo>
                  <a:pt x="8798" y="4207"/>
                  <a:pt x="8828" y="4170"/>
                  <a:pt x="8905" y="4167"/>
                </a:cubicBezTo>
                <a:cubicBezTo>
                  <a:pt x="8979" y="4164"/>
                  <a:pt x="9054" y="4167"/>
                  <a:pt x="9128" y="4167"/>
                </a:cubicBezTo>
              </a:path>
              <a:path w="11585" h="1688">
                <a:moveTo>
                  <a:pt x="9550" y="4192"/>
                </a:moveTo>
                <a:cubicBezTo>
                  <a:pt x="9541" y="4255"/>
                  <a:pt x="9511" y="4301"/>
                  <a:pt x="9500" y="4366"/>
                </a:cubicBezTo>
                <a:cubicBezTo>
                  <a:pt x="9487" y="4445"/>
                  <a:pt x="9514" y="4517"/>
                  <a:pt x="9525" y="4589"/>
                </a:cubicBezTo>
                <a:cubicBezTo>
                  <a:pt x="9533" y="4639"/>
                  <a:pt x="9510" y="4648"/>
                  <a:pt x="9500" y="4688"/>
                </a:cubicBezTo>
              </a:path>
              <a:path w="11585" h="1688">
                <a:moveTo>
                  <a:pt x="9327" y="4465"/>
                </a:moveTo>
                <a:cubicBezTo>
                  <a:pt x="9410" y="4497"/>
                  <a:pt x="9484" y="4490"/>
                  <a:pt x="9575" y="4490"/>
                </a:cubicBezTo>
                <a:cubicBezTo>
                  <a:pt x="9624" y="4490"/>
                  <a:pt x="9641" y="4490"/>
                  <a:pt x="9674" y="4490"/>
                </a:cubicBezTo>
              </a:path>
              <a:path w="11585" h="1688">
                <a:moveTo>
                  <a:pt x="10145" y="4068"/>
                </a:moveTo>
                <a:cubicBezTo>
                  <a:pt x="10095" y="4139"/>
                  <a:pt x="10033" y="4218"/>
                  <a:pt x="9996" y="4291"/>
                </a:cubicBezTo>
                <a:cubicBezTo>
                  <a:pt x="9941" y="4401"/>
                  <a:pt x="9911" y="4548"/>
                  <a:pt x="9872" y="4663"/>
                </a:cubicBezTo>
                <a:cubicBezTo>
                  <a:pt x="9841" y="4755"/>
                  <a:pt x="9847" y="4839"/>
                  <a:pt x="9847" y="4936"/>
                </a:cubicBezTo>
                <a:cubicBezTo>
                  <a:pt x="9847" y="4976"/>
                  <a:pt x="9873" y="5046"/>
                  <a:pt x="9922" y="5060"/>
                </a:cubicBezTo>
                <a:cubicBezTo>
                  <a:pt x="9966" y="5060"/>
                  <a:pt x="9980" y="5063"/>
                  <a:pt x="9996" y="5035"/>
                </a:cubicBezTo>
              </a:path>
              <a:path w="11585" h="1688">
                <a:moveTo>
                  <a:pt x="10120" y="4539"/>
                </a:moveTo>
                <a:cubicBezTo>
                  <a:pt x="10195" y="4539"/>
                  <a:pt x="10269" y="4539"/>
                  <a:pt x="10344" y="4539"/>
                </a:cubicBezTo>
              </a:path>
              <a:path w="11585" h="1688">
                <a:moveTo>
                  <a:pt x="10443" y="4316"/>
                </a:moveTo>
                <a:cubicBezTo>
                  <a:pt x="10504" y="4285"/>
                  <a:pt x="10551" y="4245"/>
                  <a:pt x="10616" y="4242"/>
                </a:cubicBezTo>
                <a:cubicBezTo>
                  <a:pt x="10685" y="4239"/>
                  <a:pt x="10782" y="4248"/>
                  <a:pt x="10765" y="4341"/>
                </a:cubicBezTo>
                <a:cubicBezTo>
                  <a:pt x="10750" y="4424"/>
                  <a:pt x="10697" y="4458"/>
                  <a:pt x="10641" y="4514"/>
                </a:cubicBezTo>
                <a:cubicBezTo>
                  <a:pt x="10558" y="4598"/>
                  <a:pt x="10502" y="4662"/>
                  <a:pt x="10418" y="4738"/>
                </a:cubicBezTo>
                <a:cubicBezTo>
                  <a:pt x="10384" y="4769"/>
                  <a:pt x="10352" y="4804"/>
                  <a:pt x="10319" y="4837"/>
                </a:cubicBezTo>
                <a:cubicBezTo>
                  <a:pt x="10385" y="4877"/>
                  <a:pt x="10396" y="4841"/>
                  <a:pt x="10468" y="4837"/>
                </a:cubicBezTo>
                <a:cubicBezTo>
                  <a:pt x="10555" y="4832"/>
                  <a:pt x="10609" y="4858"/>
                  <a:pt x="10691" y="4862"/>
                </a:cubicBezTo>
                <a:cubicBezTo>
                  <a:pt x="10740" y="4862"/>
                  <a:pt x="10757" y="4862"/>
                  <a:pt x="10790" y="4862"/>
                </a:cubicBezTo>
              </a:path>
              <a:path w="11585" h="1688">
                <a:moveTo>
                  <a:pt x="10889" y="4142"/>
                </a:moveTo>
                <a:cubicBezTo>
                  <a:pt x="10955" y="4215"/>
                  <a:pt x="11022" y="4287"/>
                  <a:pt x="11038" y="4390"/>
                </a:cubicBezTo>
                <a:cubicBezTo>
                  <a:pt x="11055" y="4499"/>
                  <a:pt x="11084" y="4601"/>
                  <a:pt x="11088" y="4713"/>
                </a:cubicBezTo>
                <a:cubicBezTo>
                  <a:pt x="11091" y="4800"/>
                  <a:pt x="11103" y="4905"/>
                  <a:pt x="11063" y="4986"/>
                </a:cubicBezTo>
                <a:cubicBezTo>
                  <a:pt x="11050" y="5013"/>
                  <a:pt x="10998" y="5100"/>
                  <a:pt x="10964" y="5110"/>
                </a:cubicBezTo>
                <a:cubicBezTo>
                  <a:pt x="10869" y="5137"/>
                  <a:pt x="10933" y="5027"/>
                  <a:pt x="10939" y="4986"/>
                </a:cubicBezTo>
              </a:path>
              <a:path w="11585" h="1688">
                <a:moveTo>
                  <a:pt x="11237" y="3969"/>
                </a:moveTo>
                <a:cubicBezTo>
                  <a:pt x="11287" y="3918"/>
                  <a:pt x="11332" y="3900"/>
                  <a:pt x="11410" y="3919"/>
                </a:cubicBezTo>
                <a:cubicBezTo>
                  <a:pt x="11479" y="3935"/>
                  <a:pt x="11527" y="3998"/>
                  <a:pt x="11509" y="4068"/>
                </a:cubicBezTo>
                <a:cubicBezTo>
                  <a:pt x="11498" y="4112"/>
                  <a:pt x="11415" y="4145"/>
                  <a:pt x="11385" y="4167"/>
                </a:cubicBezTo>
                <a:cubicBezTo>
                  <a:pt x="11339" y="4202"/>
                  <a:pt x="11307" y="4196"/>
                  <a:pt x="11261" y="4242"/>
                </a:cubicBezTo>
                <a:cubicBezTo>
                  <a:pt x="11350" y="4274"/>
                  <a:pt x="11375" y="4253"/>
                  <a:pt x="11460" y="4242"/>
                </a:cubicBezTo>
                <a:cubicBezTo>
                  <a:pt x="11563" y="4229"/>
                  <a:pt x="11677" y="4242"/>
                  <a:pt x="11782" y="4242"/>
                </a:cubicBezTo>
              </a:path>
              <a:path w="11585" h="1688">
                <a:moveTo>
                  <a:pt x="12526" y="4390"/>
                </a:moveTo>
                <a:cubicBezTo>
                  <a:pt x="12616" y="4390"/>
                  <a:pt x="12690" y="4401"/>
                  <a:pt x="12774" y="4415"/>
                </a:cubicBezTo>
                <a:cubicBezTo>
                  <a:pt x="12838" y="4426"/>
                  <a:pt x="12885" y="4419"/>
                  <a:pt x="12948" y="4440"/>
                </a:cubicBezTo>
              </a:path>
              <a:path w="11585" h="1688">
                <a:moveTo>
                  <a:pt x="12452" y="4638"/>
                </a:moveTo>
                <a:cubicBezTo>
                  <a:pt x="12507" y="4671"/>
                  <a:pt x="12558" y="4663"/>
                  <a:pt x="12626" y="4663"/>
                </a:cubicBezTo>
                <a:cubicBezTo>
                  <a:pt x="12733" y="4663"/>
                  <a:pt x="12824" y="4671"/>
                  <a:pt x="12923" y="4688"/>
                </a:cubicBezTo>
                <a:cubicBezTo>
                  <a:pt x="12963" y="4695"/>
                  <a:pt x="13039" y="4688"/>
                  <a:pt x="12998" y="4688"/>
                </a:cubicBezTo>
              </a:path>
              <a:path w="11585" h="1688">
                <a:moveTo>
                  <a:pt x="13692" y="3969"/>
                </a:moveTo>
                <a:cubicBezTo>
                  <a:pt x="13692" y="4235"/>
                  <a:pt x="13696" y="4502"/>
                  <a:pt x="13667" y="4762"/>
                </a:cubicBezTo>
                <a:cubicBezTo>
                  <a:pt x="13658" y="4841"/>
                  <a:pt x="13671" y="4938"/>
                  <a:pt x="13643" y="5011"/>
                </a:cubicBezTo>
                <a:cubicBezTo>
                  <a:pt x="13635" y="5019"/>
                  <a:pt x="13626" y="5027"/>
                  <a:pt x="13618" y="5035"/>
                </a:cubicBezTo>
                <a:cubicBezTo>
                  <a:pt x="13628" y="4956"/>
                  <a:pt x="13641" y="4865"/>
                  <a:pt x="13667" y="4787"/>
                </a:cubicBezTo>
                <a:cubicBezTo>
                  <a:pt x="13694" y="4705"/>
                  <a:pt x="13729" y="4602"/>
                  <a:pt x="13742" y="4514"/>
                </a:cubicBezTo>
                <a:cubicBezTo>
                  <a:pt x="13757" y="4416"/>
                  <a:pt x="13781" y="4315"/>
                  <a:pt x="13791" y="4217"/>
                </a:cubicBezTo>
                <a:cubicBezTo>
                  <a:pt x="13804" y="4098"/>
                  <a:pt x="13797" y="3983"/>
                  <a:pt x="13816" y="3870"/>
                </a:cubicBezTo>
                <a:cubicBezTo>
                  <a:pt x="13824" y="3822"/>
                  <a:pt x="13830" y="3785"/>
                  <a:pt x="13841" y="3746"/>
                </a:cubicBezTo>
                <a:cubicBezTo>
                  <a:pt x="13898" y="3777"/>
                  <a:pt x="13949" y="3809"/>
                  <a:pt x="14015" y="3820"/>
                </a:cubicBezTo>
                <a:cubicBezTo>
                  <a:pt x="14100" y="3834"/>
                  <a:pt x="14173" y="3845"/>
                  <a:pt x="14263" y="3845"/>
                </a:cubicBezTo>
                <a:cubicBezTo>
                  <a:pt x="14554" y="3845"/>
                  <a:pt x="14844" y="3837"/>
                  <a:pt x="15131" y="3820"/>
                </a:cubicBezTo>
                <a:cubicBezTo>
                  <a:pt x="15240" y="3814"/>
                  <a:pt x="15486" y="3899"/>
                  <a:pt x="15453" y="3795"/>
                </a:cubicBezTo>
                <a:cubicBezTo>
                  <a:pt x="15487" y="3761"/>
                  <a:pt x="15483" y="3753"/>
                  <a:pt x="15404" y="3770"/>
                </a:cubicBezTo>
              </a:path>
              <a:path w="11585" h="1688">
                <a:moveTo>
                  <a:pt x="14263" y="4093"/>
                </a:moveTo>
                <a:cubicBezTo>
                  <a:pt x="14215" y="4203"/>
                  <a:pt x="14236" y="4236"/>
                  <a:pt x="14213" y="4341"/>
                </a:cubicBezTo>
                <a:cubicBezTo>
                  <a:pt x="14193" y="4430"/>
                  <a:pt x="14209" y="4527"/>
                  <a:pt x="14188" y="4614"/>
                </a:cubicBezTo>
                <a:cubicBezTo>
                  <a:pt x="14173" y="4677"/>
                  <a:pt x="14180" y="4750"/>
                  <a:pt x="14163" y="4812"/>
                </a:cubicBezTo>
                <a:cubicBezTo>
                  <a:pt x="14125" y="4953"/>
                  <a:pt x="14184" y="4773"/>
                  <a:pt x="14188" y="4762"/>
                </a:cubicBezTo>
              </a:path>
              <a:path w="11585" h="1688">
                <a:moveTo>
                  <a:pt x="14511" y="4266"/>
                </a:moveTo>
                <a:cubicBezTo>
                  <a:pt x="14568" y="4195"/>
                  <a:pt x="14604" y="4160"/>
                  <a:pt x="14684" y="4118"/>
                </a:cubicBezTo>
                <a:cubicBezTo>
                  <a:pt x="14748" y="4084"/>
                  <a:pt x="14827" y="4074"/>
                  <a:pt x="14883" y="4118"/>
                </a:cubicBezTo>
                <a:cubicBezTo>
                  <a:pt x="14921" y="4148"/>
                  <a:pt x="14887" y="4234"/>
                  <a:pt x="14858" y="4266"/>
                </a:cubicBezTo>
                <a:cubicBezTo>
                  <a:pt x="14849" y="4276"/>
                  <a:pt x="14741" y="4406"/>
                  <a:pt x="14709" y="4415"/>
                </a:cubicBezTo>
                <a:cubicBezTo>
                  <a:pt x="14650" y="4432"/>
                  <a:pt x="14656" y="4419"/>
                  <a:pt x="14610" y="4465"/>
                </a:cubicBezTo>
                <a:cubicBezTo>
                  <a:pt x="14680" y="4456"/>
                  <a:pt x="14735" y="4440"/>
                  <a:pt x="14808" y="4440"/>
                </a:cubicBezTo>
                <a:cubicBezTo>
                  <a:pt x="14912" y="4440"/>
                  <a:pt x="14965" y="4513"/>
                  <a:pt x="14982" y="4614"/>
                </a:cubicBezTo>
                <a:cubicBezTo>
                  <a:pt x="14998" y="4710"/>
                  <a:pt x="14974" y="4720"/>
                  <a:pt x="14932" y="4787"/>
                </a:cubicBezTo>
                <a:cubicBezTo>
                  <a:pt x="14879" y="4872"/>
                  <a:pt x="14858" y="4867"/>
                  <a:pt x="14759" y="4887"/>
                </a:cubicBezTo>
                <a:cubicBezTo>
                  <a:pt x="14643" y="4911"/>
                  <a:pt x="14635" y="4904"/>
                  <a:pt x="14536" y="4887"/>
                </a:cubicBezTo>
                <a:cubicBezTo>
                  <a:pt x="14444" y="4871"/>
                  <a:pt x="14467" y="4878"/>
                  <a:pt x="14436" y="486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Ink 6"/>
          <p:cNvSpPr/>
          <p:nvPr/>
        </p:nvSpPr>
        <p:spPr>
          <a:xfrm>
            <a:off x="723960" y="2214720"/>
            <a:ext cx="6018120" cy="947520"/>
          </a:xfrm>
          <a:custGeom>
            <a:avLst/>
            <a:gdLst/>
            <a:ahLst/>
            <a:rect l="l" t="t" r="r" b="b"/>
            <a:pathLst>
              <a:path w="16720" h="2630">
                <a:moveTo>
                  <a:pt x="2009" y="6276"/>
                </a:moveTo>
                <a:cubicBezTo>
                  <a:pt x="2042" y="6330"/>
                  <a:pt x="2034" y="6381"/>
                  <a:pt x="2034" y="6449"/>
                </a:cubicBezTo>
                <a:cubicBezTo>
                  <a:pt x="2034" y="6577"/>
                  <a:pt x="2065" y="6645"/>
                  <a:pt x="2084" y="6772"/>
                </a:cubicBezTo>
                <a:cubicBezTo>
                  <a:pt x="2097" y="6857"/>
                  <a:pt x="2096" y="6909"/>
                  <a:pt x="2158" y="6970"/>
                </a:cubicBezTo>
                <a:cubicBezTo>
                  <a:pt x="2215" y="7027"/>
                  <a:pt x="2230" y="7030"/>
                  <a:pt x="2307" y="6995"/>
                </a:cubicBezTo>
                <a:cubicBezTo>
                  <a:pt x="2380" y="6962"/>
                  <a:pt x="2396" y="6889"/>
                  <a:pt x="2431" y="6821"/>
                </a:cubicBezTo>
                <a:cubicBezTo>
                  <a:pt x="2469" y="6745"/>
                  <a:pt x="2481" y="6674"/>
                  <a:pt x="2505" y="6598"/>
                </a:cubicBezTo>
                <a:cubicBezTo>
                  <a:pt x="2528" y="6525"/>
                  <a:pt x="2552" y="6454"/>
                  <a:pt x="2555" y="6375"/>
                </a:cubicBezTo>
                <a:cubicBezTo>
                  <a:pt x="2555" y="6350"/>
                  <a:pt x="2555" y="6325"/>
                  <a:pt x="2555" y="6300"/>
                </a:cubicBezTo>
                <a:cubicBezTo>
                  <a:pt x="2555" y="6165"/>
                  <a:pt x="2555" y="6420"/>
                  <a:pt x="2555" y="6449"/>
                </a:cubicBezTo>
                <a:cubicBezTo>
                  <a:pt x="2555" y="6541"/>
                  <a:pt x="2590" y="6590"/>
                  <a:pt x="2604" y="6672"/>
                </a:cubicBezTo>
                <a:cubicBezTo>
                  <a:pt x="2618" y="6755"/>
                  <a:pt x="2627" y="6821"/>
                  <a:pt x="2679" y="6896"/>
                </a:cubicBezTo>
                <a:cubicBezTo>
                  <a:pt x="2703" y="6930"/>
                  <a:pt x="2737" y="7001"/>
                  <a:pt x="2778" y="7020"/>
                </a:cubicBezTo>
                <a:cubicBezTo>
                  <a:pt x="2786" y="7020"/>
                  <a:pt x="2795" y="7020"/>
                  <a:pt x="2803" y="7020"/>
                </a:cubicBezTo>
              </a:path>
              <a:path w="16720" h="2630">
                <a:moveTo>
                  <a:pt x="3026" y="6697"/>
                </a:moveTo>
                <a:cubicBezTo>
                  <a:pt x="3099" y="6707"/>
                  <a:pt x="3142" y="6722"/>
                  <a:pt x="3225" y="6722"/>
                </a:cubicBezTo>
                <a:cubicBezTo>
                  <a:pt x="3274" y="6722"/>
                  <a:pt x="3324" y="6722"/>
                  <a:pt x="3373" y="6722"/>
                </a:cubicBezTo>
              </a:path>
              <a:path w="16720" h="2630">
                <a:moveTo>
                  <a:pt x="3051" y="6846"/>
                </a:moveTo>
                <a:cubicBezTo>
                  <a:pt x="3133" y="6858"/>
                  <a:pt x="3181" y="6854"/>
                  <a:pt x="3274" y="6846"/>
                </a:cubicBezTo>
              </a:path>
              <a:path w="16720" h="2630">
                <a:moveTo>
                  <a:pt x="4093" y="6350"/>
                </a:moveTo>
                <a:cubicBezTo>
                  <a:pt x="4150" y="6440"/>
                  <a:pt x="4162" y="6502"/>
                  <a:pt x="4192" y="6598"/>
                </a:cubicBezTo>
                <a:cubicBezTo>
                  <a:pt x="4215" y="6672"/>
                  <a:pt x="4236" y="6752"/>
                  <a:pt x="4266" y="6821"/>
                </a:cubicBezTo>
                <a:cubicBezTo>
                  <a:pt x="4287" y="6868"/>
                  <a:pt x="4309" y="6906"/>
                  <a:pt x="4341" y="6945"/>
                </a:cubicBezTo>
                <a:cubicBezTo>
                  <a:pt x="4388" y="6887"/>
                  <a:pt x="4386" y="6837"/>
                  <a:pt x="4415" y="6772"/>
                </a:cubicBezTo>
                <a:cubicBezTo>
                  <a:pt x="4438" y="6720"/>
                  <a:pt x="4477" y="6652"/>
                  <a:pt x="4490" y="6598"/>
                </a:cubicBezTo>
                <a:cubicBezTo>
                  <a:pt x="4505" y="6532"/>
                  <a:pt x="4549" y="6487"/>
                  <a:pt x="4564" y="6424"/>
                </a:cubicBezTo>
                <a:cubicBezTo>
                  <a:pt x="4578" y="6366"/>
                  <a:pt x="4587" y="6328"/>
                  <a:pt x="4614" y="6276"/>
                </a:cubicBezTo>
                <a:cubicBezTo>
                  <a:pt x="4626" y="6252"/>
                  <a:pt x="4690" y="6073"/>
                  <a:pt x="4638" y="6201"/>
                </a:cubicBezTo>
              </a:path>
              <a:path w="16720" h="2630">
                <a:moveTo>
                  <a:pt x="3795" y="7069"/>
                </a:moveTo>
                <a:cubicBezTo>
                  <a:pt x="3864" y="7079"/>
                  <a:pt x="3916" y="7094"/>
                  <a:pt x="3994" y="7094"/>
                </a:cubicBezTo>
                <a:cubicBezTo>
                  <a:pt x="4134" y="7094"/>
                  <a:pt x="4254" y="7115"/>
                  <a:pt x="4390" y="7119"/>
                </a:cubicBezTo>
                <a:cubicBezTo>
                  <a:pt x="4647" y="7126"/>
                  <a:pt x="5317" y="7119"/>
                  <a:pt x="5060" y="7119"/>
                </a:cubicBezTo>
              </a:path>
              <a:path w="16720" h="2630">
                <a:moveTo>
                  <a:pt x="3597" y="7417"/>
                </a:moveTo>
                <a:cubicBezTo>
                  <a:pt x="3568" y="7493"/>
                  <a:pt x="3572" y="7557"/>
                  <a:pt x="3572" y="7640"/>
                </a:cubicBezTo>
                <a:cubicBezTo>
                  <a:pt x="3572" y="7778"/>
                  <a:pt x="3561" y="7902"/>
                  <a:pt x="3547" y="8037"/>
                </a:cubicBezTo>
                <a:cubicBezTo>
                  <a:pt x="3531" y="8191"/>
                  <a:pt x="3553" y="8156"/>
                  <a:pt x="3597" y="8037"/>
                </a:cubicBezTo>
              </a:path>
              <a:path w="16720" h="2630">
                <a:moveTo>
                  <a:pt x="3845" y="7367"/>
                </a:moveTo>
                <a:cubicBezTo>
                  <a:pt x="3871" y="7444"/>
                  <a:pt x="3870" y="7508"/>
                  <a:pt x="3870" y="7590"/>
                </a:cubicBezTo>
                <a:cubicBezTo>
                  <a:pt x="3870" y="7772"/>
                  <a:pt x="3870" y="7954"/>
                  <a:pt x="3870" y="8136"/>
                </a:cubicBezTo>
              </a:path>
              <a:path w="16720" h="2630">
                <a:moveTo>
                  <a:pt x="4093" y="7739"/>
                </a:moveTo>
                <a:cubicBezTo>
                  <a:pt x="4121" y="7823"/>
                  <a:pt x="4120" y="7907"/>
                  <a:pt x="4142" y="7987"/>
                </a:cubicBezTo>
                <a:cubicBezTo>
                  <a:pt x="4154" y="8030"/>
                  <a:pt x="4192" y="8105"/>
                  <a:pt x="4217" y="8136"/>
                </a:cubicBezTo>
                <a:cubicBezTo>
                  <a:pt x="4242" y="8161"/>
                  <a:pt x="4250" y="8169"/>
                  <a:pt x="4266" y="8186"/>
                </a:cubicBezTo>
                <a:cubicBezTo>
                  <a:pt x="4275" y="8118"/>
                  <a:pt x="4305" y="8045"/>
                  <a:pt x="4316" y="7987"/>
                </a:cubicBezTo>
                <a:cubicBezTo>
                  <a:pt x="4330" y="7914"/>
                  <a:pt x="4352" y="7877"/>
                  <a:pt x="4390" y="7813"/>
                </a:cubicBezTo>
                <a:cubicBezTo>
                  <a:pt x="4421" y="7761"/>
                  <a:pt x="4450" y="7712"/>
                  <a:pt x="4490" y="7665"/>
                </a:cubicBezTo>
              </a:path>
              <a:path w="16720" h="2630">
                <a:moveTo>
                  <a:pt x="4738" y="7466"/>
                </a:moveTo>
                <a:cubicBezTo>
                  <a:pt x="4731" y="7546"/>
                  <a:pt x="4713" y="7608"/>
                  <a:pt x="4713" y="7689"/>
                </a:cubicBezTo>
                <a:cubicBezTo>
                  <a:pt x="4713" y="7779"/>
                  <a:pt x="4715" y="8193"/>
                  <a:pt x="4738" y="8161"/>
                </a:cubicBezTo>
                <a:cubicBezTo>
                  <a:pt x="4746" y="8144"/>
                  <a:pt x="4754" y="8128"/>
                  <a:pt x="4762" y="8111"/>
                </a:cubicBezTo>
              </a:path>
              <a:path w="16720" h="2630">
                <a:moveTo>
                  <a:pt x="4961" y="7392"/>
                </a:moveTo>
                <a:cubicBezTo>
                  <a:pt x="4992" y="7454"/>
                  <a:pt x="4986" y="7516"/>
                  <a:pt x="4986" y="7590"/>
                </a:cubicBezTo>
                <a:cubicBezTo>
                  <a:pt x="4986" y="7759"/>
                  <a:pt x="4988" y="7922"/>
                  <a:pt x="5011" y="8086"/>
                </a:cubicBezTo>
                <a:cubicBezTo>
                  <a:pt x="5012" y="8096"/>
                  <a:pt x="5006" y="8278"/>
                  <a:pt x="5035" y="8260"/>
                </a:cubicBezTo>
                <a:cubicBezTo>
                  <a:pt x="5043" y="8243"/>
                  <a:pt x="5052" y="8227"/>
                  <a:pt x="5060" y="8210"/>
                </a:cubicBezTo>
              </a:path>
              <a:path w="16720" h="2630">
                <a:moveTo>
                  <a:pt x="5507" y="7045"/>
                </a:moveTo>
                <a:cubicBezTo>
                  <a:pt x="5566" y="7080"/>
                  <a:pt x="5613" y="7054"/>
                  <a:pt x="5680" y="7069"/>
                </a:cubicBezTo>
                <a:cubicBezTo>
                  <a:pt x="5754" y="7085"/>
                  <a:pt x="5803" y="7094"/>
                  <a:pt x="5879" y="7094"/>
                </a:cubicBezTo>
              </a:path>
              <a:path w="16720" h="2630">
                <a:moveTo>
                  <a:pt x="5507" y="7268"/>
                </a:moveTo>
                <a:cubicBezTo>
                  <a:pt x="5584" y="7297"/>
                  <a:pt x="5645" y="7293"/>
                  <a:pt x="5730" y="7293"/>
                </a:cubicBezTo>
                <a:cubicBezTo>
                  <a:pt x="5814" y="7293"/>
                  <a:pt x="5909" y="7277"/>
                  <a:pt x="5978" y="7317"/>
                </a:cubicBezTo>
              </a:path>
              <a:path w="16720" h="2630">
                <a:moveTo>
                  <a:pt x="7094" y="6424"/>
                </a:moveTo>
                <a:cubicBezTo>
                  <a:pt x="7111" y="6424"/>
                  <a:pt x="7127" y="6424"/>
                  <a:pt x="7144" y="6424"/>
                </a:cubicBezTo>
                <a:cubicBezTo>
                  <a:pt x="7069" y="6480"/>
                  <a:pt x="7035" y="6554"/>
                  <a:pt x="6970" y="6623"/>
                </a:cubicBezTo>
                <a:cubicBezTo>
                  <a:pt x="6900" y="6697"/>
                  <a:pt x="6837" y="6770"/>
                  <a:pt x="6772" y="6846"/>
                </a:cubicBezTo>
                <a:cubicBezTo>
                  <a:pt x="6704" y="6926"/>
                  <a:pt x="6621" y="6992"/>
                  <a:pt x="6548" y="7069"/>
                </a:cubicBezTo>
                <a:cubicBezTo>
                  <a:pt x="6482" y="7139"/>
                  <a:pt x="6384" y="7201"/>
                  <a:pt x="6325" y="7268"/>
                </a:cubicBezTo>
                <a:cubicBezTo>
                  <a:pt x="6291" y="7306"/>
                  <a:pt x="6261" y="7352"/>
                  <a:pt x="6226" y="7392"/>
                </a:cubicBezTo>
                <a:cubicBezTo>
                  <a:pt x="6273" y="7427"/>
                  <a:pt x="6306" y="7435"/>
                  <a:pt x="6350" y="7466"/>
                </a:cubicBezTo>
                <a:cubicBezTo>
                  <a:pt x="6468" y="7550"/>
                  <a:pt x="6595" y="7692"/>
                  <a:pt x="6672" y="7813"/>
                </a:cubicBezTo>
                <a:cubicBezTo>
                  <a:pt x="6733" y="7909"/>
                  <a:pt x="6804" y="8024"/>
                  <a:pt x="6871" y="8111"/>
                </a:cubicBezTo>
                <a:cubicBezTo>
                  <a:pt x="6918" y="8172"/>
                  <a:pt x="7034" y="8256"/>
                  <a:pt x="7045" y="8260"/>
                </a:cubicBezTo>
              </a:path>
              <a:path w="16720" h="2630">
                <a:moveTo>
                  <a:pt x="7367" y="6772"/>
                </a:moveTo>
                <a:cubicBezTo>
                  <a:pt x="7412" y="6727"/>
                  <a:pt x="7453" y="6665"/>
                  <a:pt x="7516" y="6648"/>
                </a:cubicBezTo>
                <a:cubicBezTo>
                  <a:pt x="7570" y="6633"/>
                  <a:pt x="7652" y="6603"/>
                  <a:pt x="7714" y="6623"/>
                </a:cubicBezTo>
                <a:cubicBezTo>
                  <a:pt x="7766" y="6640"/>
                  <a:pt x="7781" y="6729"/>
                  <a:pt x="7764" y="6772"/>
                </a:cubicBezTo>
                <a:cubicBezTo>
                  <a:pt x="7744" y="6824"/>
                  <a:pt x="7655" y="6866"/>
                  <a:pt x="7615" y="6896"/>
                </a:cubicBezTo>
                <a:cubicBezTo>
                  <a:pt x="7564" y="6934"/>
                  <a:pt x="7583" y="6936"/>
                  <a:pt x="7516" y="6945"/>
                </a:cubicBezTo>
                <a:cubicBezTo>
                  <a:pt x="7597" y="6915"/>
                  <a:pt x="7633" y="6917"/>
                  <a:pt x="7714" y="6945"/>
                </a:cubicBezTo>
                <a:cubicBezTo>
                  <a:pt x="7798" y="6974"/>
                  <a:pt x="7825" y="7007"/>
                  <a:pt x="7888" y="7069"/>
                </a:cubicBezTo>
                <a:cubicBezTo>
                  <a:pt x="7932" y="7112"/>
                  <a:pt x="7929" y="7108"/>
                  <a:pt x="7938" y="7169"/>
                </a:cubicBezTo>
                <a:cubicBezTo>
                  <a:pt x="7888" y="7198"/>
                  <a:pt x="7826" y="7216"/>
                  <a:pt x="7764" y="7218"/>
                </a:cubicBezTo>
                <a:cubicBezTo>
                  <a:pt x="7669" y="7221"/>
                  <a:pt x="7602" y="7210"/>
                  <a:pt x="7516" y="7243"/>
                </a:cubicBezTo>
              </a:path>
              <a:path w="16720" h="2630">
                <a:moveTo>
                  <a:pt x="7045" y="7367"/>
                </a:moveTo>
                <a:cubicBezTo>
                  <a:pt x="6983" y="7367"/>
                  <a:pt x="6968" y="7358"/>
                  <a:pt x="6945" y="7392"/>
                </a:cubicBezTo>
                <a:cubicBezTo>
                  <a:pt x="7317" y="7392"/>
                  <a:pt x="7696" y="7379"/>
                  <a:pt x="8062" y="7417"/>
                </a:cubicBezTo>
                <a:cubicBezTo>
                  <a:pt x="8098" y="7421"/>
                  <a:pt x="8334" y="7412"/>
                  <a:pt x="8260" y="7392"/>
                </a:cubicBezTo>
                <a:cubicBezTo>
                  <a:pt x="8243" y="7392"/>
                  <a:pt x="8227" y="7392"/>
                  <a:pt x="8210" y="7392"/>
                </a:cubicBezTo>
              </a:path>
              <a:path w="16720" h="2630">
                <a:moveTo>
                  <a:pt x="7094" y="7739"/>
                </a:moveTo>
                <a:cubicBezTo>
                  <a:pt x="7094" y="7682"/>
                  <a:pt x="7094" y="7857"/>
                  <a:pt x="7094" y="7888"/>
                </a:cubicBezTo>
                <a:cubicBezTo>
                  <a:pt x="7094" y="7978"/>
                  <a:pt x="7083" y="8052"/>
                  <a:pt x="7069" y="8136"/>
                </a:cubicBezTo>
                <a:cubicBezTo>
                  <a:pt x="7048" y="8260"/>
                  <a:pt x="7092" y="8047"/>
                  <a:pt x="7094" y="8012"/>
                </a:cubicBezTo>
                <a:cubicBezTo>
                  <a:pt x="7100" y="7900"/>
                  <a:pt x="7100" y="7788"/>
                  <a:pt x="7119" y="7689"/>
                </a:cubicBezTo>
                <a:cubicBezTo>
                  <a:pt x="7135" y="7606"/>
                  <a:pt x="7150" y="7615"/>
                  <a:pt x="7218" y="7565"/>
                </a:cubicBezTo>
                <a:cubicBezTo>
                  <a:pt x="7285" y="7516"/>
                  <a:pt x="7362" y="7556"/>
                  <a:pt x="7441" y="7541"/>
                </a:cubicBezTo>
                <a:cubicBezTo>
                  <a:pt x="7548" y="7520"/>
                  <a:pt x="7649" y="7541"/>
                  <a:pt x="7764" y="7541"/>
                </a:cubicBezTo>
                <a:cubicBezTo>
                  <a:pt x="7838" y="7541"/>
                  <a:pt x="7913" y="7541"/>
                  <a:pt x="7987" y="7541"/>
                </a:cubicBezTo>
              </a:path>
              <a:path w="16720" h="2630">
                <a:moveTo>
                  <a:pt x="7367" y="7714"/>
                </a:moveTo>
                <a:cubicBezTo>
                  <a:pt x="7367" y="7798"/>
                  <a:pt x="7389" y="7859"/>
                  <a:pt x="7392" y="7938"/>
                </a:cubicBezTo>
                <a:cubicBezTo>
                  <a:pt x="7395" y="8013"/>
                  <a:pt x="7405" y="8074"/>
                  <a:pt x="7417" y="8136"/>
                </a:cubicBezTo>
                <a:cubicBezTo>
                  <a:pt x="7417" y="8178"/>
                  <a:pt x="7417" y="8203"/>
                  <a:pt x="7417" y="8161"/>
                </a:cubicBezTo>
              </a:path>
              <a:path w="16720" h="2630">
                <a:moveTo>
                  <a:pt x="7590" y="7764"/>
                </a:moveTo>
                <a:cubicBezTo>
                  <a:pt x="7637" y="7733"/>
                  <a:pt x="7784" y="7613"/>
                  <a:pt x="7838" y="7739"/>
                </a:cubicBezTo>
                <a:cubicBezTo>
                  <a:pt x="7872" y="7818"/>
                  <a:pt x="7783" y="7855"/>
                  <a:pt x="7739" y="7888"/>
                </a:cubicBezTo>
                <a:cubicBezTo>
                  <a:pt x="7731" y="7896"/>
                  <a:pt x="7722" y="7905"/>
                  <a:pt x="7714" y="7913"/>
                </a:cubicBezTo>
                <a:cubicBezTo>
                  <a:pt x="7780" y="7913"/>
                  <a:pt x="7857" y="7911"/>
                  <a:pt x="7913" y="7938"/>
                </a:cubicBezTo>
                <a:cubicBezTo>
                  <a:pt x="7954" y="7958"/>
                  <a:pt x="7990" y="8027"/>
                  <a:pt x="8012" y="8062"/>
                </a:cubicBezTo>
                <a:cubicBezTo>
                  <a:pt x="8056" y="8134"/>
                  <a:pt x="8011" y="8161"/>
                  <a:pt x="7962" y="8210"/>
                </a:cubicBezTo>
                <a:cubicBezTo>
                  <a:pt x="7934" y="8238"/>
                  <a:pt x="7855" y="8266"/>
                  <a:pt x="7813" y="8260"/>
                </a:cubicBezTo>
                <a:cubicBezTo>
                  <a:pt x="7741" y="8249"/>
                  <a:pt x="7658" y="8233"/>
                  <a:pt x="7640" y="8161"/>
                </a:cubicBezTo>
              </a:path>
              <a:path w="16720" h="2630">
                <a:moveTo>
                  <a:pt x="8682" y="7392"/>
                </a:moveTo>
                <a:cubicBezTo>
                  <a:pt x="8666" y="7484"/>
                  <a:pt x="8660" y="7602"/>
                  <a:pt x="8632" y="7689"/>
                </a:cubicBezTo>
                <a:cubicBezTo>
                  <a:pt x="8613" y="7749"/>
                  <a:pt x="8559" y="7922"/>
                  <a:pt x="8582" y="7863"/>
                </a:cubicBezTo>
                <a:cubicBezTo>
                  <a:pt x="8590" y="7846"/>
                  <a:pt x="8599" y="7830"/>
                  <a:pt x="8607" y="7813"/>
                </a:cubicBezTo>
              </a:path>
              <a:path w="16720" h="2630">
                <a:moveTo>
                  <a:pt x="8954" y="7045"/>
                </a:moveTo>
                <a:cubicBezTo>
                  <a:pt x="9062" y="7027"/>
                  <a:pt x="9170" y="7010"/>
                  <a:pt x="9277" y="6995"/>
                </a:cubicBezTo>
                <a:cubicBezTo>
                  <a:pt x="9327" y="6995"/>
                  <a:pt x="9343" y="6995"/>
                  <a:pt x="9376" y="6995"/>
                </a:cubicBezTo>
              </a:path>
              <a:path w="16720" h="2630">
                <a:moveTo>
                  <a:pt x="9475" y="6722"/>
                </a:moveTo>
                <a:cubicBezTo>
                  <a:pt x="9590" y="6655"/>
                  <a:pt x="9625" y="6623"/>
                  <a:pt x="9748" y="6623"/>
                </a:cubicBezTo>
                <a:cubicBezTo>
                  <a:pt x="9840" y="6623"/>
                  <a:pt x="9864" y="6663"/>
                  <a:pt x="9872" y="6747"/>
                </a:cubicBezTo>
                <a:cubicBezTo>
                  <a:pt x="9878" y="6807"/>
                  <a:pt x="9825" y="6866"/>
                  <a:pt x="9798" y="6921"/>
                </a:cubicBezTo>
                <a:cubicBezTo>
                  <a:pt x="9763" y="6991"/>
                  <a:pt x="9723" y="7060"/>
                  <a:pt x="9674" y="7119"/>
                </a:cubicBezTo>
                <a:cubicBezTo>
                  <a:pt x="9638" y="7163"/>
                  <a:pt x="9590" y="7202"/>
                  <a:pt x="9550" y="7243"/>
                </a:cubicBezTo>
                <a:cubicBezTo>
                  <a:pt x="9525" y="7268"/>
                  <a:pt x="9500" y="7293"/>
                  <a:pt x="9475" y="7317"/>
                </a:cubicBezTo>
                <a:cubicBezTo>
                  <a:pt x="9519" y="7343"/>
                  <a:pt x="9595" y="7358"/>
                  <a:pt x="9649" y="7367"/>
                </a:cubicBezTo>
                <a:cubicBezTo>
                  <a:pt x="9779" y="7389"/>
                  <a:pt x="9925" y="7362"/>
                  <a:pt x="10046" y="7342"/>
                </a:cubicBezTo>
                <a:cubicBezTo>
                  <a:pt x="10138" y="7327"/>
                  <a:pt x="10128" y="7325"/>
                  <a:pt x="10046" y="7342"/>
                </a:cubicBezTo>
              </a:path>
              <a:path w="16720" h="2630">
                <a:moveTo>
                  <a:pt x="9103" y="7640"/>
                </a:moveTo>
                <a:cubicBezTo>
                  <a:pt x="9188" y="7632"/>
                  <a:pt x="9236" y="7615"/>
                  <a:pt x="9327" y="7615"/>
                </a:cubicBezTo>
                <a:cubicBezTo>
                  <a:pt x="9452" y="7615"/>
                  <a:pt x="9572" y="7640"/>
                  <a:pt x="9699" y="7640"/>
                </a:cubicBezTo>
                <a:cubicBezTo>
                  <a:pt x="9821" y="7640"/>
                  <a:pt x="9929" y="7650"/>
                  <a:pt x="10046" y="7665"/>
                </a:cubicBezTo>
                <a:cubicBezTo>
                  <a:pt x="10113" y="7674"/>
                  <a:pt x="10175" y="7640"/>
                  <a:pt x="10244" y="7640"/>
                </a:cubicBezTo>
              </a:path>
              <a:path w="16720" h="2630">
                <a:moveTo>
                  <a:pt x="9227" y="7962"/>
                </a:moveTo>
                <a:cubicBezTo>
                  <a:pt x="9227" y="8048"/>
                  <a:pt x="9197" y="8183"/>
                  <a:pt x="9203" y="8260"/>
                </a:cubicBezTo>
                <a:cubicBezTo>
                  <a:pt x="9208" y="8320"/>
                  <a:pt x="9227" y="8370"/>
                  <a:pt x="9227" y="8434"/>
                </a:cubicBezTo>
                <a:cubicBezTo>
                  <a:pt x="9179" y="8417"/>
                  <a:pt x="9203" y="8341"/>
                  <a:pt x="9203" y="8285"/>
                </a:cubicBezTo>
                <a:cubicBezTo>
                  <a:pt x="9203" y="8167"/>
                  <a:pt x="9169" y="7990"/>
                  <a:pt x="9227" y="7888"/>
                </a:cubicBezTo>
                <a:cubicBezTo>
                  <a:pt x="9263" y="7825"/>
                  <a:pt x="9307" y="7791"/>
                  <a:pt x="9376" y="7764"/>
                </a:cubicBezTo>
                <a:cubicBezTo>
                  <a:pt x="9472" y="7726"/>
                  <a:pt x="9596" y="7718"/>
                  <a:pt x="9699" y="7714"/>
                </a:cubicBezTo>
                <a:cubicBezTo>
                  <a:pt x="9781" y="7711"/>
                  <a:pt x="9864" y="7714"/>
                  <a:pt x="9947" y="7714"/>
                </a:cubicBezTo>
              </a:path>
              <a:path w="16720" h="2630">
                <a:moveTo>
                  <a:pt x="9525" y="7987"/>
                </a:moveTo>
                <a:cubicBezTo>
                  <a:pt x="9525" y="8119"/>
                  <a:pt x="9522" y="8215"/>
                  <a:pt x="9550" y="8334"/>
                </a:cubicBezTo>
                <a:cubicBezTo>
                  <a:pt x="9550" y="8342"/>
                  <a:pt x="9550" y="8351"/>
                  <a:pt x="9550" y="8359"/>
                </a:cubicBezTo>
              </a:path>
              <a:path w="16720" h="2630">
                <a:moveTo>
                  <a:pt x="9624" y="8037"/>
                </a:moveTo>
                <a:cubicBezTo>
                  <a:pt x="9691" y="7976"/>
                  <a:pt x="9771" y="7905"/>
                  <a:pt x="9872" y="7913"/>
                </a:cubicBezTo>
                <a:cubicBezTo>
                  <a:pt x="9950" y="7919"/>
                  <a:pt x="10027" y="7995"/>
                  <a:pt x="9947" y="8062"/>
                </a:cubicBezTo>
                <a:cubicBezTo>
                  <a:pt x="9899" y="8102"/>
                  <a:pt x="9829" y="8133"/>
                  <a:pt x="9773" y="8161"/>
                </a:cubicBezTo>
                <a:cubicBezTo>
                  <a:pt x="9885" y="8213"/>
                  <a:pt x="9984" y="8248"/>
                  <a:pt x="10071" y="8334"/>
                </a:cubicBezTo>
                <a:cubicBezTo>
                  <a:pt x="10112" y="8374"/>
                  <a:pt x="10159" y="8469"/>
                  <a:pt x="10071" y="8483"/>
                </a:cubicBezTo>
                <a:cubicBezTo>
                  <a:pt x="9979" y="8497"/>
                  <a:pt x="9913" y="8490"/>
                  <a:pt x="9847" y="8434"/>
                </a:cubicBezTo>
                <a:cubicBezTo>
                  <a:pt x="9807" y="8400"/>
                  <a:pt x="9782" y="8350"/>
                  <a:pt x="9748" y="8310"/>
                </a:cubicBezTo>
              </a:path>
              <a:path w="16720" h="2630">
                <a:moveTo>
                  <a:pt x="10393" y="7020"/>
                </a:moveTo>
                <a:cubicBezTo>
                  <a:pt x="10474" y="7060"/>
                  <a:pt x="10533" y="7096"/>
                  <a:pt x="10616" y="7144"/>
                </a:cubicBezTo>
                <a:cubicBezTo>
                  <a:pt x="10724" y="7207"/>
                  <a:pt x="10825" y="7289"/>
                  <a:pt x="10939" y="7342"/>
                </a:cubicBezTo>
                <a:cubicBezTo>
                  <a:pt x="11044" y="7391"/>
                  <a:pt x="11118" y="7451"/>
                  <a:pt x="11212" y="7516"/>
                </a:cubicBezTo>
                <a:cubicBezTo>
                  <a:pt x="11261" y="7541"/>
                  <a:pt x="11278" y="7549"/>
                  <a:pt x="11311" y="7565"/>
                </a:cubicBezTo>
                <a:cubicBezTo>
                  <a:pt x="11265" y="7629"/>
                  <a:pt x="11212" y="7672"/>
                  <a:pt x="11162" y="7739"/>
                </a:cubicBezTo>
                <a:cubicBezTo>
                  <a:pt x="11094" y="7829"/>
                  <a:pt x="11008" y="7899"/>
                  <a:pt x="10939" y="7987"/>
                </a:cubicBezTo>
                <a:cubicBezTo>
                  <a:pt x="10869" y="8075"/>
                  <a:pt x="10802" y="8141"/>
                  <a:pt x="10716" y="8210"/>
                </a:cubicBezTo>
              </a:path>
              <a:path w="16720" h="2630">
                <a:moveTo>
                  <a:pt x="11683" y="7441"/>
                </a:moveTo>
                <a:cubicBezTo>
                  <a:pt x="11757" y="7441"/>
                  <a:pt x="11832" y="7441"/>
                  <a:pt x="11906" y="7441"/>
                </a:cubicBezTo>
              </a:path>
              <a:path w="16720" h="2630">
                <a:moveTo>
                  <a:pt x="11683" y="7565"/>
                </a:moveTo>
                <a:cubicBezTo>
                  <a:pt x="11784" y="7574"/>
                  <a:pt x="11801" y="7580"/>
                  <a:pt x="11906" y="7565"/>
                </a:cubicBezTo>
              </a:path>
              <a:path w="16720" h="2630">
                <a:moveTo>
                  <a:pt x="13047" y="6772"/>
                </a:moveTo>
                <a:cubicBezTo>
                  <a:pt x="13009" y="6833"/>
                  <a:pt x="12973" y="6892"/>
                  <a:pt x="12923" y="6945"/>
                </a:cubicBezTo>
                <a:cubicBezTo>
                  <a:pt x="12839" y="7035"/>
                  <a:pt x="12752" y="7101"/>
                  <a:pt x="12650" y="7169"/>
                </a:cubicBezTo>
                <a:cubicBezTo>
                  <a:pt x="12565" y="7225"/>
                  <a:pt x="12483" y="7284"/>
                  <a:pt x="12402" y="7342"/>
                </a:cubicBezTo>
                <a:cubicBezTo>
                  <a:pt x="12390" y="7351"/>
                  <a:pt x="12241" y="7448"/>
                  <a:pt x="12229" y="7491"/>
                </a:cubicBezTo>
                <a:cubicBezTo>
                  <a:pt x="12216" y="7537"/>
                  <a:pt x="12349" y="7598"/>
                  <a:pt x="12378" y="7615"/>
                </a:cubicBezTo>
                <a:cubicBezTo>
                  <a:pt x="12470" y="7668"/>
                  <a:pt x="12540" y="7774"/>
                  <a:pt x="12601" y="7863"/>
                </a:cubicBezTo>
                <a:cubicBezTo>
                  <a:pt x="12672" y="7966"/>
                  <a:pt x="12727" y="8086"/>
                  <a:pt x="12799" y="8186"/>
                </a:cubicBezTo>
                <a:cubicBezTo>
                  <a:pt x="12854" y="8263"/>
                  <a:pt x="12922" y="8330"/>
                  <a:pt x="12973" y="8409"/>
                </a:cubicBezTo>
                <a:cubicBezTo>
                  <a:pt x="13018" y="8478"/>
                  <a:pt x="13029" y="8549"/>
                  <a:pt x="13097" y="8582"/>
                </a:cubicBezTo>
                <a:cubicBezTo>
                  <a:pt x="13105" y="8582"/>
                  <a:pt x="13114" y="8582"/>
                  <a:pt x="13122" y="8582"/>
                </a:cubicBezTo>
              </a:path>
              <a:path w="16720" h="2630">
                <a:moveTo>
                  <a:pt x="13221" y="7094"/>
                </a:moveTo>
                <a:cubicBezTo>
                  <a:pt x="13301" y="7001"/>
                  <a:pt x="13353" y="7009"/>
                  <a:pt x="13469" y="7020"/>
                </a:cubicBezTo>
                <a:cubicBezTo>
                  <a:pt x="13542" y="7027"/>
                  <a:pt x="13564" y="7044"/>
                  <a:pt x="13568" y="7119"/>
                </a:cubicBezTo>
                <a:cubicBezTo>
                  <a:pt x="13571" y="7165"/>
                  <a:pt x="13512" y="7237"/>
                  <a:pt x="13469" y="7268"/>
                </a:cubicBezTo>
                <a:cubicBezTo>
                  <a:pt x="13428" y="7297"/>
                  <a:pt x="13362" y="7334"/>
                  <a:pt x="13320" y="7342"/>
                </a:cubicBezTo>
                <a:cubicBezTo>
                  <a:pt x="13304" y="7342"/>
                  <a:pt x="13287" y="7342"/>
                  <a:pt x="13271" y="7342"/>
                </a:cubicBezTo>
                <a:cubicBezTo>
                  <a:pt x="13339" y="7287"/>
                  <a:pt x="13381" y="7293"/>
                  <a:pt x="13469" y="7293"/>
                </a:cubicBezTo>
                <a:cubicBezTo>
                  <a:pt x="13549" y="7293"/>
                  <a:pt x="13608" y="7304"/>
                  <a:pt x="13643" y="7392"/>
                </a:cubicBezTo>
                <a:cubicBezTo>
                  <a:pt x="13659" y="7433"/>
                  <a:pt x="13674" y="7554"/>
                  <a:pt x="13643" y="7590"/>
                </a:cubicBezTo>
                <a:cubicBezTo>
                  <a:pt x="13606" y="7634"/>
                  <a:pt x="13523" y="7663"/>
                  <a:pt x="13469" y="7665"/>
                </a:cubicBezTo>
                <a:cubicBezTo>
                  <a:pt x="13396" y="7668"/>
                  <a:pt x="13287" y="7670"/>
                  <a:pt x="13221" y="7640"/>
                </a:cubicBezTo>
                <a:cubicBezTo>
                  <a:pt x="13189" y="7625"/>
                  <a:pt x="13178" y="7593"/>
                  <a:pt x="13171" y="7565"/>
                </a:cubicBezTo>
              </a:path>
              <a:path w="16720" h="2630">
                <a:moveTo>
                  <a:pt x="13940" y="7243"/>
                </a:moveTo>
                <a:cubicBezTo>
                  <a:pt x="13925" y="7354"/>
                  <a:pt x="13900" y="7483"/>
                  <a:pt x="13940" y="7590"/>
                </a:cubicBezTo>
                <a:cubicBezTo>
                  <a:pt x="13971" y="7672"/>
                  <a:pt x="13940" y="7343"/>
                  <a:pt x="13940" y="7342"/>
                </a:cubicBezTo>
                <a:cubicBezTo>
                  <a:pt x="13940" y="7275"/>
                  <a:pt x="13944" y="7205"/>
                  <a:pt x="13965" y="7144"/>
                </a:cubicBezTo>
                <a:cubicBezTo>
                  <a:pt x="13997" y="7050"/>
                  <a:pt x="14007" y="7062"/>
                  <a:pt x="14064" y="6995"/>
                </a:cubicBezTo>
                <a:cubicBezTo>
                  <a:pt x="14119" y="6931"/>
                  <a:pt x="14168" y="6925"/>
                  <a:pt x="14263" y="6921"/>
                </a:cubicBezTo>
                <a:cubicBezTo>
                  <a:pt x="14357" y="6917"/>
                  <a:pt x="14535" y="6946"/>
                  <a:pt x="14585" y="6896"/>
                </a:cubicBezTo>
              </a:path>
              <a:path w="16720" h="2630">
                <a:moveTo>
                  <a:pt x="14263" y="7119"/>
                </a:moveTo>
                <a:cubicBezTo>
                  <a:pt x="14284" y="7226"/>
                  <a:pt x="14312" y="7311"/>
                  <a:pt x="14312" y="7417"/>
                </a:cubicBezTo>
                <a:cubicBezTo>
                  <a:pt x="14312" y="7491"/>
                  <a:pt x="14332" y="7545"/>
                  <a:pt x="14337" y="7615"/>
                </a:cubicBezTo>
                <a:cubicBezTo>
                  <a:pt x="14337" y="7623"/>
                  <a:pt x="14337" y="7632"/>
                  <a:pt x="14337" y="7640"/>
                </a:cubicBezTo>
              </a:path>
              <a:path w="16720" h="2630">
                <a:moveTo>
                  <a:pt x="14486" y="7144"/>
                </a:moveTo>
                <a:cubicBezTo>
                  <a:pt x="14555" y="7144"/>
                  <a:pt x="14637" y="7128"/>
                  <a:pt x="14684" y="7193"/>
                </a:cubicBezTo>
                <a:cubicBezTo>
                  <a:pt x="14746" y="7280"/>
                  <a:pt x="14697" y="7369"/>
                  <a:pt x="14610" y="7417"/>
                </a:cubicBezTo>
                <a:cubicBezTo>
                  <a:pt x="14579" y="7434"/>
                  <a:pt x="14549" y="7436"/>
                  <a:pt x="14511" y="7441"/>
                </a:cubicBezTo>
                <a:cubicBezTo>
                  <a:pt x="14562" y="7391"/>
                  <a:pt x="14606" y="7373"/>
                  <a:pt x="14684" y="7392"/>
                </a:cubicBezTo>
                <a:cubicBezTo>
                  <a:pt x="14758" y="7410"/>
                  <a:pt x="14829" y="7471"/>
                  <a:pt x="14858" y="7541"/>
                </a:cubicBezTo>
                <a:cubicBezTo>
                  <a:pt x="14880" y="7606"/>
                  <a:pt x="14888" y="7621"/>
                  <a:pt x="14883" y="7665"/>
                </a:cubicBezTo>
                <a:cubicBezTo>
                  <a:pt x="14803" y="7700"/>
                  <a:pt x="14746" y="7714"/>
                  <a:pt x="14660" y="7714"/>
                </a:cubicBezTo>
                <a:cubicBezTo>
                  <a:pt x="14585" y="7714"/>
                  <a:pt x="14561" y="7714"/>
                  <a:pt x="14511" y="7714"/>
                </a:cubicBezTo>
              </a:path>
              <a:path w="16720" h="2630">
                <a:moveTo>
                  <a:pt x="13271" y="7764"/>
                </a:moveTo>
                <a:cubicBezTo>
                  <a:pt x="13666" y="7764"/>
                  <a:pt x="14074" y="7792"/>
                  <a:pt x="14461" y="7739"/>
                </a:cubicBezTo>
                <a:cubicBezTo>
                  <a:pt x="14477" y="7737"/>
                  <a:pt x="14654" y="7739"/>
                  <a:pt x="14585" y="7739"/>
                </a:cubicBezTo>
              </a:path>
              <a:path w="16720" h="2630">
                <a:moveTo>
                  <a:pt x="13915" y="7987"/>
                </a:moveTo>
                <a:cubicBezTo>
                  <a:pt x="13951" y="8047"/>
                  <a:pt x="13940" y="8111"/>
                  <a:pt x="13940" y="8186"/>
                </a:cubicBezTo>
                <a:cubicBezTo>
                  <a:pt x="13940" y="8273"/>
                  <a:pt x="13920" y="8439"/>
                  <a:pt x="13965" y="8483"/>
                </a:cubicBezTo>
              </a:path>
              <a:path w="16720" h="2630">
                <a:moveTo>
                  <a:pt x="14114" y="7987"/>
                </a:moveTo>
                <a:cubicBezTo>
                  <a:pt x="14218" y="7931"/>
                  <a:pt x="14269" y="7884"/>
                  <a:pt x="14387" y="7938"/>
                </a:cubicBezTo>
                <a:cubicBezTo>
                  <a:pt x="14457" y="7970"/>
                  <a:pt x="14391" y="8054"/>
                  <a:pt x="14362" y="8086"/>
                </a:cubicBezTo>
                <a:cubicBezTo>
                  <a:pt x="14329" y="8122"/>
                  <a:pt x="14305" y="8136"/>
                  <a:pt x="14263" y="8161"/>
                </a:cubicBezTo>
                <a:cubicBezTo>
                  <a:pt x="14332" y="8119"/>
                  <a:pt x="14388" y="8156"/>
                  <a:pt x="14461" y="8210"/>
                </a:cubicBezTo>
                <a:cubicBezTo>
                  <a:pt x="14495" y="8235"/>
                  <a:pt x="14558" y="8319"/>
                  <a:pt x="14560" y="8334"/>
                </a:cubicBezTo>
                <a:cubicBezTo>
                  <a:pt x="14572" y="8404"/>
                  <a:pt x="14531" y="8473"/>
                  <a:pt x="14461" y="8483"/>
                </a:cubicBezTo>
                <a:cubicBezTo>
                  <a:pt x="14354" y="8498"/>
                  <a:pt x="14311" y="8482"/>
                  <a:pt x="14238" y="8409"/>
                </a:cubicBezTo>
              </a:path>
              <a:path w="16720" h="2630">
                <a:moveTo>
                  <a:pt x="15230" y="7813"/>
                </a:moveTo>
                <a:cubicBezTo>
                  <a:pt x="15210" y="7908"/>
                  <a:pt x="15185" y="7992"/>
                  <a:pt x="15180" y="8086"/>
                </a:cubicBezTo>
                <a:cubicBezTo>
                  <a:pt x="15180" y="8128"/>
                  <a:pt x="15172" y="8144"/>
                  <a:pt x="15205" y="8136"/>
                </a:cubicBezTo>
              </a:path>
              <a:path w="16720" h="2630">
                <a:moveTo>
                  <a:pt x="15453" y="7417"/>
                </a:moveTo>
                <a:cubicBezTo>
                  <a:pt x="15587" y="7411"/>
                  <a:pt x="15716" y="7392"/>
                  <a:pt x="15850" y="7392"/>
                </a:cubicBezTo>
              </a:path>
              <a:path w="16720" h="2630">
                <a:moveTo>
                  <a:pt x="15999" y="7045"/>
                </a:moveTo>
                <a:cubicBezTo>
                  <a:pt x="16091" y="6979"/>
                  <a:pt x="16109" y="6970"/>
                  <a:pt x="16222" y="6970"/>
                </a:cubicBezTo>
                <a:cubicBezTo>
                  <a:pt x="16350" y="6970"/>
                  <a:pt x="16384" y="6994"/>
                  <a:pt x="16346" y="7119"/>
                </a:cubicBezTo>
                <a:cubicBezTo>
                  <a:pt x="16324" y="7189"/>
                  <a:pt x="16267" y="7263"/>
                  <a:pt x="16222" y="7317"/>
                </a:cubicBezTo>
                <a:cubicBezTo>
                  <a:pt x="16166" y="7385"/>
                  <a:pt x="16108" y="7452"/>
                  <a:pt x="16049" y="7516"/>
                </a:cubicBezTo>
                <a:cubicBezTo>
                  <a:pt x="16008" y="7560"/>
                  <a:pt x="15868" y="7660"/>
                  <a:pt x="15925" y="7640"/>
                </a:cubicBezTo>
                <a:cubicBezTo>
                  <a:pt x="16016" y="7609"/>
                  <a:pt x="16057" y="7625"/>
                  <a:pt x="16148" y="7640"/>
                </a:cubicBezTo>
                <a:cubicBezTo>
                  <a:pt x="16245" y="7655"/>
                  <a:pt x="16383" y="7654"/>
                  <a:pt x="16470" y="7615"/>
                </a:cubicBezTo>
                <a:cubicBezTo>
                  <a:pt x="16487" y="7607"/>
                  <a:pt x="16503" y="7598"/>
                  <a:pt x="16520" y="7590"/>
                </a:cubicBezTo>
              </a:path>
              <a:path w="16720" h="2630">
                <a:moveTo>
                  <a:pt x="16644" y="7144"/>
                </a:moveTo>
                <a:cubicBezTo>
                  <a:pt x="16676" y="7249"/>
                  <a:pt x="16649" y="7312"/>
                  <a:pt x="16644" y="7417"/>
                </a:cubicBezTo>
                <a:cubicBezTo>
                  <a:pt x="16640" y="7499"/>
                  <a:pt x="16644" y="7583"/>
                  <a:pt x="16644" y="7665"/>
                </a:cubicBezTo>
                <a:cubicBezTo>
                  <a:pt x="16658" y="7658"/>
                  <a:pt x="16644" y="7577"/>
                  <a:pt x="16644" y="7491"/>
                </a:cubicBezTo>
                <a:cubicBezTo>
                  <a:pt x="16644" y="7421"/>
                  <a:pt x="16605" y="7330"/>
                  <a:pt x="16619" y="7268"/>
                </a:cubicBezTo>
                <a:cubicBezTo>
                  <a:pt x="16631" y="7215"/>
                  <a:pt x="16637" y="7134"/>
                  <a:pt x="16669" y="7094"/>
                </a:cubicBezTo>
                <a:cubicBezTo>
                  <a:pt x="16711" y="7042"/>
                  <a:pt x="16785" y="7021"/>
                  <a:pt x="16842" y="6995"/>
                </a:cubicBezTo>
                <a:cubicBezTo>
                  <a:pt x="16923" y="6958"/>
                  <a:pt x="17025" y="6948"/>
                  <a:pt x="17115" y="6945"/>
                </a:cubicBezTo>
                <a:cubicBezTo>
                  <a:pt x="17219" y="6941"/>
                  <a:pt x="17316" y="6956"/>
                  <a:pt x="17413" y="6921"/>
                </a:cubicBezTo>
              </a:path>
              <a:path w="16720" h="2630">
                <a:moveTo>
                  <a:pt x="17041" y="7119"/>
                </a:moveTo>
                <a:cubicBezTo>
                  <a:pt x="17041" y="7286"/>
                  <a:pt x="17036" y="7464"/>
                  <a:pt x="17066" y="7615"/>
                </a:cubicBezTo>
                <a:cubicBezTo>
                  <a:pt x="17066" y="7657"/>
                  <a:pt x="17066" y="7682"/>
                  <a:pt x="17066" y="7640"/>
                </a:cubicBezTo>
              </a:path>
              <a:path w="16720" h="2630">
                <a:moveTo>
                  <a:pt x="17140" y="7193"/>
                </a:moveTo>
                <a:cubicBezTo>
                  <a:pt x="17237" y="7145"/>
                  <a:pt x="17285" y="7124"/>
                  <a:pt x="17388" y="7169"/>
                </a:cubicBezTo>
                <a:cubicBezTo>
                  <a:pt x="17482" y="7210"/>
                  <a:pt x="17452" y="7221"/>
                  <a:pt x="17438" y="7293"/>
                </a:cubicBezTo>
                <a:cubicBezTo>
                  <a:pt x="17421" y="7382"/>
                  <a:pt x="17382" y="7390"/>
                  <a:pt x="17314" y="7441"/>
                </a:cubicBezTo>
                <a:cubicBezTo>
                  <a:pt x="17284" y="7471"/>
                  <a:pt x="17270" y="7482"/>
                  <a:pt x="17239" y="7491"/>
                </a:cubicBezTo>
                <a:cubicBezTo>
                  <a:pt x="17302" y="7523"/>
                  <a:pt x="17368" y="7511"/>
                  <a:pt x="17438" y="7541"/>
                </a:cubicBezTo>
                <a:cubicBezTo>
                  <a:pt x="17484" y="7561"/>
                  <a:pt x="17557" y="7630"/>
                  <a:pt x="17537" y="7689"/>
                </a:cubicBezTo>
                <a:cubicBezTo>
                  <a:pt x="17526" y="7721"/>
                  <a:pt x="17443" y="7784"/>
                  <a:pt x="17413" y="7789"/>
                </a:cubicBezTo>
                <a:cubicBezTo>
                  <a:pt x="17329" y="7804"/>
                  <a:pt x="17225" y="7789"/>
                  <a:pt x="17140" y="7789"/>
                </a:cubicBezTo>
              </a:path>
              <a:path w="16720" h="2630">
                <a:moveTo>
                  <a:pt x="15974" y="7813"/>
                </a:moveTo>
                <a:cubicBezTo>
                  <a:pt x="16092" y="7813"/>
                  <a:pt x="16206" y="7832"/>
                  <a:pt x="16321" y="7838"/>
                </a:cubicBezTo>
                <a:cubicBezTo>
                  <a:pt x="16547" y="7849"/>
                  <a:pt x="16770" y="7834"/>
                  <a:pt x="16991" y="7813"/>
                </a:cubicBezTo>
                <a:cubicBezTo>
                  <a:pt x="17083" y="7804"/>
                  <a:pt x="17142" y="7830"/>
                  <a:pt x="17214" y="7764"/>
                </a:cubicBezTo>
                <a:cubicBezTo>
                  <a:pt x="17222" y="7756"/>
                  <a:pt x="17231" y="7747"/>
                  <a:pt x="17239" y="7739"/>
                </a:cubicBezTo>
              </a:path>
              <a:path w="16720" h="2630">
                <a:moveTo>
                  <a:pt x="16520" y="8037"/>
                </a:moveTo>
                <a:cubicBezTo>
                  <a:pt x="16501" y="8144"/>
                  <a:pt x="16495" y="8227"/>
                  <a:pt x="16495" y="8334"/>
                </a:cubicBezTo>
                <a:cubicBezTo>
                  <a:pt x="16495" y="8433"/>
                  <a:pt x="16495" y="8533"/>
                  <a:pt x="16495" y="8632"/>
                </a:cubicBezTo>
              </a:path>
              <a:path w="16720" h="2630">
                <a:moveTo>
                  <a:pt x="16669" y="8161"/>
                </a:moveTo>
                <a:cubicBezTo>
                  <a:pt x="16820" y="8098"/>
                  <a:pt x="16822" y="8090"/>
                  <a:pt x="16966" y="8111"/>
                </a:cubicBezTo>
                <a:cubicBezTo>
                  <a:pt x="17055" y="8124"/>
                  <a:pt x="17074" y="8140"/>
                  <a:pt x="17041" y="8235"/>
                </a:cubicBezTo>
                <a:cubicBezTo>
                  <a:pt x="17017" y="8302"/>
                  <a:pt x="16955" y="8330"/>
                  <a:pt x="16892" y="8334"/>
                </a:cubicBezTo>
                <a:cubicBezTo>
                  <a:pt x="16875" y="8334"/>
                  <a:pt x="16859" y="8334"/>
                  <a:pt x="16842" y="8334"/>
                </a:cubicBezTo>
                <a:cubicBezTo>
                  <a:pt x="16786" y="8334"/>
                  <a:pt x="16963" y="8327"/>
                  <a:pt x="16991" y="8334"/>
                </a:cubicBezTo>
                <a:cubicBezTo>
                  <a:pt x="17066" y="8354"/>
                  <a:pt x="17127" y="8448"/>
                  <a:pt x="17165" y="8508"/>
                </a:cubicBezTo>
                <a:cubicBezTo>
                  <a:pt x="17212" y="8583"/>
                  <a:pt x="17228" y="8660"/>
                  <a:pt x="17190" y="8731"/>
                </a:cubicBezTo>
                <a:cubicBezTo>
                  <a:pt x="17182" y="8748"/>
                  <a:pt x="17173" y="8764"/>
                  <a:pt x="17165" y="8781"/>
                </a:cubicBezTo>
                <a:cubicBezTo>
                  <a:pt x="17080" y="8734"/>
                  <a:pt x="17015" y="8724"/>
                  <a:pt x="16942" y="8657"/>
                </a:cubicBezTo>
                <a:cubicBezTo>
                  <a:pt x="16901" y="8619"/>
                  <a:pt x="16890" y="8559"/>
                  <a:pt x="16867" y="8508"/>
                </a:cubicBezTo>
              </a:path>
              <a:path w="16720" h="2630">
                <a:moveTo>
                  <a:pt x="17859" y="7243"/>
                </a:moveTo>
                <a:cubicBezTo>
                  <a:pt x="17913" y="7286"/>
                  <a:pt x="17973" y="7331"/>
                  <a:pt x="18033" y="7367"/>
                </a:cubicBezTo>
                <a:cubicBezTo>
                  <a:pt x="18123" y="7421"/>
                  <a:pt x="18212" y="7496"/>
                  <a:pt x="18306" y="7541"/>
                </a:cubicBezTo>
                <a:cubicBezTo>
                  <a:pt x="18426" y="7598"/>
                  <a:pt x="18543" y="7690"/>
                  <a:pt x="18678" y="7714"/>
                </a:cubicBezTo>
                <a:cubicBezTo>
                  <a:pt x="18695" y="7714"/>
                  <a:pt x="18711" y="7714"/>
                  <a:pt x="18728" y="7714"/>
                </a:cubicBezTo>
                <a:cubicBezTo>
                  <a:pt x="18670" y="7760"/>
                  <a:pt x="18609" y="7786"/>
                  <a:pt x="18554" y="7838"/>
                </a:cubicBezTo>
                <a:cubicBezTo>
                  <a:pt x="18451" y="7936"/>
                  <a:pt x="18333" y="8012"/>
                  <a:pt x="18231" y="8111"/>
                </a:cubicBezTo>
                <a:cubicBezTo>
                  <a:pt x="18148" y="8191"/>
                  <a:pt x="18077" y="8267"/>
                  <a:pt x="17983" y="833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Ink 7"/>
          <p:cNvSpPr/>
          <p:nvPr/>
        </p:nvSpPr>
        <p:spPr>
          <a:xfrm>
            <a:off x="1384200" y="3544920"/>
            <a:ext cx="357120" cy="285840"/>
          </a:xfrm>
          <a:custGeom>
            <a:avLst/>
            <a:gdLst/>
            <a:ahLst/>
            <a:rect l="l" t="t" r="r" b="b"/>
            <a:pathLst>
              <a:path w="993" h="795">
                <a:moveTo>
                  <a:pt x="3845" y="9847"/>
                </a:moveTo>
                <a:cubicBezTo>
                  <a:pt x="3878" y="9921"/>
                  <a:pt x="3897" y="9995"/>
                  <a:pt x="3919" y="10071"/>
                </a:cubicBezTo>
                <a:cubicBezTo>
                  <a:pt x="3948" y="10171"/>
                  <a:pt x="3960" y="10272"/>
                  <a:pt x="3994" y="10368"/>
                </a:cubicBezTo>
                <a:cubicBezTo>
                  <a:pt x="4018" y="10435"/>
                  <a:pt x="4044" y="10501"/>
                  <a:pt x="4068" y="10567"/>
                </a:cubicBezTo>
                <a:cubicBezTo>
                  <a:pt x="4076" y="10592"/>
                  <a:pt x="4085" y="10616"/>
                  <a:pt x="4093" y="10641"/>
                </a:cubicBezTo>
                <a:cubicBezTo>
                  <a:pt x="4126" y="10541"/>
                  <a:pt x="4132" y="10441"/>
                  <a:pt x="4167" y="10344"/>
                </a:cubicBezTo>
                <a:cubicBezTo>
                  <a:pt x="4194" y="10270"/>
                  <a:pt x="4207" y="10192"/>
                  <a:pt x="4242" y="10120"/>
                </a:cubicBezTo>
                <a:cubicBezTo>
                  <a:pt x="4269" y="10063"/>
                  <a:pt x="4306" y="9974"/>
                  <a:pt x="4341" y="9922"/>
                </a:cubicBezTo>
                <a:cubicBezTo>
                  <a:pt x="4361" y="9893"/>
                  <a:pt x="4416" y="9859"/>
                  <a:pt x="4440" y="9847"/>
                </a:cubicBezTo>
              </a:path>
              <a:path w="993" h="795">
                <a:moveTo>
                  <a:pt x="4589" y="10195"/>
                </a:moveTo>
                <a:cubicBezTo>
                  <a:pt x="4692" y="10195"/>
                  <a:pt x="4744" y="10211"/>
                  <a:pt x="4837" y="10220"/>
                </a:cubicBezTo>
              </a:path>
              <a:path w="993" h="795">
                <a:moveTo>
                  <a:pt x="4564" y="10344"/>
                </a:moveTo>
                <a:cubicBezTo>
                  <a:pt x="4655" y="10370"/>
                  <a:pt x="4740" y="10368"/>
                  <a:pt x="4837" y="1036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Ink 8"/>
          <p:cNvSpPr/>
          <p:nvPr/>
        </p:nvSpPr>
        <p:spPr>
          <a:xfrm>
            <a:off x="1938240" y="3517920"/>
            <a:ext cx="1044720" cy="438120"/>
          </a:xfrm>
          <a:custGeom>
            <a:avLst/>
            <a:gdLst/>
            <a:ahLst/>
            <a:rect l="l" t="t" r="r" b="b"/>
            <a:pathLst>
              <a:path w="2903" h="1216">
                <a:moveTo>
                  <a:pt x="5854" y="9897"/>
                </a:moveTo>
                <a:cubicBezTo>
                  <a:pt x="5815" y="9936"/>
                  <a:pt x="5824" y="9989"/>
                  <a:pt x="5755" y="10046"/>
                </a:cubicBezTo>
                <a:cubicBezTo>
                  <a:pt x="5699" y="10093"/>
                  <a:pt x="5560" y="10155"/>
                  <a:pt x="5531" y="10195"/>
                </a:cubicBezTo>
                <a:cubicBezTo>
                  <a:pt x="5477" y="10270"/>
                  <a:pt x="5439" y="10263"/>
                  <a:pt x="5383" y="10344"/>
                </a:cubicBezTo>
                <a:cubicBezTo>
                  <a:pt x="5463" y="10354"/>
                  <a:pt x="5518" y="10396"/>
                  <a:pt x="5581" y="10443"/>
                </a:cubicBezTo>
                <a:cubicBezTo>
                  <a:pt x="5660" y="10502"/>
                  <a:pt x="5739" y="10600"/>
                  <a:pt x="5829" y="10641"/>
                </a:cubicBezTo>
                <a:cubicBezTo>
                  <a:pt x="5887" y="10667"/>
                  <a:pt x="5906" y="10710"/>
                  <a:pt x="5978" y="10716"/>
                </a:cubicBezTo>
                <a:cubicBezTo>
                  <a:pt x="5986" y="10716"/>
                  <a:pt x="5995" y="10716"/>
                  <a:pt x="6003" y="10716"/>
                </a:cubicBezTo>
              </a:path>
              <a:path w="2903" h="1216">
                <a:moveTo>
                  <a:pt x="6226" y="9996"/>
                </a:moveTo>
                <a:cubicBezTo>
                  <a:pt x="6196" y="10087"/>
                  <a:pt x="6203" y="10175"/>
                  <a:pt x="6176" y="10269"/>
                </a:cubicBezTo>
                <a:cubicBezTo>
                  <a:pt x="6155" y="10340"/>
                  <a:pt x="6137" y="10416"/>
                  <a:pt x="6152" y="10492"/>
                </a:cubicBezTo>
                <a:cubicBezTo>
                  <a:pt x="6163" y="10548"/>
                  <a:pt x="6272" y="10694"/>
                  <a:pt x="6325" y="10716"/>
                </a:cubicBezTo>
                <a:cubicBezTo>
                  <a:pt x="6385" y="10741"/>
                  <a:pt x="6488" y="10736"/>
                  <a:pt x="6548" y="10716"/>
                </a:cubicBezTo>
                <a:cubicBezTo>
                  <a:pt x="6614" y="10694"/>
                  <a:pt x="6661" y="10630"/>
                  <a:pt x="6648" y="10567"/>
                </a:cubicBezTo>
                <a:cubicBezTo>
                  <a:pt x="6633" y="10498"/>
                  <a:pt x="6563" y="10467"/>
                  <a:pt x="6499" y="10492"/>
                </a:cubicBezTo>
                <a:cubicBezTo>
                  <a:pt x="6459" y="10507"/>
                  <a:pt x="6411" y="10649"/>
                  <a:pt x="6424" y="10691"/>
                </a:cubicBezTo>
                <a:cubicBezTo>
                  <a:pt x="6439" y="10738"/>
                  <a:pt x="6460" y="10776"/>
                  <a:pt x="6499" y="10815"/>
                </a:cubicBezTo>
              </a:path>
              <a:path w="2903" h="1216">
                <a:moveTo>
                  <a:pt x="6921" y="10716"/>
                </a:moveTo>
                <a:cubicBezTo>
                  <a:pt x="6916" y="10817"/>
                  <a:pt x="6896" y="10893"/>
                  <a:pt x="6896" y="10988"/>
                </a:cubicBezTo>
              </a:path>
              <a:path w="2903" h="1216">
                <a:moveTo>
                  <a:pt x="7491" y="10120"/>
                </a:moveTo>
                <a:cubicBezTo>
                  <a:pt x="7437" y="10023"/>
                  <a:pt x="7430" y="10046"/>
                  <a:pt x="7317" y="10046"/>
                </a:cubicBezTo>
                <a:cubicBezTo>
                  <a:pt x="7239" y="10046"/>
                  <a:pt x="7166" y="10040"/>
                  <a:pt x="7119" y="10120"/>
                </a:cubicBezTo>
                <a:cubicBezTo>
                  <a:pt x="7070" y="10203"/>
                  <a:pt x="7124" y="10230"/>
                  <a:pt x="7169" y="10294"/>
                </a:cubicBezTo>
                <a:cubicBezTo>
                  <a:pt x="7228" y="10378"/>
                  <a:pt x="7294" y="10444"/>
                  <a:pt x="7367" y="10517"/>
                </a:cubicBezTo>
                <a:cubicBezTo>
                  <a:pt x="7410" y="10560"/>
                  <a:pt x="7476" y="10677"/>
                  <a:pt x="7466" y="10740"/>
                </a:cubicBezTo>
                <a:cubicBezTo>
                  <a:pt x="7458" y="10748"/>
                  <a:pt x="7449" y="10757"/>
                  <a:pt x="7441" y="10765"/>
                </a:cubicBezTo>
                <a:cubicBezTo>
                  <a:pt x="7303" y="10748"/>
                  <a:pt x="7370" y="10731"/>
                  <a:pt x="7317" y="10641"/>
                </a:cubicBezTo>
                <a:cubicBezTo>
                  <a:pt x="7276" y="10571"/>
                  <a:pt x="7231" y="10512"/>
                  <a:pt x="7317" y="10418"/>
                </a:cubicBezTo>
                <a:cubicBezTo>
                  <a:pt x="7357" y="10374"/>
                  <a:pt x="7397" y="10343"/>
                  <a:pt x="7441" y="10294"/>
                </a:cubicBezTo>
                <a:cubicBezTo>
                  <a:pt x="7449" y="10286"/>
                  <a:pt x="7458" y="10277"/>
                  <a:pt x="7466" y="10269"/>
                </a:cubicBezTo>
              </a:path>
              <a:path w="2903" h="1216">
                <a:moveTo>
                  <a:pt x="7565" y="9773"/>
                </a:moveTo>
                <a:cubicBezTo>
                  <a:pt x="7607" y="9823"/>
                  <a:pt x="7653" y="9874"/>
                  <a:pt x="7714" y="9922"/>
                </a:cubicBezTo>
                <a:cubicBezTo>
                  <a:pt x="7804" y="9993"/>
                  <a:pt x="7957" y="10146"/>
                  <a:pt x="8037" y="10195"/>
                </a:cubicBezTo>
                <a:cubicBezTo>
                  <a:pt x="8085" y="10224"/>
                  <a:pt x="8182" y="10319"/>
                  <a:pt x="8235" y="10344"/>
                </a:cubicBezTo>
                <a:cubicBezTo>
                  <a:pt x="8252" y="10344"/>
                  <a:pt x="8268" y="10344"/>
                  <a:pt x="8285" y="10344"/>
                </a:cubicBezTo>
                <a:cubicBezTo>
                  <a:pt x="8196" y="10398"/>
                  <a:pt x="8107" y="10491"/>
                  <a:pt x="8037" y="10567"/>
                </a:cubicBezTo>
                <a:cubicBezTo>
                  <a:pt x="7931" y="10683"/>
                  <a:pt x="7834" y="10792"/>
                  <a:pt x="7714" y="1088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Ink 9"/>
          <p:cNvSpPr/>
          <p:nvPr/>
        </p:nvSpPr>
        <p:spPr>
          <a:xfrm>
            <a:off x="795240" y="3963960"/>
            <a:ext cx="3419640" cy="563760"/>
          </a:xfrm>
          <a:custGeom>
            <a:avLst/>
            <a:gdLst/>
            <a:ahLst/>
            <a:rect l="l" t="t" r="r" b="b"/>
            <a:pathLst>
              <a:path w="9501" h="1564">
                <a:moveTo>
                  <a:pt x="2232" y="11038"/>
                </a:moveTo>
                <a:cubicBezTo>
                  <a:pt x="2277" y="11202"/>
                  <a:pt x="2236" y="11364"/>
                  <a:pt x="2232" y="11534"/>
                </a:cubicBezTo>
                <a:cubicBezTo>
                  <a:pt x="2229" y="11662"/>
                  <a:pt x="2223" y="11785"/>
                  <a:pt x="2208" y="11906"/>
                </a:cubicBezTo>
                <a:cubicBezTo>
                  <a:pt x="2208" y="11972"/>
                  <a:pt x="2208" y="11989"/>
                  <a:pt x="2208" y="12030"/>
                </a:cubicBezTo>
              </a:path>
              <a:path w="9501" h="1564">
                <a:moveTo>
                  <a:pt x="2530" y="11013"/>
                </a:moveTo>
                <a:cubicBezTo>
                  <a:pt x="2530" y="11151"/>
                  <a:pt x="2544" y="11275"/>
                  <a:pt x="2555" y="11410"/>
                </a:cubicBezTo>
                <a:cubicBezTo>
                  <a:pt x="2565" y="11535"/>
                  <a:pt x="2570" y="11661"/>
                  <a:pt x="2604" y="11782"/>
                </a:cubicBezTo>
                <a:cubicBezTo>
                  <a:pt x="2609" y="11800"/>
                  <a:pt x="2673" y="12009"/>
                  <a:pt x="2679" y="12005"/>
                </a:cubicBezTo>
                <a:cubicBezTo>
                  <a:pt x="2687" y="11989"/>
                  <a:pt x="2696" y="11972"/>
                  <a:pt x="2704" y="11956"/>
                </a:cubicBezTo>
              </a:path>
              <a:path w="9501" h="1564">
                <a:moveTo>
                  <a:pt x="2927" y="11881"/>
                </a:moveTo>
                <a:cubicBezTo>
                  <a:pt x="2954" y="11990"/>
                  <a:pt x="2978" y="12033"/>
                  <a:pt x="3026" y="12129"/>
                </a:cubicBezTo>
                <a:cubicBezTo>
                  <a:pt x="3070" y="12075"/>
                  <a:pt x="3114" y="12003"/>
                  <a:pt x="3125" y="11931"/>
                </a:cubicBezTo>
                <a:cubicBezTo>
                  <a:pt x="3140" y="11833"/>
                  <a:pt x="3181" y="11754"/>
                  <a:pt x="3200" y="11658"/>
                </a:cubicBezTo>
                <a:cubicBezTo>
                  <a:pt x="3213" y="11590"/>
                  <a:pt x="3225" y="11532"/>
                  <a:pt x="3225" y="11460"/>
                </a:cubicBezTo>
              </a:path>
              <a:path w="9501" h="1564">
                <a:moveTo>
                  <a:pt x="3547" y="11261"/>
                </a:moveTo>
                <a:cubicBezTo>
                  <a:pt x="3526" y="11436"/>
                  <a:pt x="3522" y="11605"/>
                  <a:pt x="3522" y="11782"/>
                </a:cubicBezTo>
                <a:cubicBezTo>
                  <a:pt x="3522" y="11880"/>
                  <a:pt x="3517" y="11988"/>
                  <a:pt x="3547" y="12080"/>
                </a:cubicBezTo>
                <a:cubicBezTo>
                  <a:pt x="3589" y="12211"/>
                  <a:pt x="3595" y="12050"/>
                  <a:pt x="3597" y="12030"/>
                </a:cubicBezTo>
              </a:path>
              <a:path w="9501" h="1564">
                <a:moveTo>
                  <a:pt x="3795" y="11112"/>
                </a:moveTo>
                <a:cubicBezTo>
                  <a:pt x="3826" y="11196"/>
                  <a:pt x="3820" y="11270"/>
                  <a:pt x="3820" y="11361"/>
                </a:cubicBezTo>
                <a:cubicBezTo>
                  <a:pt x="3820" y="11516"/>
                  <a:pt x="3816" y="11681"/>
                  <a:pt x="3845" y="11832"/>
                </a:cubicBezTo>
                <a:cubicBezTo>
                  <a:pt x="3863" y="11927"/>
                  <a:pt x="3879" y="12015"/>
                  <a:pt x="3919" y="12105"/>
                </a:cubicBezTo>
              </a:path>
              <a:path w="9501" h="1564">
                <a:moveTo>
                  <a:pt x="4093" y="11683"/>
                </a:moveTo>
                <a:cubicBezTo>
                  <a:pt x="4160" y="11661"/>
                  <a:pt x="4267" y="11604"/>
                  <a:pt x="4341" y="11633"/>
                </a:cubicBezTo>
                <a:cubicBezTo>
                  <a:pt x="4369" y="11661"/>
                  <a:pt x="4382" y="11670"/>
                  <a:pt x="4415" y="11658"/>
                </a:cubicBezTo>
              </a:path>
              <a:path w="9501" h="1564">
                <a:moveTo>
                  <a:pt x="4118" y="11906"/>
                </a:moveTo>
                <a:cubicBezTo>
                  <a:pt x="4262" y="11906"/>
                  <a:pt x="4313" y="11902"/>
                  <a:pt x="4440" y="11857"/>
                </a:cubicBezTo>
              </a:path>
              <a:path w="9501" h="1564">
                <a:moveTo>
                  <a:pt x="4663" y="11410"/>
                </a:moveTo>
                <a:cubicBezTo>
                  <a:pt x="4663" y="11524"/>
                  <a:pt x="4684" y="11622"/>
                  <a:pt x="4688" y="11733"/>
                </a:cubicBezTo>
                <a:cubicBezTo>
                  <a:pt x="4692" y="11851"/>
                  <a:pt x="4727" y="11965"/>
                  <a:pt x="4738" y="12080"/>
                </a:cubicBezTo>
                <a:cubicBezTo>
                  <a:pt x="4748" y="12189"/>
                  <a:pt x="4777" y="12295"/>
                  <a:pt x="4787" y="12402"/>
                </a:cubicBezTo>
                <a:cubicBezTo>
                  <a:pt x="4799" y="12531"/>
                  <a:pt x="4787" y="12492"/>
                  <a:pt x="4787" y="12378"/>
                </a:cubicBezTo>
                <a:cubicBezTo>
                  <a:pt x="4787" y="12234"/>
                  <a:pt x="4833" y="12099"/>
                  <a:pt x="4837" y="11956"/>
                </a:cubicBezTo>
                <a:cubicBezTo>
                  <a:pt x="4842" y="11761"/>
                  <a:pt x="4830" y="11574"/>
                  <a:pt x="4812" y="11385"/>
                </a:cubicBezTo>
                <a:cubicBezTo>
                  <a:pt x="4807" y="11328"/>
                  <a:pt x="4797" y="11234"/>
                  <a:pt x="4837" y="11187"/>
                </a:cubicBezTo>
                <a:cubicBezTo>
                  <a:pt x="4894" y="11120"/>
                  <a:pt x="4995" y="11184"/>
                  <a:pt x="5060" y="11187"/>
                </a:cubicBezTo>
                <a:cubicBezTo>
                  <a:pt x="5198" y="11194"/>
                  <a:pt x="5319" y="11242"/>
                  <a:pt x="5457" y="11261"/>
                </a:cubicBezTo>
                <a:cubicBezTo>
                  <a:pt x="5673" y="11291"/>
                  <a:pt x="5886" y="11325"/>
                  <a:pt x="6102" y="11361"/>
                </a:cubicBezTo>
                <a:cubicBezTo>
                  <a:pt x="6292" y="11393"/>
                  <a:pt x="6482" y="11424"/>
                  <a:pt x="6672" y="11460"/>
                </a:cubicBezTo>
                <a:cubicBezTo>
                  <a:pt x="6829" y="11490"/>
                  <a:pt x="6990" y="11506"/>
                  <a:pt x="7144" y="11534"/>
                </a:cubicBezTo>
                <a:cubicBezTo>
                  <a:pt x="7235" y="11550"/>
                  <a:pt x="7331" y="11554"/>
                  <a:pt x="7417" y="11584"/>
                </a:cubicBezTo>
                <a:cubicBezTo>
                  <a:pt x="7517" y="11619"/>
                  <a:pt x="7428" y="11580"/>
                  <a:pt x="7392" y="11609"/>
                </a:cubicBezTo>
              </a:path>
              <a:path w="9501" h="1564">
                <a:moveTo>
                  <a:pt x="5234" y="11683"/>
                </a:moveTo>
                <a:cubicBezTo>
                  <a:pt x="5180" y="11820"/>
                  <a:pt x="5116" y="11958"/>
                  <a:pt x="5110" y="12105"/>
                </a:cubicBezTo>
                <a:cubicBezTo>
                  <a:pt x="5106" y="12208"/>
                  <a:pt x="5096" y="12307"/>
                  <a:pt x="5184" y="12378"/>
                </a:cubicBezTo>
                <a:cubicBezTo>
                  <a:pt x="5258" y="12439"/>
                  <a:pt x="5310" y="12472"/>
                  <a:pt x="5407" y="12477"/>
                </a:cubicBezTo>
                <a:cubicBezTo>
                  <a:pt x="5465" y="12480"/>
                  <a:pt x="5545" y="12452"/>
                  <a:pt x="5581" y="12402"/>
                </a:cubicBezTo>
                <a:cubicBezTo>
                  <a:pt x="5639" y="12322"/>
                  <a:pt x="5666" y="12249"/>
                  <a:pt x="5631" y="12154"/>
                </a:cubicBezTo>
                <a:cubicBezTo>
                  <a:pt x="5617" y="12115"/>
                  <a:pt x="5546" y="12067"/>
                  <a:pt x="5507" y="12080"/>
                </a:cubicBezTo>
                <a:cubicBezTo>
                  <a:pt x="5465" y="12094"/>
                  <a:pt x="5414" y="12192"/>
                  <a:pt x="5407" y="12229"/>
                </a:cubicBezTo>
                <a:cubicBezTo>
                  <a:pt x="5392" y="12312"/>
                  <a:pt x="5412" y="12407"/>
                  <a:pt x="5457" y="12477"/>
                </a:cubicBezTo>
                <a:cubicBezTo>
                  <a:pt x="5482" y="12502"/>
                  <a:pt x="5490" y="12510"/>
                  <a:pt x="5507" y="12526"/>
                </a:cubicBezTo>
              </a:path>
              <a:path w="9501" h="1564">
                <a:moveTo>
                  <a:pt x="5730" y="11559"/>
                </a:moveTo>
                <a:cubicBezTo>
                  <a:pt x="5798" y="11529"/>
                  <a:pt x="5914" y="11460"/>
                  <a:pt x="5953" y="11584"/>
                </a:cubicBezTo>
                <a:cubicBezTo>
                  <a:pt x="5985" y="11686"/>
                  <a:pt x="5889" y="11712"/>
                  <a:pt x="5829" y="11757"/>
                </a:cubicBezTo>
                <a:cubicBezTo>
                  <a:pt x="5788" y="11787"/>
                  <a:pt x="5729" y="11831"/>
                  <a:pt x="5779" y="11881"/>
                </a:cubicBezTo>
                <a:cubicBezTo>
                  <a:pt x="5835" y="11937"/>
                  <a:pt x="5935" y="11933"/>
                  <a:pt x="6003" y="11956"/>
                </a:cubicBezTo>
              </a:path>
              <a:path w="9501" h="1564">
                <a:moveTo>
                  <a:pt x="6350" y="11782"/>
                </a:moveTo>
                <a:cubicBezTo>
                  <a:pt x="6309" y="12005"/>
                  <a:pt x="6316" y="12059"/>
                  <a:pt x="6325" y="12254"/>
                </a:cubicBezTo>
                <a:cubicBezTo>
                  <a:pt x="6325" y="12303"/>
                  <a:pt x="6325" y="12320"/>
                  <a:pt x="6325" y="12353"/>
                </a:cubicBezTo>
              </a:path>
              <a:path w="9501" h="1564">
                <a:moveTo>
                  <a:pt x="6152" y="11981"/>
                </a:moveTo>
                <a:cubicBezTo>
                  <a:pt x="6272" y="11965"/>
                  <a:pt x="6332" y="11995"/>
                  <a:pt x="6449" y="12005"/>
                </a:cubicBezTo>
              </a:path>
              <a:path w="9501" h="1564">
                <a:moveTo>
                  <a:pt x="6970" y="11757"/>
                </a:moveTo>
                <a:cubicBezTo>
                  <a:pt x="6865" y="11682"/>
                  <a:pt x="6842" y="11658"/>
                  <a:pt x="6722" y="11658"/>
                </a:cubicBezTo>
                <a:cubicBezTo>
                  <a:pt x="6649" y="11658"/>
                  <a:pt x="6622" y="11708"/>
                  <a:pt x="6648" y="11782"/>
                </a:cubicBezTo>
                <a:cubicBezTo>
                  <a:pt x="6683" y="11881"/>
                  <a:pt x="6779" y="11999"/>
                  <a:pt x="6846" y="12080"/>
                </a:cubicBezTo>
                <a:cubicBezTo>
                  <a:pt x="6913" y="12161"/>
                  <a:pt x="6957" y="12229"/>
                  <a:pt x="6995" y="12328"/>
                </a:cubicBezTo>
                <a:cubicBezTo>
                  <a:pt x="7005" y="12354"/>
                  <a:pt x="7056" y="12526"/>
                  <a:pt x="6970" y="12526"/>
                </a:cubicBezTo>
                <a:cubicBezTo>
                  <a:pt x="6894" y="12526"/>
                  <a:pt x="6793" y="12446"/>
                  <a:pt x="6772" y="12378"/>
                </a:cubicBezTo>
                <a:cubicBezTo>
                  <a:pt x="6753" y="12315"/>
                  <a:pt x="6776" y="12235"/>
                  <a:pt x="6796" y="12179"/>
                </a:cubicBezTo>
                <a:cubicBezTo>
                  <a:pt x="6817" y="12117"/>
                  <a:pt x="6842" y="12064"/>
                  <a:pt x="6871" y="12005"/>
                </a:cubicBezTo>
              </a:path>
              <a:path w="9501" h="1564">
                <a:moveTo>
                  <a:pt x="6995" y="11584"/>
                </a:moveTo>
                <a:cubicBezTo>
                  <a:pt x="7063" y="11545"/>
                  <a:pt x="7092" y="11511"/>
                  <a:pt x="7169" y="11559"/>
                </a:cubicBezTo>
                <a:cubicBezTo>
                  <a:pt x="7233" y="11599"/>
                  <a:pt x="7293" y="11650"/>
                  <a:pt x="7293" y="11733"/>
                </a:cubicBezTo>
                <a:cubicBezTo>
                  <a:pt x="7293" y="11783"/>
                  <a:pt x="7165" y="11814"/>
                  <a:pt x="7169" y="11881"/>
                </a:cubicBezTo>
                <a:cubicBezTo>
                  <a:pt x="7172" y="11942"/>
                  <a:pt x="7249" y="11982"/>
                  <a:pt x="7293" y="12005"/>
                </a:cubicBezTo>
                <a:cubicBezTo>
                  <a:pt x="7348" y="12033"/>
                  <a:pt x="7371" y="12041"/>
                  <a:pt x="7417" y="12030"/>
                </a:cubicBezTo>
              </a:path>
              <a:path w="9501" h="1564">
                <a:moveTo>
                  <a:pt x="7665" y="11981"/>
                </a:moveTo>
                <a:cubicBezTo>
                  <a:pt x="7731" y="11998"/>
                  <a:pt x="7830" y="12003"/>
                  <a:pt x="7888" y="12030"/>
                </a:cubicBezTo>
                <a:cubicBezTo>
                  <a:pt x="7896" y="12038"/>
                  <a:pt x="7905" y="12047"/>
                  <a:pt x="7913" y="12055"/>
                </a:cubicBezTo>
              </a:path>
              <a:path w="9501" h="1564">
                <a:moveTo>
                  <a:pt x="7640" y="12154"/>
                </a:moveTo>
                <a:cubicBezTo>
                  <a:pt x="7702" y="12204"/>
                  <a:pt x="7765" y="12223"/>
                  <a:pt x="7838" y="12254"/>
                </a:cubicBezTo>
                <a:cubicBezTo>
                  <a:pt x="7895" y="12281"/>
                  <a:pt x="7919" y="12292"/>
                  <a:pt x="7962" y="12303"/>
                </a:cubicBezTo>
              </a:path>
              <a:path w="9501" h="1564">
                <a:moveTo>
                  <a:pt x="8260" y="11906"/>
                </a:moveTo>
                <a:cubicBezTo>
                  <a:pt x="8260" y="12043"/>
                  <a:pt x="8270" y="12171"/>
                  <a:pt x="8285" y="12303"/>
                </a:cubicBezTo>
                <a:cubicBezTo>
                  <a:pt x="8294" y="12379"/>
                  <a:pt x="8275" y="12594"/>
                  <a:pt x="8310" y="12526"/>
                </a:cubicBezTo>
                <a:cubicBezTo>
                  <a:pt x="8348" y="12453"/>
                  <a:pt x="8288" y="12307"/>
                  <a:pt x="8285" y="12229"/>
                </a:cubicBezTo>
                <a:cubicBezTo>
                  <a:pt x="8281" y="12121"/>
                  <a:pt x="8310" y="12017"/>
                  <a:pt x="8310" y="11906"/>
                </a:cubicBezTo>
                <a:cubicBezTo>
                  <a:pt x="8310" y="11811"/>
                  <a:pt x="8326" y="11696"/>
                  <a:pt x="8359" y="11609"/>
                </a:cubicBezTo>
                <a:cubicBezTo>
                  <a:pt x="8386" y="11540"/>
                  <a:pt x="8416" y="11517"/>
                  <a:pt x="8483" y="11509"/>
                </a:cubicBezTo>
                <a:cubicBezTo>
                  <a:pt x="8579" y="11498"/>
                  <a:pt x="8665" y="11514"/>
                  <a:pt x="8756" y="11534"/>
                </a:cubicBezTo>
                <a:cubicBezTo>
                  <a:pt x="8915" y="11569"/>
                  <a:pt x="9069" y="11578"/>
                  <a:pt x="9227" y="11609"/>
                </a:cubicBezTo>
                <a:cubicBezTo>
                  <a:pt x="9361" y="11635"/>
                  <a:pt x="9488" y="11633"/>
                  <a:pt x="9624" y="11633"/>
                </a:cubicBezTo>
                <a:cubicBezTo>
                  <a:pt x="9674" y="11633"/>
                  <a:pt x="9797" y="11653"/>
                  <a:pt x="9823" y="11584"/>
                </a:cubicBezTo>
                <a:cubicBezTo>
                  <a:pt x="9815" y="11567"/>
                  <a:pt x="9806" y="11551"/>
                  <a:pt x="9798" y="11534"/>
                </a:cubicBezTo>
              </a:path>
              <a:path w="9501" h="1564">
                <a:moveTo>
                  <a:pt x="8806" y="11931"/>
                </a:moveTo>
                <a:cubicBezTo>
                  <a:pt x="8806" y="12056"/>
                  <a:pt x="8825" y="12157"/>
                  <a:pt x="8830" y="12278"/>
                </a:cubicBezTo>
                <a:cubicBezTo>
                  <a:pt x="8833" y="12352"/>
                  <a:pt x="8862" y="12416"/>
                  <a:pt x="8880" y="12477"/>
                </a:cubicBezTo>
                <a:cubicBezTo>
                  <a:pt x="8880" y="12485"/>
                  <a:pt x="8880" y="12494"/>
                  <a:pt x="8880" y="12502"/>
                </a:cubicBezTo>
              </a:path>
              <a:path w="9501" h="1564">
                <a:moveTo>
                  <a:pt x="9103" y="11881"/>
                </a:moveTo>
                <a:cubicBezTo>
                  <a:pt x="9143" y="11947"/>
                  <a:pt x="9107" y="11975"/>
                  <a:pt x="9103" y="12055"/>
                </a:cubicBezTo>
                <a:cubicBezTo>
                  <a:pt x="9099" y="12138"/>
                  <a:pt x="9117" y="12199"/>
                  <a:pt x="9128" y="12278"/>
                </a:cubicBezTo>
                <a:cubicBezTo>
                  <a:pt x="9135" y="12328"/>
                  <a:pt x="9183" y="12415"/>
                  <a:pt x="9227" y="12452"/>
                </a:cubicBezTo>
                <a:cubicBezTo>
                  <a:pt x="9284" y="12501"/>
                  <a:pt x="9382" y="12487"/>
                  <a:pt x="9426" y="12427"/>
                </a:cubicBezTo>
                <a:cubicBezTo>
                  <a:pt x="9481" y="12352"/>
                  <a:pt x="9475" y="12266"/>
                  <a:pt x="9475" y="12179"/>
                </a:cubicBezTo>
                <a:cubicBezTo>
                  <a:pt x="9475" y="12101"/>
                  <a:pt x="9440" y="11999"/>
                  <a:pt x="9401" y="11931"/>
                </a:cubicBezTo>
                <a:cubicBezTo>
                  <a:pt x="9359" y="11858"/>
                  <a:pt x="9267" y="11860"/>
                  <a:pt x="9203" y="11881"/>
                </a:cubicBezTo>
                <a:cubicBezTo>
                  <a:pt x="9117" y="11910"/>
                  <a:pt x="9040" y="12013"/>
                  <a:pt x="9054" y="12105"/>
                </a:cubicBezTo>
                <a:cubicBezTo>
                  <a:pt x="9061" y="12148"/>
                  <a:pt x="9102" y="12196"/>
                  <a:pt x="9128" y="12229"/>
                </a:cubicBezTo>
              </a:path>
              <a:path w="9501" h="1564">
                <a:moveTo>
                  <a:pt x="9624" y="11981"/>
                </a:moveTo>
                <a:cubicBezTo>
                  <a:pt x="9595" y="12061"/>
                  <a:pt x="9560" y="12145"/>
                  <a:pt x="9550" y="12229"/>
                </a:cubicBezTo>
                <a:cubicBezTo>
                  <a:pt x="9538" y="12336"/>
                  <a:pt x="9597" y="12373"/>
                  <a:pt x="9649" y="12452"/>
                </a:cubicBezTo>
                <a:cubicBezTo>
                  <a:pt x="9706" y="12538"/>
                  <a:pt x="9747" y="12540"/>
                  <a:pt x="9847" y="12502"/>
                </a:cubicBezTo>
                <a:cubicBezTo>
                  <a:pt x="9927" y="12472"/>
                  <a:pt x="9960" y="12289"/>
                  <a:pt x="9947" y="12204"/>
                </a:cubicBezTo>
                <a:cubicBezTo>
                  <a:pt x="9935" y="12124"/>
                  <a:pt x="9884" y="11988"/>
                  <a:pt x="9823" y="11931"/>
                </a:cubicBezTo>
                <a:cubicBezTo>
                  <a:pt x="9752" y="11864"/>
                  <a:pt x="9680" y="11884"/>
                  <a:pt x="9599" y="11906"/>
                </a:cubicBezTo>
                <a:cubicBezTo>
                  <a:pt x="9582" y="12003"/>
                  <a:pt x="9586" y="12026"/>
                  <a:pt x="9649" y="12105"/>
                </a:cubicBezTo>
              </a:path>
              <a:path w="9501" h="1564">
                <a:moveTo>
                  <a:pt x="10244" y="12105"/>
                </a:moveTo>
                <a:cubicBezTo>
                  <a:pt x="10350" y="12090"/>
                  <a:pt x="10437" y="12080"/>
                  <a:pt x="10542" y="12080"/>
                </a:cubicBezTo>
              </a:path>
              <a:path w="9501" h="1564">
                <a:moveTo>
                  <a:pt x="10294" y="12303"/>
                </a:moveTo>
                <a:cubicBezTo>
                  <a:pt x="10403" y="12358"/>
                  <a:pt x="10448" y="12378"/>
                  <a:pt x="10567" y="12378"/>
                </a:cubicBezTo>
              </a:path>
              <a:path w="9501" h="1564">
                <a:moveTo>
                  <a:pt x="10889" y="11832"/>
                </a:moveTo>
                <a:cubicBezTo>
                  <a:pt x="10863" y="11934"/>
                  <a:pt x="10864" y="12023"/>
                  <a:pt x="10864" y="12129"/>
                </a:cubicBezTo>
                <a:cubicBezTo>
                  <a:pt x="10864" y="12237"/>
                  <a:pt x="10893" y="12302"/>
                  <a:pt x="10914" y="12402"/>
                </a:cubicBezTo>
                <a:cubicBezTo>
                  <a:pt x="10933" y="12490"/>
                  <a:pt x="10919" y="12528"/>
                  <a:pt x="11013" y="12502"/>
                </a:cubicBezTo>
              </a:path>
              <a:path w="9501" h="1564">
                <a:moveTo>
                  <a:pt x="11261" y="11956"/>
                </a:moveTo>
                <a:cubicBezTo>
                  <a:pt x="11236" y="12044"/>
                  <a:pt x="11194" y="12134"/>
                  <a:pt x="11212" y="12229"/>
                </a:cubicBezTo>
                <a:cubicBezTo>
                  <a:pt x="11233" y="12337"/>
                  <a:pt x="11291" y="12420"/>
                  <a:pt x="11361" y="12502"/>
                </a:cubicBezTo>
                <a:cubicBezTo>
                  <a:pt x="11426" y="12578"/>
                  <a:pt x="11472" y="12590"/>
                  <a:pt x="11559" y="12551"/>
                </a:cubicBezTo>
                <a:cubicBezTo>
                  <a:pt x="11627" y="12521"/>
                  <a:pt x="11694" y="12427"/>
                  <a:pt x="11708" y="12353"/>
                </a:cubicBezTo>
                <a:cubicBezTo>
                  <a:pt x="11733" y="12223"/>
                  <a:pt x="11680" y="12175"/>
                  <a:pt x="11609" y="12080"/>
                </a:cubicBezTo>
                <a:cubicBezTo>
                  <a:pt x="11531" y="11975"/>
                  <a:pt x="11462" y="11942"/>
                  <a:pt x="11336" y="11906"/>
                </a:cubicBezTo>
                <a:cubicBezTo>
                  <a:pt x="11303" y="11898"/>
                  <a:pt x="11270" y="11889"/>
                  <a:pt x="11237" y="1188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Ink 10"/>
          <p:cNvSpPr/>
          <p:nvPr/>
        </p:nvSpPr>
        <p:spPr>
          <a:xfrm>
            <a:off x="901800" y="4732200"/>
            <a:ext cx="3822480" cy="679680"/>
          </a:xfrm>
          <a:custGeom>
            <a:avLst/>
            <a:gdLst/>
            <a:ahLst/>
            <a:rect l="l" t="t" r="r" b="b"/>
            <a:pathLst>
              <a:path w="10618" h="1887">
                <a:moveTo>
                  <a:pt x="2505" y="13246"/>
                </a:moveTo>
                <a:cubicBezTo>
                  <a:pt x="2526" y="13342"/>
                  <a:pt x="2544" y="13447"/>
                  <a:pt x="2555" y="13543"/>
                </a:cubicBezTo>
                <a:cubicBezTo>
                  <a:pt x="2565" y="13635"/>
                  <a:pt x="2568" y="13730"/>
                  <a:pt x="2604" y="13816"/>
                </a:cubicBezTo>
                <a:cubicBezTo>
                  <a:pt x="2626" y="13869"/>
                  <a:pt x="2689" y="13953"/>
                  <a:pt x="2753" y="13965"/>
                </a:cubicBezTo>
                <a:cubicBezTo>
                  <a:pt x="2810" y="13975"/>
                  <a:pt x="2875" y="13947"/>
                  <a:pt x="2902" y="13891"/>
                </a:cubicBezTo>
                <a:cubicBezTo>
                  <a:pt x="2939" y="13813"/>
                  <a:pt x="2989" y="13703"/>
                  <a:pt x="3001" y="13618"/>
                </a:cubicBezTo>
                <a:cubicBezTo>
                  <a:pt x="3013" y="13533"/>
                  <a:pt x="3037" y="13451"/>
                  <a:pt x="3051" y="13370"/>
                </a:cubicBezTo>
                <a:cubicBezTo>
                  <a:pt x="3059" y="13324"/>
                  <a:pt x="3051" y="13268"/>
                  <a:pt x="3051" y="13221"/>
                </a:cubicBezTo>
                <a:cubicBezTo>
                  <a:pt x="3028" y="13259"/>
                  <a:pt x="2992" y="13321"/>
                  <a:pt x="3001" y="13370"/>
                </a:cubicBezTo>
                <a:cubicBezTo>
                  <a:pt x="3018" y="13464"/>
                  <a:pt x="3026" y="13576"/>
                  <a:pt x="3051" y="13667"/>
                </a:cubicBezTo>
                <a:cubicBezTo>
                  <a:pt x="3075" y="13753"/>
                  <a:pt x="3129" y="13818"/>
                  <a:pt x="3175" y="13891"/>
                </a:cubicBezTo>
                <a:cubicBezTo>
                  <a:pt x="3195" y="13931"/>
                  <a:pt x="3194" y="13947"/>
                  <a:pt x="3225" y="13940"/>
                </a:cubicBezTo>
              </a:path>
              <a:path w="10618" h="1887">
                <a:moveTo>
                  <a:pt x="3373" y="13395"/>
                </a:moveTo>
                <a:cubicBezTo>
                  <a:pt x="3461" y="13418"/>
                  <a:pt x="3514" y="13436"/>
                  <a:pt x="3597" y="13469"/>
                </a:cubicBezTo>
              </a:path>
              <a:path w="10618" h="1887">
                <a:moveTo>
                  <a:pt x="3423" y="13742"/>
                </a:moveTo>
                <a:cubicBezTo>
                  <a:pt x="3479" y="13750"/>
                  <a:pt x="3522" y="13781"/>
                  <a:pt x="3572" y="13791"/>
                </a:cubicBezTo>
                <a:cubicBezTo>
                  <a:pt x="3616" y="13791"/>
                  <a:pt x="3629" y="13794"/>
                  <a:pt x="3646" y="13767"/>
                </a:cubicBezTo>
              </a:path>
              <a:path w="10618" h="1887">
                <a:moveTo>
                  <a:pt x="4142" y="13370"/>
                </a:moveTo>
                <a:cubicBezTo>
                  <a:pt x="4163" y="13476"/>
                  <a:pt x="4191" y="13568"/>
                  <a:pt x="4217" y="13667"/>
                </a:cubicBezTo>
                <a:cubicBezTo>
                  <a:pt x="4236" y="13740"/>
                  <a:pt x="4282" y="13798"/>
                  <a:pt x="4316" y="13866"/>
                </a:cubicBezTo>
                <a:cubicBezTo>
                  <a:pt x="4365" y="13794"/>
                  <a:pt x="4365" y="13722"/>
                  <a:pt x="4390" y="13643"/>
                </a:cubicBezTo>
                <a:cubicBezTo>
                  <a:pt x="4413" y="13571"/>
                  <a:pt x="4448" y="13493"/>
                  <a:pt x="4465" y="13419"/>
                </a:cubicBezTo>
                <a:cubicBezTo>
                  <a:pt x="4476" y="13368"/>
                  <a:pt x="4492" y="13294"/>
                  <a:pt x="4514" y="13246"/>
                </a:cubicBezTo>
                <a:cubicBezTo>
                  <a:pt x="4531" y="13210"/>
                  <a:pt x="4555" y="13189"/>
                  <a:pt x="4564" y="13146"/>
                </a:cubicBezTo>
              </a:path>
              <a:path w="10618" h="1887">
                <a:moveTo>
                  <a:pt x="3994" y="13915"/>
                </a:moveTo>
                <a:cubicBezTo>
                  <a:pt x="4071" y="13877"/>
                  <a:pt x="4114" y="13883"/>
                  <a:pt x="4192" y="13866"/>
                </a:cubicBezTo>
                <a:cubicBezTo>
                  <a:pt x="4288" y="13845"/>
                  <a:pt x="4365" y="13841"/>
                  <a:pt x="4465" y="13841"/>
                </a:cubicBezTo>
                <a:cubicBezTo>
                  <a:pt x="4507" y="13841"/>
                  <a:pt x="4937" y="13863"/>
                  <a:pt x="4936" y="13816"/>
                </a:cubicBezTo>
                <a:cubicBezTo>
                  <a:pt x="4928" y="13816"/>
                  <a:pt x="4919" y="13816"/>
                  <a:pt x="4911" y="13816"/>
                </a:cubicBezTo>
              </a:path>
              <a:path w="10618" h="1887">
                <a:moveTo>
                  <a:pt x="3994" y="14263"/>
                </a:moveTo>
                <a:cubicBezTo>
                  <a:pt x="4012" y="14385"/>
                  <a:pt x="4018" y="14488"/>
                  <a:pt x="4018" y="14610"/>
                </a:cubicBezTo>
                <a:cubicBezTo>
                  <a:pt x="4018" y="14734"/>
                  <a:pt x="4018" y="14858"/>
                  <a:pt x="4018" y="14982"/>
                </a:cubicBezTo>
              </a:path>
              <a:path w="10618" h="1887">
                <a:moveTo>
                  <a:pt x="4192" y="14139"/>
                </a:moveTo>
                <a:cubicBezTo>
                  <a:pt x="4192" y="14243"/>
                  <a:pt x="4176" y="14336"/>
                  <a:pt x="4167" y="14436"/>
                </a:cubicBezTo>
                <a:cubicBezTo>
                  <a:pt x="4155" y="14565"/>
                  <a:pt x="4177" y="14683"/>
                  <a:pt x="4192" y="14808"/>
                </a:cubicBezTo>
                <a:cubicBezTo>
                  <a:pt x="4198" y="14854"/>
                  <a:pt x="4208" y="14888"/>
                  <a:pt x="4217" y="14932"/>
                </a:cubicBezTo>
              </a:path>
              <a:path w="10618" h="1887">
                <a:moveTo>
                  <a:pt x="4415" y="14387"/>
                </a:moveTo>
                <a:cubicBezTo>
                  <a:pt x="4446" y="14505"/>
                  <a:pt x="4462" y="14619"/>
                  <a:pt x="4490" y="14734"/>
                </a:cubicBezTo>
                <a:cubicBezTo>
                  <a:pt x="4508" y="14808"/>
                  <a:pt x="4529" y="14815"/>
                  <a:pt x="4539" y="14883"/>
                </a:cubicBezTo>
                <a:cubicBezTo>
                  <a:pt x="4575" y="14823"/>
                  <a:pt x="4545" y="14776"/>
                  <a:pt x="4564" y="14709"/>
                </a:cubicBezTo>
                <a:cubicBezTo>
                  <a:pt x="4585" y="14636"/>
                  <a:pt x="4622" y="14561"/>
                  <a:pt x="4638" y="14486"/>
                </a:cubicBezTo>
                <a:cubicBezTo>
                  <a:pt x="4638" y="14434"/>
                  <a:pt x="4639" y="14416"/>
                  <a:pt x="4663" y="14387"/>
                </a:cubicBezTo>
              </a:path>
              <a:path w="10618" h="1887">
                <a:moveTo>
                  <a:pt x="4837" y="14114"/>
                </a:moveTo>
                <a:cubicBezTo>
                  <a:pt x="4837" y="14333"/>
                  <a:pt x="4784" y="14650"/>
                  <a:pt x="4862" y="14858"/>
                </a:cubicBezTo>
              </a:path>
              <a:path w="10618" h="1887">
                <a:moveTo>
                  <a:pt x="5011" y="14114"/>
                </a:moveTo>
                <a:cubicBezTo>
                  <a:pt x="5025" y="14229"/>
                  <a:pt x="5035" y="14340"/>
                  <a:pt x="5035" y="14461"/>
                </a:cubicBezTo>
                <a:cubicBezTo>
                  <a:pt x="5035" y="14614"/>
                  <a:pt x="5047" y="14755"/>
                  <a:pt x="5060" y="14908"/>
                </a:cubicBezTo>
                <a:cubicBezTo>
                  <a:pt x="5060" y="14959"/>
                  <a:pt x="5061" y="14978"/>
                  <a:pt x="5085" y="15007"/>
                </a:cubicBezTo>
              </a:path>
              <a:path w="10618" h="1887">
                <a:moveTo>
                  <a:pt x="5283" y="13791"/>
                </a:moveTo>
                <a:cubicBezTo>
                  <a:pt x="5346" y="13812"/>
                  <a:pt x="5389" y="13816"/>
                  <a:pt x="5457" y="13816"/>
                </a:cubicBezTo>
              </a:path>
              <a:path w="10618" h="1887">
                <a:moveTo>
                  <a:pt x="5432" y="13990"/>
                </a:moveTo>
                <a:cubicBezTo>
                  <a:pt x="5523" y="14015"/>
                  <a:pt x="5523" y="14021"/>
                  <a:pt x="5606" y="13990"/>
                </a:cubicBezTo>
              </a:path>
              <a:path w="10618" h="1887">
                <a:moveTo>
                  <a:pt x="6375" y="13320"/>
                </a:moveTo>
                <a:cubicBezTo>
                  <a:pt x="6313" y="13382"/>
                  <a:pt x="6248" y="13445"/>
                  <a:pt x="6176" y="13494"/>
                </a:cubicBezTo>
                <a:cubicBezTo>
                  <a:pt x="6127" y="13527"/>
                  <a:pt x="6041" y="13573"/>
                  <a:pt x="6003" y="13618"/>
                </a:cubicBezTo>
                <a:cubicBezTo>
                  <a:pt x="5963" y="13664"/>
                  <a:pt x="5924" y="13696"/>
                  <a:pt x="5879" y="13742"/>
                </a:cubicBezTo>
                <a:cubicBezTo>
                  <a:pt x="5871" y="13750"/>
                  <a:pt x="5862" y="13759"/>
                  <a:pt x="5854" y="13767"/>
                </a:cubicBezTo>
                <a:cubicBezTo>
                  <a:pt x="5924" y="13806"/>
                  <a:pt x="5968" y="13870"/>
                  <a:pt x="6003" y="13940"/>
                </a:cubicBezTo>
                <a:cubicBezTo>
                  <a:pt x="6066" y="14065"/>
                  <a:pt x="6151" y="14144"/>
                  <a:pt x="6226" y="14263"/>
                </a:cubicBezTo>
                <a:cubicBezTo>
                  <a:pt x="6310" y="14396"/>
                  <a:pt x="6401" y="14490"/>
                  <a:pt x="6499" y="14610"/>
                </a:cubicBezTo>
                <a:cubicBezTo>
                  <a:pt x="6542" y="14675"/>
                  <a:pt x="6548" y="14695"/>
                  <a:pt x="6598" y="14709"/>
                </a:cubicBezTo>
              </a:path>
              <a:path w="10618" h="1887">
                <a:moveTo>
                  <a:pt x="6896" y="13221"/>
                </a:moveTo>
                <a:cubicBezTo>
                  <a:pt x="6861" y="13291"/>
                  <a:pt x="6840" y="13347"/>
                  <a:pt x="6821" y="13419"/>
                </a:cubicBezTo>
                <a:cubicBezTo>
                  <a:pt x="6798" y="13507"/>
                  <a:pt x="6774" y="13581"/>
                  <a:pt x="6821" y="13667"/>
                </a:cubicBezTo>
                <a:cubicBezTo>
                  <a:pt x="6877" y="13769"/>
                  <a:pt x="6908" y="13780"/>
                  <a:pt x="6995" y="13841"/>
                </a:cubicBezTo>
                <a:cubicBezTo>
                  <a:pt x="7046" y="13876"/>
                  <a:pt x="7082" y="13873"/>
                  <a:pt x="7119" y="13816"/>
                </a:cubicBezTo>
                <a:cubicBezTo>
                  <a:pt x="7149" y="13770"/>
                  <a:pt x="7165" y="13648"/>
                  <a:pt x="7144" y="13593"/>
                </a:cubicBezTo>
                <a:cubicBezTo>
                  <a:pt x="7125" y="13544"/>
                  <a:pt x="7025" y="13551"/>
                  <a:pt x="6995" y="13568"/>
                </a:cubicBezTo>
                <a:cubicBezTo>
                  <a:pt x="6922" y="13611"/>
                  <a:pt x="6919" y="13718"/>
                  <a:pt x="6896" y="13791"/>
                </a:cubicBezTo>
              </a:path>
              <a:path w="10618" h="1887">
                <a:moveTo>
                  <a:pt x="6722" y="13841"/>
                </a:moveTo>
                <a:cubicBezTo>
                  <a:pt x="6865" y="13849"/>
                  <a:pt x="6999" y="13886"/>
                  <a:pt x="7144" y="13891"/>
                </a:cubicBezTo>
                <a:cubicBezTo>
                  <a:pt x="7213" y="13893"/>
                  <a:pt x="7241" y="13897"/>
                  <a:pt x="7293" y="13866"/>
                </a:cubicBezTo>
              </a:path>
              <a:path w="10618" h="1887">
                <a:moveTo>
                  <a:pt x="6970" y="14114"/>
                </a:moveTo>
                <a:cubicBezTo>
                  <a:pt x="6986" y="14239"/>
                  <a:pt x="6995" y="14338"/>
                  <a:pt x="6995" y="14461"/>
                </a:cubicBezTo>
                <a:cubicBezTo>
                  <a:pt x="6995" y="14518"/>
                  <a:pt x="7014" y="14589"/>
                  <a:pt x="7045" y="14610"/>
                </a:cubicBezTo>
              </a:path>
              <a:path w="10618" h="1887">
                <a:moveTo>
                  <a:pt x="7218" y="14188"/>
                </a:moveTo>
                <a:cubicBezTo>
                  <a:pt x="7209" y="14258"/>
                  <a:pt x="7193" y="14313"/>
                  <a:pt x="7193" y="14387"/>
                </a:cubicBezTo>
                <a:cubicBezTo>
                  <a:pt x="7193" y="14451"/>
                  <a:pt x="7228" y="14533"/>
                  <a:pt x="7268" y="14585"/>
                </a:cubicBezTo>
                <a:cubicBezTo>
                  <a:pt x="7316" y="14647"/>
                  <a:pt x="7365" y="14701"/>
                  <a:pt x="7441" y="14660"/>
                </a:cubicBezTo>
                <a:cubicBezTo>
                  <a:pt x="7515" y="14620"/>
                  <a:pt x="7527" y="14589"/>
                  <a:pt x="7541" y="14511"/>
                </a:cubicBezTo>
                <a:cubicBezTo>
                  <a:pt x="7560" y="14406"/>
                  <a:pt x="7583" y="14334"/>
                  <a:pt x="7541" y="14238"/>
                </a:cubicBezTo>
                <a:cubicBezTo>
                  <a:pt x="7528" y="14207"/>
                  <a:pt x="7479" y="14125"/>
                  <a:pt x="7441" y="14114"/>
                </a:cubicBezTo>
                <a:cubicBezTo>
                  <a:pt x="7392" y="14100"/>
                  <a:pt x="7288" y="14170"/>
                  <a:pt x="7268" y="14213"/>
                </a:cubicBezTo>
                <a:cubicBezTo>
                  <a:pt x="7244" y="14266"/>
                  <a:pt x="7256" y="14313"/>
                  <a:pt x="7268" y="14362"/>
                </a:cubicBezTo>
              </a:path>
              <a:path w="10618" h="1887">
                <a:moveTo>
                  <a:pt x="7789" y="13866"/>
                </a:moveTo>
                <a:cubicBezTo>
                  <a:pt x="7807" y="13960"/>
                  <a:pt x="7817" y="14050"/>
                  <a:pt x="7838" y="14139"/>
                </a:cubicBezTo>
                <a:cubicBezTo>
                  <a:pt x="7838" y="14147"/>
                  <a:pt x="7838" y="14155"/>
                  <a:pt x="7838" y="14163"/>
                </a:cubicBezTo>
              </a:path>
              <a:path w="10618" h="1887">
                <a:moveTo>
                  <a:pt x="8285" y="13543"/>
                </a:moveTo>
                <a:cubicBezTo>
                  <a:pt x="8216" y="13371"/>
                  <a:pt x="8245" y="13380"/>
                  <a:pt x="8161" y="13295"/>
                </a:cubicBezTo>
                <a:cubicBezTo>
                  <a:pt x="8120" y="13364"/>
                  <a:pt x="8136" y="13415"/>
                  <a:pt x="8161" y="13494"/>
                </a:cubicBezTo>
                <a:cubicBezTo>
                  <a:pt x="8193" y="13599"/>
                  <a:pt x="8189" y="13688"/>
                  <a:pt x="8210" y="13791"/>
                </a:cubicBezTo>
                <a:cubicBezTo>
                  <a:pt x="8231" y="13894"/>
                  <a:pt x="8229" y="13950"/>
                  <a:pt x="8136" y="13990"/>
                </a:cubicBezTo>
                <a:cubicBezTo>
                  <a:pt x="8097" y="13925"/>
                  <a:pt x="8107" y="13867"/>
                  <a:pt x="8136" y="13791"/>
                </a:cubicBezTo>
                <a:cubicBezTo>
                  <a:pt x="8166" y="13713"/>
                  <a:pt x="8214" y="13682"/>
                  <a:pt x="8260" y="13618"/>
                </a:cubicBezTo>
                <a:cubicBezTo>
                  <a:pt x="8295" y="13568"/>
                  <a:pt x="8318" y="13515"/>
                  <a:pt x="8359" y="13469"/>
                </a:cubicBezTo>
                <a:cubicBezTo>
                  <a:pt x="8386" y="13439"/>
                  <a:pt x="8399" y="13432"/>
                  <a:pt x="8409" y="13395"/>
                </a:cubicBezTo>
              </a:path>
              <a:path w="10618" h="1887">
                <a:moveTo>
                  <a:pt x="8136" y="13915"/>
                </a:moveTo>
                <a:cubicBezTo>
                  <a:pt x="8247" y="13936"/>
                  <a:pt x="8346" y="13965"/>
                  <a:pt x="8458" y="13965"/>
                </a:cubicBezTo>
                <a:cubicBezTo>
                  <a:pt x="8466" y="13965"/>
                  <a:pt x="8475" y="13965"/>
                  <a:pt x="8483" y="13965"/>
                </a:cubicBezTo>
              </a:path>
              <a:path w="10618" h="1887">
                <a:moveTo>
                  <a:pt x="8285" y="14362"/>
                </a:moveTo>
                <a:cubicBezTo>
                  <a:pt x="8300" y="14485"/>
                  <a:pt x="8310" y="14587"/>
                  <a:pt x="8310" y="14709"/>
                </a:cubicBezTo>
              </a:path>
              <a:path w="10618" h="1887">
                <a:moveTo>
                  <a:pt x="8533" y="14288"/>
                </a:moveTo>
                <a:cubicBezTo>
                  <a:pt x="8502" y="14350"/>
                  <a:pt x="8463" y="14413"/>
                  <a:pt x="8483" y="14486"/>
                </a:cubicBezTo>
                <a:cubicBezTo>
                  <a:pt x="8505" y="14566"/>
                  <a:pt x="8554" y="14635"/>
                  <a:pt x="8607" y="14684"/>
                </a:cubicBezTo>
                <a:cubicBezTo>
                  <a:pt x="8655" y="14728"/>
                  <a:pt x="8681" y="14753"/>
                  <a:pt x="8731" y="14684"/>
                </a:cubicBezTo>
                <a:cubicBezTo>
                  <a:pt x="8763" y="14640"/>
                  <a:pt x="8771" y="14539"/>
                  <a:pt x="8756" y="14486"/>
                </a:cubicBezTo>
                <a:cubicBezTo>
                  <a:pt x="8740" y="14429"/>
                  <a:pt x="8696" y="14355"/>
                  <a:pt x="8657" y="14312"/>
                </a:cubicBezTo>
                <a:cubicBezTo>
                  <a:pt x="8634" y="14286"/>
                  <a:pt x="8607" y="14263"/>
                  <a:pt x="8582" y="14238"/>
                </a:cubicBezTo>
              </a:path>
              <a:path w="10618" h="1887">
                <a:moveTo>
                  <a:pt x="8855" y="13519"/>
                </a:moveTo>
                <a:cubicBezTo>
                  <a:pt x="8937" y="13599"/>
                  <a:pt x="9006" y="13681"/>
                  <a:pt x="9079" y="13767"/>
                </a:cubicBezTo>
                <a:cubicBezTo>
                  <a:pt x="9139" y="13837"/>
                  <a:pt x="9197" y="13899"/>
                  <a:pt x="9252" y="13965"/>
                </a:cubicBezTo>
                <a:cubicBezTo>
                  <a:pt x="9295" y="14017"/>
                  <a:pt x="9355" y="14032"/>
                  <a:pt x="9327" y="14089"/>
                </a:cubicBezTo>
                <a:cubicBezTo>
                  <a:pt x="9287" y="14170"/>
                  <a:pt x="9206" y="14252"/>
                  <a:pt x="9153" y="14337"/>
                </a:cubicBezTo>
                <a:cubicBezTo>
                  <a:pt x="9100" y="14422"/>
                  <a:pt x="9023" y="14536"/>
                  <a:pt x="9004" y="14635"/>
                </a:cubicBezTo>
                <a:cubicBezTo>
                  <a:pt x="9004" y="14703"/>
                  <a:pt x="9007" y="14722"/>
                  <a:pt x="8979" y="14759"/>
                </a:cubicBezTo>
              </a:path>
              <a:path w="10618" h="1887">
                <a:moveTo>
                  <a:pt x="9674" y="14139"/>
                </a:moveTo>
                <a:cubicBezTo>
                  <a:pt x="9757" y="14139"/>
                  <a:pt x="9839" y="14139"/>
                  <a:pt x="9922" y="14139"/>
                </a:cubicBezTo>
              </a:path>
              <a:path w="10618" h="1887">
                <a:moveTo>
                  <a:pt x="9723" y="14337"/>
                </a:moveTo>
                <a:cubicBezTo>
                  <a:pt x="9805" y="14354"/>
                  <a:pt x="9864" y="14362"/>
                  <a:pt x="9947" y="14362"/>
                </a:cubicBezTo>
              </a:path>
              <a:path w="10618" h="1887">
                <a:moveTo>
                  <a:pt x="10740" y="13543"/>
                </a:moveTo>
                <a:cubicBezTo>
                  <a:pt x="10643" y="13605"/>
                  <a:pt x="10541" y="13657"/>
                  <a:pt x="10443" y="13717"/>
                </a:cubicBezTo>
                <a:cubicBezTo>
                  <a:pt x="10386" y="13752"/>
                  <a:pt x="10319" y="13796"/>
                  <a:pt x="10269" y="13841"/>
                </a:cubicBezTo>
                <a:cubicBezTo>
                  <a:pt x="10211" y="13894"/>
                  <a:pt x="10165" y="13917"/>
                  <a:pt x="10195" y="13990"/>
                </a:cubicBezTo>
                <a:cubicBezTo>
                  <a:pt x="10227" y="14066"/>
                  <a:pt x="10267" y="14135"/>
                  <a:pt x="10294" y="14213"/>
                </a:cubicBezTo>
                <a:cubicBezTo>
                  <a:pt x="10339" y="14343"/>
                  <a:pt x="10430" y="14440"/>
                  <a:pt x="10492" y="14560"/>
                </a:cubicBezTo>
                <a:cubicBezTo>
                  <a:pt x="10560" y="14693"/>
                  <a:pt x="10637" y="14809"/>
                  <a:pt x="10716" y="14932"/>
                </a:cubicBezTo>
                <a:cubicBezTo>
                  <a:pt x="10724" y="14949"/>
                  <a:pt x="10732" y="14965"/>
                  <a:pt x="10740" y="14982"/>
                </a:cubicBezTo>
              </a:path>
              <a:path w="10618" h="1887">
                <a:moveTo>
                  <a:pt x="10939" y="13767"/>
                </a:moveTo>
                <a:cubicBezTo>
                  <a:pt x="10997" y="13795"/>
                  <a:pt x="11015" y="13733"/>
                  <a:pt x="11088" y="13717"/>
                </a:cubicBezTo>
                <a:cubicBezTo>
                  <a:pt x="11162" y="13700"/>
                  <a:pt x="11184" y="13688"/>
                  <a:pt x="11261" y="13717"/>
                </a:cubicBezTo>
                <a:cubicBezTo>
                  <a:pt x="11246" y="13824"/>
                  <a:pt x="11216" y="13800"/>
                  <a:pt x="11112" y="13841"/>
                </a:cubicBezTo>
                <a:cubicBezTo>
                  <a:pt x="11064" y="13865"/>
                  <a:pt x="11050" y="13874"/>
                  <a:pt x="11013" y="13866"/>
                </a:cubicBezTo>
                <a:cubicBezTo>
                  <a:pt x="11101" y="13873"/>
                  <a:pt x="11169" y="13878"/>
                  <a:pt x="11237" y="13940"/>
                </a:cubicBezTo>
                <a:cubicBezTo>
                  <a:pt x="11299" y="13996"/>
                  <a:pt x="11242" y="14018"/>
                  <a:pt x="11212" y="14064"/>
                </a:cubicBezTo>
                <a:cubicBezTo>
                  <a:pt x="11167" y="14134"/>
                  <a:pt x="11123" y="14158"/>
                  <a:pt x="11038" y="14163"/>
                </a:cubicBezTo>
                <a:cubicBezTo>
                  <a:pt x="11021" y="14163"/>
                  <a:pt x="11005" y="14163"/>
                  <a:pt x="10988" y="14163"/>
                </a:cubicBezTo>
              </a:path>
              <a:path w="10618" h="1887">
                <a:moveTo>
                  <a:pt x="10790" y="14064"/>
                </a:moveTo>
                <a:cubicBezTo>
                  <a:pt x="10885" y="14092"/>
                  <a:pt x="10970" y="14128"/>
                  <a:pt x="11063" y="14163"/>
                </a:cubicBezTo>
                <a:cubicBezTo>
                  <a:pt x="11169" y="14202"/>
                  <a:pt x="11249" y="14213"/>
                  <a:pt x="11361" y="14213"/>
                </a:cubicBezTo>
              </a:path>
              <a:path w="10618" h="1887">
                <a:moveTo>
                  <a:pt x="11112" y="14312"/>
                </a:moveTo>
                <a:cubicBezTo>
                  <a:pt x="11233" y="14365"/>
                  <a:pt x="11222" y="14388"/>
                  <a:pt x="11311" y="14362"/>
                </a:cubicBezTo>
              </a:path>
              <a:path w="10618" h="1887">
                <a:moveTo>
                  <a:pt x="11137" y="14288"/>
                </a:moveTo>
                <a:cubicBezTo>
                  <a:pt x="11071" y="14334"/>
                  <a:pt x="11000" y="14358"/>
                  <a:pt x="11063" y="14436"/>
                </a:cubicBezTo>
                <a:cubicBezTo>
                  <a:pt x="11111" y="14496"/>
                  <a:pt x="11153" y="14484"/>
                  <a:pt x="11212" y="14511"/>
                </a:cubicBezTo>
                <a:cubicBezTo>
                  <a:pt x="11270" y="14538"/>
                  <a:pt x="11307" y="14580"/>
                  <a:pt x="11336" y="14635"/>
                </a:cubicBezTo>
                <a:cubicBezTo>
                  <a:pt x="11366" y="14691"/>
                  <a:pt x="11350" y="14820"/>
                  <a:pt x="11286" y="14858"/>
                </a:cubicBezTo>
                <a:cubicBezTo>
                  <a:pt x="11225" y="14894"/>
                  <a:pt x="11154" y="14867"/>
                  <a:pt x="11112" y="14808"/>
                </a:cubicBezTo>
                <a:cubicBezTo>
                  <a:pt x="11085" y="14753"/>
                  <a:pt x="11077" y="14730"/>
                  <a:pt x="11088" y="14684"/>
                </a:cubicBezTo>
              </a:path>
              <a:path w="10618" h="1887">
                <a:moveTo>
                  <a:pt x="11658" y="14238"/>
                </a:moveTo>
                <a:cubicBezTo>
                  <a:pt x="11658" y="14329"/>
                  <a:pt x="11658" y="14420"/>
                  <a:pt x="11658" y="14511"/>
                </a:cubicBezTo>
              </a:path>
              <a:path w="10618" h="1887">
                <a:moveTo>
                  <a:pt x="11931" y="13717"/>
                </a:moveTo>
                <a:cubicBezTo>
                  <a:pt x="11882" y="13766"/>
                  <a:pt x="11866" y="13780"/>
                  <a:pt x="11906" y="13841"/>
                </a:cubicBezTo>
                <a:cubicBezTo>
                  <a:pt x="11962" y="13926"/>
                  <a:pt x="11961" y="13940"/>
                  <a:pt x="12055" y="13940"/>
                </a:cubicBezTo>
              </a:path>
              <a:path w="10618" h="1887">
                <a:moveTo>
                  <a:pt x="12179" y="13543"/>
                </a:moveTo>
                <a:cubicBezTo>
                  <a:pt x="12135" y="13638"/>
                  <a:pt x="12091" y="13740"/>
                  <a:pt x="12080" y="13841"/>
                </a:cubicBezTo>
                <a:cubicBezTo>
                  <a:pt x="12069" y="13942"/>
                  <a:pt x="12087" y="14018"/>
                  <a:pt x="12055" y="14114"/>
                </a:cubicBezTo>
              </a:path>
              <a:path w="10618" h="1887">
                <a:moveTo>
                  <a:pt x="11956" y="14238"/>
                </a:moveTo>
                <a:cubicBezTo>
                  <a:pt x="12088" y="14238"/>
                  <a:pt x="12221" y="14238"/>
                  <a:pt x="12353" y="14238"/>
                </a:cubicBezTo>
              </a:path>
              <a:path w="10618" h="1887">
                <a:moveTo>
                  <a:pt x="12105" y="14412"/>
                </a:moveTo>
                <a:cubicBezTo>
                  <a:pt x="12193" y="14478"/>
                  <a:pt x="12194" y="14454"/>
                  <a:pt x="12303" y="14436"/>
                </a:cubicBezTo>
              </a:path>
              <a:path w="10618" h="1887">
                <a:moveTo>
                  <a:pt x="12105" y="14362"/>
                </a:moveTo>
                <a:cubicBezTo>
                  <a:pt x="12021" y="14396"/>
                  <a:pt x="11965" y="14427"/>
                  <a:pt x="12005" y="14536"/>
                </a:cubicBezTo>
                <a:cubicBezTo>
                  <a:pt x="12019" y="14574"/>
                  <a:pt x="12103" y="14606"/>
                  <a:pt x="12129" y="14610"/>
                </a:cubicBezTo>
                <a:cubicBezTo>
                  <a:pt x="12225" y="14625"/>
                  <a:pt x="12280" y="14642"/>
                  <a:pt x="12303" y="14759"/>
                </a:cubicBezTo>
                <a:cubicBezTo>
                  <a:pt x="12315" y="14819"/>
                  <a:pt x="12302" y="14929"/>
                  <a:pt x="12278" y="14982"/>
                </a:cubicBezTo>
                <a:cubicBezTo>
                  <a:pt x="12248" y="15049"/>
                  <a:pt x="12181" y="15039"/>
                  <a:pt x="12129" y="15007"/>
                </a:cubicBezTo>
                <a:cubicBezTo>
                  <a:pt x="12075" y="14973"/>
                  <a:pt x="12049" y="14862"/>
                  <a:pt x="12030" y="14808"/>
                </a:cubicBezTo>
                <a:cubicBezTo>
                  <a:pt x="12022" y="14783"/>
                  <a:pt x="12013" y="14759"/>
                  <a:pt x="12005" y="14734"/>
                </a:cubicBezTo>
              </a:path>
              <a:path w="10618" h="1887">
                <a:moveTo>
                  <a:pt x="12626" y="13816"/>
                </a:moveTo>
                <a:cubicBezTo>
                  <a:pt x="12731" y="13939"/>
                  <a:pt x="12822" y="14064"/>
                  <a:pt x="12923" y="14188"/>
                </a:cubicBezTo>
                <a:cubicBezTo>
                  <a:pt x="12943" y="14212"/>
                  <a:pt x="13065" y="14315"/>
                  <a:pt x="13097" y="14312"/>
                </a:cubicBezTo>
                <a:cubicBezTo>
                  <a:pt x="13105" y="14304"/>
                  <a:pt x="13114" y="14296"/>
                  <a:pt x="13122" y="14288"/>
                </a:cubicBezTo>
                <a:cubicBezTo>
                  <a:pt x="13065" y="14377"/>
                  <a:pt x="12988" y="14451"/>
                  <a:pt x="12923" y="14536"/>
                </a:cubicBezTo>
                <a:cubicBezTo>
                  <a:pt x="12808" y="14687"/>
                  <a:pt x="12720" y="14842"/>
                  <a:pt x="12626" y="1500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Ink 11"/>
          <p:cNvSpPr/>
          <p:nvPr/>
        </p:nvSpPr>
        <p:spPr>
          <a:xfrm>
            <a:off x="6099120" y="3625920"/>
            <a:ext cx="1536840" cy="1224000"/>
          </a:xfrm>
          <a:custGeom>
            <a:avLst/>
            <a:gdLst/>
            <a:ahLst/>
            <a:rect l="l" t="t" r="r" b="b"/>
            <a:pathLst>
              <a:path w="4267" h="3399">
                <a:moveTo>
                  <a:pt x="17090" y="13419"/>
                </a:moveTo>
                <a:cubicBezTo>
                  <a:pt x="17168" y="13408"/>
                  <a:pt x="17175" y="13390"/>
                  <a:pt x="17214" y="13320"/>
                </a:cubicBezTo>
                <a:cubicBezTo>
                  <a:pt x="17142" y="13283"/>
                  <a:pt x="17070" y="13286"/>
                  <a:pt x="16991" y="13320"/>
                </a:cubicBezTo>
                <a:cubicBezTo>
                  <a:pt x="16975" y="13328"/>
                  <a:pt x="16958" y="13337"/>
                  <a:pt x="16942" y="13345"/>
                </a:cubicBezTo>
                <a:cubicBezTo>
                  <a:pt x="16966" y="13394"/>
                  <a:pt x="17009" y="13496"/>
                  <a:pt x="17090" y="13469"/>
                </a:cubicBezTo>
                <a:cubicBezTo>
                  <a:pt x="17140" y="13452"/>
                  <a:pt x="17079" y="13386"/>
                  <a:pt x="17041" y="13444"/>
                </a:cubicBezTo>
              </a:path>
              <a:path w="4267" h="3399">
                <a:moveTo>
                  <a:pt x="17090" y="13419"/>
                </a:moveTo>
                <a:cubicBezTo>
                  <a:pt x="17082" y="13386"/>
                  <a:pt x="17074" y="13353"/>
                  <a:pt x="17066" y="13320"/>
                </a:cubicBezTo>
              </a:path>
              <a:path w="4267" h="3399">
                <a:moveTo>
                  <a:pt x="17066" y="13320"/>
                </a:moveTo>
                <a:cubicBezTo>
                  <a:pt x="17084" y="13298"/>
                  <a:pt x="17113" y="13223"/>
                  <a:pt x="17190" y="13171"/>
                </a:cubicBezTo>
                <a:cubicBezTo>
                  <a:pt x="17288" y="13105"/>
                  <a:pt x="17389" y="13043"/>
                  <a:pt x="17487" y="12973"/>
                </a:cubicBezTo>
                <a:cubicBezTo>
                  <a:pt x="17633" y="12868"/>
                  <a:pt x="17773" y="12764"/>
                  <a:pt x="17909" y="12650"/>
                </a:cubicBezTo>
                <a:cubicBezTo>
                  <a:pt x="18077" y="12510"/>
                  <a:pt x="18261" y="12393"/>
                  <a:pt x="18430" y="12254"/>
                </a:cubicBezTo>
                <a:cubicBezTo>
                  <a:pt x="18615" y="12102"/>
                  <a:pt x="18807" y="11920"/>
                  <a:pt x="19000" y="11782"/>
                </a:cubicBezTo>
                <a:cubicBezTo>
                  <a:pt x="19207" y="11635"/>
                  <a:pt x="19414" y="11485"/>
                  <a:pt x="19621" y="11336"/>
                </a:cubicBezTo>
                <a:cubicBezTo>
                  <a:pt x="19811" y="11199"/>
                  <a:pt x="19993" y="11073"/>
                  <a:pt x="20166" y="10914"/>
                </a:cubicBezTo>
                <a:cubicBezTo>
                  <a:pt x="20324" y="10768"/>
                  <a:pt x="20497" y="10633"/>
                  <a:pt x="20662" y="10492"/>
                </a:cubicBezTo>
                <a:cubicBezTo>
                  <a:pt x="20765" y="10404"/>
                  <a:pt x="20843" y="10303"/>
                  <a:pt x="20935" y="10220"/>
                </a:cubicBezTo>
                <a:cubicBezTo>
                  <a:pt x="20952" y="10212"/>
                  <a:pt x="20968" y="10203"/>
                  <a:pt x="20985" y="10195"/>
                </a:cubicBezTo>
                <a:cubicBezTo>
                  <a:pt x="20936" y="10229"/>
                  <a:pt x="20901" y="10242"/>
                  <a:pt x="20861" y="10269"/>
                </a:cubicBezTo>
                <a:cubicBezTo>
                  <a:pt x="20771" y="10329"/>
                  <a:pt x="20743" y="10330"/>
                  <a:pt x="20638" y="10344"/>
                </a:cubicBezTo>
                <a:cubicBezTo>
                  <a:pt x="20506" y="10362"/>
                  <a:pt x="20392" y="10403"/>
                  <a:pt x="20265" y="10418"/>
                </a:cubicBezTo>
                <a:cubicBezTo>
                  <a:pt x="20201" y="10426"/>
                  <a:pt x="20131" y="10418"/>
                  <a:pt x="20067" y="10418"/>
                </a:cubicBezTo>
                <a:cubicBezTo>
                  <a:pt x="20153" y="10386"/>
                  <a:pt x="20137" y="10390"/>
                  <a:pt x="20216" y="10344"/>
                </a:cubicBezTo>
                <a:cubicBezTo>
                  <a:pt x="20302" y="10293"/>
                  <a:pt x="20397" y="10247"/>
                  <a:pt x="20489" y="10195"/>
                </a:cubicBezTo>
                <a:cubicBezTo>
                  <a:pt x="20536" y="10169"/>
                  <a:pt x="20695" y="10070"/>
                  <a:pt x="20762" y="10071"/>
                </a:cubicBezTo>
                <a:cubicBezTo>
                  <a:pt x="20860" y="10073"/>
                  <a:pt x="20834" y="10136"/>
                  <a:pt x="20886" y="10195"/>
                </a:cubicBezTo>
                <a:cubicBezTo>
                  <a:pt x="20915" y="10227"/>
                  <a:pt x="20977" y="10315"/>
                  <a:pt x="21010" y="10368"/>
                </a:cubicBezTo>
                <a:cubicBezTo>
                  <a:pt x="21058" y="10444"/>
                  <a:pt x="21107" y="10499"/>
                  <a:pt x="21158" y="10567"/>
                </a:cubicBezTo>
                <a:cubicBezTo>
                  <a:pt x="21175" y="10592"/>
                  <a:pt x="21191" y="10616"/>
                  <a:pt x="21208" y="10641"/>
                </a:cubicBezTo>
              </a:path>
              <a:path w="4267" h="3399">
                <a:moveTo>
                  <a:pt x="17041" y="13221"/>
                </a:moveTo>
                <a:cubicBezTo>
                  <a:pt x="17057" y="13270"/>
                  <a:pt x="17047" y="13237"/>
                  <a:pt x="16991" y="13271"/>
                </a:cubicBezTo>
                <a:cubicBezTo>
                  <a:pt x="17056" y="13206"/>
                  <a:pt x="17118" y="13151"/>
                  <a:pt x="17190" y="13097"/>
                </a:cubicBezTo>
                <a:cubicBezTo>
                  <a:pt x="17239" y="13060"/>
                  <a:pt x="17269" y="13011"/>
                  <a:pt x="17314" y="12973"/>
                </a:cubicBezTo>
                <a:cubicBezTo>
                  <a:pt x="17360" y="12934"/>
                  <a:pt x="17393" y="12869"/>
                  <a:pt x="17438" y="12824"/>
                </a:cubicBezTo>
                <a:cubicBezTo>
                  <a:pt x="17483" y="12779"/>
                  <a:pt x="17567" y="12785"/>
                  <a:pt x="17587" y="12725"/>
                </a:cubicBezTo>
                <a:cubicBezTo>
                  <a:pt x="17564" y="12702"/>
                  <a:pt x="17560" y="12694"/>
                  <a:pt x="17537" y="12700"/>
                </a:cubicBezTo>
              </a:path>
              <a:path w="4267" h="3399">
                <a:moveTo>
                  <a:pt x="17562" y="12774"/>
                </a:moveTo>
                <a:cubicBezTo>
                  <a:pt x="17666" y="12795"/>
                  <a:pt x="17537" y="12806"/>
                  <a:pt x="17487" y="12849"/>
                </a:cubicBezTo>
                <a:cubicBezTo>
                  <a:pt x="17433" y="12896"/>
                  <a:pt x="17373" y="12957"/>
                  <a:pt x="17314" y="12998"/>
                </a:cubicBezTo>
                <a:cubicBezTo>
                  <a:pt x="17268" y="13030"/>
                  <a:pt x="17231" y="13055"/>
                  <a:pt x="17190" y="13097"/>
                </a:cubicBezTo>
                <a:cubicBezTo>
                  <a:pt x="17122" y="13165"/>
                  <a:pt x="17257" y="13053"/>
                  <a:pt x="17264" y="13047"/>
                </a:cubicBezTo>
                <a:cubicBezTo>
                  <a:pt x="17331" y="12993"/>
                  <a:pt x="17392" y="12924"/>
                  <a:pt x="17462" y="12874"/>
                </a:cubicBezTo>
                <a:cubicBezTo>
                  <a:pt x="17517" y="12835"/>
                  <a:pt x="17559" y="12796"/>
                  <a:pt x="17611" y="12750"/>
                </a:cubicBezTo>
                <a:cubicBezTo>
                  <a:pt x="17641" y="12720"/>
                  <a:pt x="17643" y="12715"/>
                  <a:pt x="17587" y="12750"/>
                </a:cubicBezTo>
                <a:cubicBezTo>
                  <a:pt x="17492" y="12808"/>
                  <a:pt x="17427" y="12877"/>
                  <a:pt x="17338" y="12948"/>
                </a:cubicBezTo>
                <a:cubicBezTo>
                  <a:pt x="17271" y="13001"/>
                  <a:pt x="17191" y="13034"/>
                  <a:pt x="17140" y="13097"/>
                </a:cubicBezTo>
                <a:cubicBezTo>
                  <a:pt x="17118" y="13140"/>
                  <a:pt x="17105" y="13152"/>
                  <a:pt x="17140" y="13171"/>
                </a:cubicBezTo>
                <a:cubicBezTo>
                  <a:pt x="17214" y="13134"/>
                  <a:pt x="17268" y="13086"/>
                  <a:pt x="17338" y="13047"/>
                </a:cubicBezTo>
                <a:cubicBezTo>
                  <a:pt x="17412" y="13005"/>
                  <a:pt x="17467" y="12944"/>
                  <a:pt x="17537" y="12898"/>
                </a:cubicBezTo>
                <a:cubicBezTo>
                  <a:pt x="17554" y="12890"/>
                  <a:pt x="17570" y="12882"/>
                  <a:pt x="17587" y="12874"/>
                </a:cubicBezTo>
                <a:cubicBezTo>
                  <a:pt x="17646" y="12812"/>
                  <a:pt x="17532" y="12913"/>
                  <a:pt x="17512" y="12923"/>
                </a:cubicBezTo>
                <a:cubicBezTo>
                  <a:pt x="17443" y="12960"/>
                  <a:pt x="17373" y="12997"/>
                  <a:pt x="17314" y="13047"/>
                </a:cubicBezTo>
                <a:cubicBezTo>
                  <a:pt x="17258" y="13094"/>
                  <a:pt x="17193" y="13123"/>
                  <a:pt x="17140" y="13171"/>
                </a:cubicBezTo>
                <a:cubicBezTo>
                  <a:pt x="17112" y="13199"/>
                  <a:pt x="17103" y="13203"/>
                  <a:pt x="17115" y="13146"/>
                </a:cubicBezTo>
              </a:path>
              <a:path w="4267" h="3399">
                <a:moveTo>
                  <a:pt x="17090" y="12626"/>
                </a:moveTo>
                <a:cubicBezTo>
                  <a:pt x="17164" y="12674"/>
                  <a:pt x="17213" y="12654"/>
                  <a:pt x="17289" y="12675"/>
                </a:cubicBezTo>
                <a:cubicBezTo>
                  <a:pt x="17367" y="12697"/>
                  <a:pt x="17455" y="12713"/>
                  <a:pt x="17537" y="12725"/>
                </a:cubicBezTo>
                <a:cubicBezTo>
                  <a:pt x="17607" y="12735"/>
                  <a:pt x="17662" y="12750"/>
                  <a:pt x="17735" y="12750"/>
                </a:cubicBezTo>
                <a:cubicBezTo>
                  <a:pt x="17710" y="12724"/>
                  <a:pt x="17669" y="12682"/>
                  <a:pt x="17636" y="12675"/>
                </a:cubicBezTo>
                <a:cubicBezTo>
                  <a:pt x="17620" y="12675"/>
                  <a:pt x="17603" y="12675"/>
                  <a:pt x="17587" y="12675"/>
                </a:cubicBezTo>
                <a:cubicBezTo>
                  <a:pt x="17627" y="12675"/>
                  <a:pt x="17742" y="12652"/>
                  <a:pt x="17760" y="12700"/>
                </a:cubicBezTo>
                <a:cubicBezTo>
                  <a:pt x="17791" y="12781"/>
                  <a:pt x="17697" y="12918"/>
                  <a:pt x="17686" y="12998"/>
                </a:cubicBezTo>
                <a:cubicBezTo>
                  <a:pt x="17677" y="13063"/>
                  <a:pt x="17717" y="13228"/>
                  <a:pt x="17711" y="13196"/>
                </a:cubicBezTo>
                <a:cubicBezTo>
                  <a:pt x="17691" y="13156"/>
                  <a:pt x="17682" y="13149"/>
                  <a:pt x="17686" y="1312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Ink 12"/>
          <p:cNvSpPr/>
          <p:nvPr/>
        </p:nvSpPr>
        <p:spPr>
          <a:xfrm>
            <a:off x="527040" y="3106800"/>
            <a:ext cx="7054920" cy="385560"/>
          </a:xfrm>
          <a:custGeom>
            <a:avLst/>
            <a:gdLst/>
            <a:ahLst/>
            <a:rect l="l" t="t" r="r" b="b"/>
            <a:pathLst>
              <a:path w="19597" h="1068">
                <a:moveTo>
                  <a:pt x="1463" y="9376"/>
                </a:moveTo>
                <a:cubicBezTo>
                  <a:pt x="1556" y="9264"/>
                  <a:pt x="1551" y="9141"/>
                  <a:pt x="1712" y="9029"/>
                </a:cubicBezTo>
                <a:cubicBezTo>
                  <a:pt x="1856" y="8929"/>
                  <a:pt x="2116" y="8839"/>
                  <a:pt x="2282" y="8781"/>
                </a:cubicBezTo>
                <a:cubicBezTo>
                  <a:pt x="2470" y="8716"/>
                  <a:pt x="2680" y="8658"/>
                  <a:pt x="2877" y="8632"/>
                </a:cubicBezTo>
                <a:cubicBezTo>
                  <a:pt x="3291" y="8577"/>
                  <a:pt x="3756" y="8640"/>
                  <a:pt x="4142" y="8781"/>
                </a:cubicBezTo>
                <a:cubicBezTo>
                  <a:pt x="4304" y="8840"/>
                  <a:pt x="4464" y="8953"/>
                  <a:pt x="4614" y="9029"/>
                </a:cubicBezTo>
                <a:cubicBezTo>
                  <a:pt x="4782" y="9114"/>
                  <a:pt x="4956" y="9242"/>
                  <a:pt x="5135" y="9302"/>
                </a:cubicBezTo>
                <a:cubicBezTo>
                  <a:pt x="5319" y="9364"/>
                  <a:pt x="5540" y="9421"/>
                  <a:pt x="5730" y="9451"/>
                </a:cubicBezTo>
                <a:cubicBezTo>
                  <a:pt x="6192" y="9524"/>
                  <a:pt x="6655" y="9530"/>
                  <a:pt x="7119" y="9500"/>
                </a:cubicBezTo>
                <a:cubicBezTo>
                  <a:pt x="7339" y="9486"/>
                  <a:pt x="7570" y="9477"/>
                  <a:pt x="7789" y="9451"/>
                </a:cubicBezTo>
                <a:cubicBezTo>
                  <a:pt x="8003" y="9426"/>
                  <a:pt x="8245" y="9411"/>
                  <a:pt x="8458" y="9376"/>
                </a:cubicBezTo>
                <a:cubicBezTo>
                  <a:pt x="8919" y="9299"/>
                  <a:pt x="9374" y="9285"/>
                  <a:pt x="9847" y="9302"/>
                </a:cubicBezTo>
                <a:cubicBezTo>
                  <a:pt x="10250" y="9316"/>
                  <a:pt x="10634" y="9414"/>
                  <a:pt x="11038" y="9451"/>
                </a:cubicBezTo>
                <a:cubicBezTo>
                  <a:pt x="11324" y="9477"/>
                  <a:pt x="11619" y="9484"/>
                  <a:pt x="11906" y="9500"/>
                </a:cubicBezTo>
                <a:cubicBezTo>
                  <a:pt x="12266" y="9520"/>
                  <a:pt x="12613" y="9530"/>
                  <a:pt x="12973" y="9500"/>
                </a:cubicBezTo>
                <a:cubicBezTo>
                  <a:pt x="13257" y="9476"/>
                  <a:pt x="13519" y="9426"/>
                  <a:pt x="13791" y="9376"/>
                </a:cubicBezTo>
                <a:cubicBezTo>
                  <a:pt x="14079" y="9322"/>
                  <a:pt x="14367" y="9243"/>
                  <a:pt x="14660" y="9178"/>
                </a:cubicBezTo>
                <a:cubicBezTo>
                  <a:pt x="14872" y="9131"/>
                  <a:pt x="15062" y="9091"/>
                  <a:pt x="15280" y="9079"/>
                </a:cubicBezTo>
                <a:cubicBezTo>
                  <a:pt x="15614" y="9060"/>
                  <a:pt x="15928" y="9084"/>
                  <a:pt x="16247" y="9178"/>
                </a:cubicBezTo>
                <a:cubicBezTo>
                  <a:pt x="16449" y="9238"/>
                  <a:pt x="16641" y="9312"/>
                  <a:pt x="16842" y="9376"/>
                </a:cubicBezTo>
                <a:cubicBezTo>
                  <a:pt x="17064" y="9446"/>
                  <a:pt x="17287" y="9535"/>
                  <a:pt x="17512" y="9599"/>
                </a:cubicBezTo>
                <a:cubicBezTo>
                  <a:pt x="17715" y="9657"/>
                  <a:pt x="17962" y="9690"/>
                  <a:pt x="18182" y="9699"/>
                </a:cubicBezTo>
                <a:cubicBezTo>
                  <a:pt x="18592" y="9716"/>
                  <a:pt x="18975" y="9663"/>
                  <a:pt x="19372" y="9599"/>
                </a:cubicBezTo>
                <a:cubicBezTo>
                  <a:pt x="19561" y="9568"/>
                  <a:pt x="19749" y="9532"/>
                  <a:pt x="19943" y="9500"/>
                </a:cubicBezTo>
                <a:cubicBezTo>
                  <a:pt x="20133" y="9469"/>
                  <a:pt x="20324" y="9478"/>
                  <a:pt x="20513" y="9451"/>
                </a:cubicBezTo>
                <a:cubicBezTo>
                  <a:pt x="20665" y="9430"/>
                  <a:pt x="20835" y="9418"/>
                  <a:pt x="20985" y="9376"/>
                </a:cubicBezTo>
                <a:cubicBezTo>
                  <a:pt x="21036" y="9376"/>
                  <a:pt x="21053" y="9374"/>
                  <a:pt x="21059" y="932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ccffff"/>
                </a:solidFill>
                <a:latin typeface="Arial"/>
              </a:rPr>
              <a:t>Homework:</a:t>
            </a:r>
            <a:br>
              <a:rPr sz="7500"/>
            </a:br>
            <a:r>
              <a:rPr b="0" lang="en-US" sz="7500" spc="-1" strike="noStrike">
                <a:solidFill>
                  <a:srgbClr val="ccffff"/>
                </a:solidFill>
                <a:latin typeface="Arial"/>
              </a:rPr>
              <a:t>Page 453</a:t>
            </a:r>
            <a:br>
              <a:rPr sz="7500"/>
            </a:br>
            <a:r>
              <a:rPr b="0" lang="en-US" sz="7500" spc="-1" strike="noStrike">
                <a:solidFill>
                  <a:srgbClr val="ccffff"/>
                </a:solidFill>
                <a:latin typeface="Arial"/>
              </a:rPr>
              <a:t>#21,23,27,29,31</a:t>
            </a:r>
            <a:endParaRPr b="0" lang="en-US" sz="75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98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WordArt 5"/>
          <p:cNvSpPr txBox="1"/>
          <p:nvPr/>
        </p:nvSpPr>
        <p:spPr>
          <a:xfrm>
            <a:off x="1447920" y="1143000"/>
            <a:ext cx="609588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Homewor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heck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Questions from homework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(pg 453 #3-13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ccffff"/>
                </a:solidFill>
                <a:latin typeface="Arial"/>
              </a:rPr>
              <a:t>Lesson 6.3</a:t>
            </a:r>
            <a:br>
              <a:rPr sz="8500"/>
            </a:br>
            <a:r>
              <a:rPr b="0" lang="en-US" sz="8500" spc="-1" strike="noStrike">
                <a:solidFill>
                  <a:srgbClr val="ccffff"/>
                </a:solidFill>
                <a:latin typeface="Arial"/>
              </a:rPr>
              <a:t>part two</a:t>
            </a:r>
            <a:endParaRPr b="0" lang="en-US" sz="85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ccffff"/>
                </a:solidFill>
                <a:latin typeface="Arial"/>
              </a:rPr>
              <a:t>Vector Operations</a:t>
            </a:r>
            <a:endParaRPr b="0" lang="en-US" sz="75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ddition, subtraction and scalar multiplication of vectors is done simply as one might expec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f </a:t>
            </a: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u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= &lt;-1, 6&gt; and </a:t>
            </a: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v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= &lt;4, 5&gt;, then find the following: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Ink 7"/>
          <p:cNvSpPr/>
          <p:nvPr/>
        </p:nvSpPr>
        <p:spPr>
          <a:xfrm>
            <a:off x="1455840" y="2143080"/>
            <a:ext cx="4152960" cy="669960"/>
          </a:xfrm>
          <a:custGeom>
            <a:avLst/>
            <a:gdLst/>
            <a:ahLst/>
            <a:rect l="l" t="t" r="r" b="b"/>
            <a:pathLst>
              <a:path w="11535" h="1861">
                <a:moveTo>
                  <a:pt x="4043" y="6672"/>
                </a:moveTo>
                <a:cubicBezTo>
                  <a:pt x="4258" y="6672"/>
                  <a:pt x="4473" y="6672"/>
                  <a:pt x="4688" y="6672"/>
                </a:cubicBezTo>
              </a:path>
              <a:path w="11535" h="1861">
                <a:moveTo>
                  <a:pt x="4093" y="6896"/>
                </a:moveTo>
                <a:cubicBezTo>
                  <a:pt x="4172" y="6896"/>
                  <a:pt x="4239" y="6917"/>
                  <a:pt x="4316" y="6921"/>
                </a:cubicBezTo>
                <a:cubicBezTo>
                  <a:pt x="4423" y="6927"/>
                  <a:pt x="4531" y="6921"/>
                  <a:pt x="4638" y="6921"/>
                </a:cubicBezTo>
              </a:path>
              <a:path w="11535" h="1861">
                <a:moveTo>
                  <a:pt x="5184" y="6449"/>
                </a:moveTo>
                <a:cubicBezTo>
                  <a:pt x="5114" y="6472"/>
                  <a:pt x="5177" y="6371"/>
                  <a:pt x="5209" y="6325"/>
                </a:cubicBezTo>
                <a:cubicBezTo>
                  <a:pt x="5249" y="6267"/>
                  <a:pt x="5283" y="6276"/>
                  <a:pt x="5333" y="6251"/>
                </a:cubicBezTo>
                <a:cubicBezTo>
                  <a:pt x="5383" y="6226"/>
                  <a:pt x="5466" y="6242"/>
                  <a:pt x="5507" y="6300"/>
                </a:cubicBezTo>
                <a:cubicBezTo>
                  <a:pt x="5542" y="6350"/>
                  <a:pt x="5571" y="6415"/>
                  <a:pt x="5581" y="6474"/>
                </a:cubicBezTo>
                <a:cubicBezTo>
                  <a:pt x="5598" y="6576"/>
                  <a:pt x="5586" y="6699"/>
                  <a:pt x="5556" y="6796"/>
                </a:cubicBezTo>
                <a:cubicBezTo>
                  <a:pt x="5527" y="6891"/>
                  <a:pt x="5494" y="6990"/>
                  <a:pt x="5432" y="7069"/>
                </a:cubicBezTo>
                <a:cubicBezTo>
                  <a:pt x="5373" y="7144"/>
                  <a:pt x="5292" y="7224"/>
                  <a:pt x="5209" y="7268"/>
                </a:cubicBezTo>
                <a:cubicBezTo>
                  <a:pt x="5138" y="7306"/>
                  <a:pt x="5082" y="7300"/>
                  <a:pt x="5011" y="7268"/>
                </a:cubicBezTo>
                <a:cubicBezTo>
                  <a:pt x="4927" y="7230"/>
                  <a:pt x="4936" y="7204"/>
                  <a:pt x="4936" y="7119"/>
                </a:cubicBezTo>
                <a:cubicBezTo>
                  <a:pt x="4936" y="7044"/>
                  <a:pt x="4933" y="7002"/>
                  <a:pt x="4986" y="6945"/>
                </a:cubicBezTo>
                <a:cubicBezTo>
                  <a:pt x="5027" y="6900"/>
                  <a:pt x="5088" y="6902"/>
                  <a:pt x="5135" y="6921"/>
                </a:cubicBezTo>
                <a:cubicBezTo>
                  <a:pt x="5196" y="6946"/>
                  <a:pt x="5271" y="6988"/>
                  <a:pt x="5308" y="7045"/>
                </a:cubicBezTo>
                <a:cubicBezTo>
                  <a:pt x="5340" y="7095"/>
                  <a:pt x="5375" y="7193"/>
                  <a:pt x="5383" y="7243"/>
                </a:cubicBezTo>
                <a:cubicBezTo>
                  <a:pt x="5390" y="7292"/>
                  <a:pt x="5383" y="7292"/>
                  <a:pt x="5383" y="7342"/>
                </a:cubicBezTo>
              </a:path>
              <a:path w="11535" h="1861">
                <a:moveTo>
                  <a:pt x="6524" y="6028"/>
                </a:moveTo>
                <a:cubicBezTo>
                  <a:pt x="6484" y="6067"/>
                  <a:pt x="6439" y="6143"/>
                  <a:pt x="6400" y="6176"/>
                </a:cubicBezTo>
                <a:cubicBezTo>
                  <a:pt x="6349" y="6220"/>
                  <a:pt x="6271" y="6273"/>
                  <a:pt x="6226" y="6325"/>
                </a:cubicBezTo>
                <a:cubicBezTo>
                  <a:pt x="6171" y="6389"/>
                  <a:pt x="6101" y="6456"/>
                  <a:pt x="6028" y="6499"/>
                </a:cubicBezTo>
                <a:cubicBezTo>
                  <a:pt x="5984" y="6521"/>
                  <a:pt x="5973" y="6524"/>
                  <a:pt x="5953" y="6548"/>
                </a:cubicBezTo>
                <a:cubicBezTo>
                  <a:pt x="5993" y="6588"/>
                  <a:pt x="6015" y="6631"/>
                  <a:pt x="6052" y="6672"/>
                </a:cubicBezTo>
                <a:cubicBezTo>
                  <a:pt x="6108" y="6734"/>
                  <a:pt x="6150" y="6807"/>
                  <a:pt x="6201" y="6871"/>
                </a:cubicBezTo>
                <a:cubicBezTo>
                  <a:pt x="6257" y="6941"/>
                  <a:pt x="6295" y="7025"/>
                  <a:pt x="6350" y="7094"/>
                </a:cubicBezTo>
                <a:cubicBezTo>
                  <a:pt x="6395" y="7151"/>
                  <a:pt x="6437" y="7207"/>
                  <a:pt x="6474" y="7268"/>
                </a:cubicBezTo>
                <a:cubicBezTo>
                  <a:pt x="6508" y="7324"/>
                  <a:pt x="6507" y="7374"/>
                  <a:pt x="6524" y="7293"/>
                </a:cubicBezTo>
              </a:path>
              <a:path w="11535" h="1861">
                <a:moveTo>
                  <a:pt x="6846" y="6449"/>
                </a:moveTo>
                <a:cubicBezTo>
                  <a:pt x="6814" y="6513"/>
                  <a:pt x="6783" y="6580"/>
                  <a:pt x="6772" y="6648"/>
                </a:cubicBezTo>
                <a:cubicBezTo>
                  <a:pt x="6762" y="6711"/>
                  <a:pt x="6747" y="6750"/>
                  <a:pt x="6747" y="6821"/>
                </a:cubicBezTo>
                <a:cubicBezTo>
                  <a:pt x="6837" y="6821"/>
                  <a:pt x="6911" y="6810"/>
                  <a:pt x="6995" y="6796"/>
                </a:cubicBezTo>
                <a:cubicBezTo>
                  <a:pt x="7053" y="6786"/>
                  <a:pt x="7110" y="6778"/>
                  <a:pt x="7169" y="6772"/>
                </a:cubicBezTo>
              </a:path>
              <a:path w="11535" h="1861">
                <a:moveTo>
                  <a:pt x="7243" y="6325"/>
                </a:moveTo>
                <a:cubicBezTo>
                  <a:pt x="7210" y="6446"/>
                  <a:pt x="7197" y="6570"/>
                  <a:pt x="7193" y="6697"/>
                </a:cubicBezTo>
                <a:cubicBezTo>
                  <a:pt x="7190" y="6786"/>
                  <a:pt x="7189" y="6908"/>
                  <a:pt x="7169" y="6995"/>
                </a:cubicBezTo>
                <a:cubicBezTo>
                  <a:pt x="7155" y="7057"/>
                  <a:pt x="7167" y="7160"/>
                  <a:pt x="7144" y="7218"/>
                </a:cubicBezTo>
                <a:cubicBezTo>
                  <a:pt x="7134" y="7243"/>
                  <a:pt x="7119" y="7370"/>
                  <a:pt x="7119" y="7317"/>
                </a:cubicBezTo>
              </a:path>
              <a:path w="11535" h="1861">
                <a:moveTo>
                  <a:pt x="7417" y="7268"/>
                </a:moveTo>
                <a:cubicBezTo>
                  <a:pt x="7410" y="7352"/>
                  <a:pt x="7377" y="7444"/>
                  <a:pt x="7367" y="7516"/>
                </a:cubicBezTo>
                <a:cubicBezTo>
                  <a:pt x="7367" y="7574"/>
                  <a:pt x="7383" y="7598"/>
                  <a:pt x="7342" y="7590"/>
                </a:cubicBezTo>
              </a:path>
              <a:path w="11535" h="1861">
                <a:moveTo>
                  <a:pt x="7838" y="6400"/>
                </a:moveTo>
                <a:cubicBezTo>
                  <a:pt x="7919" y="6378"/>
                  <a:pt x="7978" y="6375"/>
                  <a:pt x="8062" y="6375"/>
                </a:cubicBezTo>
                <a:cubicBezTo>
                  <a:pt x="8154" y="6375"/>
                  <a:pt x="8222" y="6367"/>
                  <a:pt x="8310" y="6350"/>
                </a:cubicBezTo>
                <a:cubicBezTo>
                  <a:pt x="8318" y="6350"/>
                  <a:pt x="8326" y="6350"/>
                  <a:pt x="8334" y="6350"/>
                </a:cubicBezTo>
              </a:path>
              <a:path w="11535" h="1861">
                <a:moveTo>
                  <a:pt x="7838" y="6449"/>
                </a:moveTo>
                <a:cubicBezTo>
                  <a:pt x="7796" y="6566"/>
                  <a:pt x="7764" y="6611"/>
                  <a:pt x="7764" y="6722"/>
                </a:cubicBezTo>
                <a:cubicBezTo>
                  <a:pt x="7764" y="6767"/>
                  <a:pt x="7760" y="6780"/>
                  <a:pt x="7789" y="6796"/>
                </a:cubicBezTo>
                <a:cubicBezTo>
                  <a:pt x="7829" y="6740"/>
                  <a:pt x="7874" y="6710"/>
                  <a:pt x="7938" y="6697"/>
                </a:cubicBezTo>
                <a:cubicBezTo>
                  <a:pt x="8007" y="6683"/>
                  <a:pt x="8082" y="6742"/>
                  <a:pt x="8136" y="6772"/>
                </a:cubicBezTo>
                <a:cubicBezTo>
                  <a:pt x="8203" y="6809"/>
                  <a:pt x="8231" y="6872"/>
                  <a:pt x="8260" y="6945"/>
                </a:cubicBezTo>
                <a:cubicBezTo>
                  <a:pt x="8286" y="7011"/>
                  <a:pt x="8331" y="7095"/>
                  <a:pt x="8310" y="7169"/>
                </a:cubicBezTo>
                <a:cubicBezTo>
                  <a:pt x="8287" y="7250"/>
                  <a:pt x="8218" y="7294"/>
                  <a:pt x="8161" y="7317"/>
                </a:cubicBezTo>
                <a:cubicBezTo>
                  <a:pt x="8073" y="7353"/>
                  <a:pt x="8047" y="7331"/>
                  <a:pt x="7962" y="7317"/>
                </a:cubicBezTo>
                <a:cubicBezTo>
                  <a:pt x="7890" y="7305"/>
                  <a:pt x="7871" y="7283"/>
                  <a:pt x="7838" y="7218"/>
                </a:cubicBezTo>
              </a:path>
              <a:path w="11535" h="1861">
                <a:moveTo>
                  <a:pt x="8384" y="5978"/>
                </a:moveTo>
                <a:cubicBezTo>
                  <a:pt x="8432" y="6008"/>
                  <a:pt x="8490" y="6041"/>
                  <a:pt x="8533" y="6077"/>
                </a:cubicBezTo>
                <a:cubicBezTo>
                  <a:pt x="8603" y="6136"/>
                  <a:pt x="8681" y="6170"/>
                  <a:pt x="8756" y="6226"/>
                </a:cubicBezTo>
                <a:cubicBezTo>
                  <a:pt x="8840" y="6288"/>
                  <a:pt x="8940" y="6319"/>
                  <a:pt x="9029" y="6375"/>
                </a:cubicBezTo>
                <a:cubicBezTo>
                  <a:pt x="9109" y="6425"/>
                  <a:pt x="9207" y="6462"/>
                  <a:pt x="9277" y="6524"/>
                </a:cubicBezTo>
                <a:cubicBezTo>
                  <a:pt x="9285" y="6532"/>
                  <a:pt x="9294" y="6540"/>
                  <a:pt x="9302" y="6548"/>
                </a:cubicBezTo>
                <a:cubicBezTo>
                  <a:pt x="9235" y="6558"/>
                  <a:pt x="9226" y="6574"/>
                  <a:pt x="9178" y="6623"/>
                </a:cubicBezTo>
                <a:cubicBezTo>
                  <a:pt x="9104" y="6697"/>
                  <a:pt x="9075" y="6795"/>
                  <a:pt x="9004" y="6871"/>
                </a:cubicBezTo>
                <a:cubicBezTo>
                  <a:pt x="8936" y="6943"/>
                  <a:pt x="8861" y="7013"/>
                  <a:pt x="8806" y="7094"/>
                </a:cubicBezTo>
                <a:cubicBezTo>
                  <a:pt x="8759" y="7163"/>
                  <a:pt x="8715" y="7232"/>
                  <a:pt x="8657" y="7293"/>
                </a:cubicBezTo>
                <a:cubicBezTo>
                  <a:pt x="8615" y="7338"/>
                  <a:pt x="8525" y="7388"/>
                  <a:pt x="8632" y="7367"/>
                </a:cubicBezTo>
              </a:path>
              <a:path w="11535" h="1861">
                <a:moveTo>
                  <a:pt x="9426" y="6796"/>
                </a:moveTo>
                <a:cubicBezTo>
                  <a:pt x="9490" y="6775"/>
                  <a:pt x="9579" y="6753"/>
                  <a:pt x="9649" y="6772"/>
                </a:cubicBezTo>
                <a:cubicBezTo>
                  <a:pt x="9726" y="6793"/>
                  <a:pt x="9790" y="6796"/>
                  <a:pt x="9872" y="6796"/>
                </a:cubicBezTo>
                <a:cubicBezTo>
                  <a:pt x="9930" y="6796"/>
                  <a:pt x="9938" y="6796"/>
                  <a:pt x="9971" y="6796"/>
                </a:cubicBezTo>
              </a:path>
              <a:path w="11535" h="1861">
                <a:moveTo>
                  <a:pt x="9401" y="6945"/>
                </a:moveTo>
                <a:cubicBezTo>
                  <a:pt x="9475" y="6945"/>
                  <a:pt x="9529" y="6967"/>
                  <a:pt x="9599" y="6970"/>
                </a:cubicBezTo>
                <a:cubicBezTo>
                  <a:pt x="9680" y="6974"/>
                  <a:pt x="9741" y="6995"/>
                  <a:pt x="9823" y="6995"/>
                </a:cubicBezTo>
                <a:cubicBezTo>
                  <a:pt x="9905" y="6995"/>
                  <a:pt x="9944" y="6973"/>
                  <a:pt x="9947" y="6970"/>
                </a:cubicBezTo>
                <a:cubicBezTo>
                  <a:pt x="9955" y="6970"/>
                  <a:pt x="9963" y="6970"/>
                  <a:pt x="9971" y="6970"/>
                </a:cubicBezTo>
              </a:path>
              <a:path w="11535" h="1861">
                <a:moveTo>
                  <a:pt x="11187" y="6028"/>
                </a:moveTo>
                <a:cubicBezTo>
                  <a:pt x="11152" y="6119"/>
                  <a:pt x="11068" y="6158"/>
                  <a:pt x="10988" y="6226"/>
                </a:cubicBezTo>
                <a:cubicBezTo>
                  <a:pt x="10913" y="6290"/>
                  <a:pt x="10843" y="6363"/>
                  <a:pt x="10765" y="6424"/>
                </a:cubicBezTo>
                <a:cubicBezTo>
                  <a:pt x="10691" y="6482"/>
                  <a:pt x="10613" y="6539"/>
                  <a:pt x="10542" y="6598"/>
                </a:cubicBezTo>
                <a:cubicBezTo>
                  <a:pt x="10491" y="6641"/>
                  <a:pt x="10440" y="6675"/>
                  <a:pt x="10393" y="6722"/>
                </a:cubicBezTo>
                <a:cubicBezTo>
                  <a:pt x="10385" y="6730"/>
                  <a:pt x="10376" y="6739"/>
                  <a:pt x="10368" y="6747"/>
                </a:cubicBezTo>
                <a:cubicBezTo>
                  <a:pt x="10437" y="6788"/>
                  <a:pt x="10440" y="6777"/>
                  <a:pt x="10492" y="6846"/>
                </a:cubicBezTo>
                <a:cubicBezTo>
                  <a:pt x="10552" y="6927"/>
                  <a:pt x="10642" y="6982"/>
                  <a:pt x="10716" y="7045"/>
                </a:cubicBezTo>
                <a:cubicBezTo>
                  <a:pt x="10797" y="7114"/>
                  <a:pt x="10883" y="7160"/>
                  <a:pt x="10964" y="7218"/>
                </a:cubicBezTo>
                <a:cubicBezTo>
                  <a:pt x="10987" y="7235"/>
                  <a:pt x="11135" y="7384"/>
                  <a:pt x="11162" y="7367"/>
                </a:cubicBezTo>
                <a:cubicBezTo>
                  <a:pt x="11162" y="7350"/>
                  <a:pt x="11162" y="7334"/>
                  <a:pt x="11162" y="7317"/>
                </a:cubicBezTo>
              </a:path>
              <a:path w="11535" h="1861">
                <a:moveTo>
                  <a:pt x="14536" y="5953"/>
                </a:moveTo>
                <a:cubicBezTo>
                  <a:pt x="14580" y="5992"/>
                  <a:pt x="14604" y="6028"/>
                  <a:pt x="14660" y="6052"/>
                </a:cubicBezTo>
                <a:cubicBezTo>
                  <a:pt x="14787" y="6107"/>
                  <a:pt x="14942" y="6213"/>
                  <a:pt x="15056" y="6300"/>
                </a:cubicBezTo>
                <a:cubicBezTo>
                  <a:pt x="15204" y="6414"/>
                  <a:pt x="15343" y="6524"/>
                  <a:pt x="15503" y="6623"/>
                </a:cubicBezTo>
                <a:cubicBezTo>
                  <a:pt x="15533" y="6653"/>
                  <a:pt x="15547" y="6664"/>
                  <a:pt x="15577" y="6672"/>
                </a:cubicBezTo>
                <a:cubicBezTo>
                  <a:pt x="15529" y="6720"/>
                  <a:pt x="15495" y="6771"/>
                  <a:pt x="15453" y="6821"/>
                </a:cubicBezTo>
                <a:cubicBezTo>
                  <a:pt x="15373" y="6918"/>
                  <a:pt x="15273" y="6989"/>
                  <a:pt x="15180" y="7069"/>
                </a:cubicBezTo>
                <a:cubicBezTo>
                  <a:pt x="15110" y="7129"/>
                  <a:pt x="15058" y="7193"/>
                  <a:pt x="14982" y="7243"/>
                </a:cubicBezTo>
                <a:cubicBezTo>
                  <a:pt x="14907" y="7292"/>
                  <a:pt x="14849" y="7331"/>
                  <a:pt x="14784" y="7392"/>
                </a:cubicBezTo>
                <a:cubicBezTo>
                  <a:pt x="14730" y="7443"/>
                  <a:pt x="14722" y="7432"/>
                  <a:pt x="14684" y="7441"/>
                </a:cubicBezTo>
              </a:path>
              <a:path w="11535" h="1861">
                <a:moveTo>
                  <a:pt x="12973" y="7392"/>
                </a:moveTo>
                <a:cubicBezTo>
                  <a:pt x="12965" y="7503"/>
                  <a:pt x="12920" y="7540"/>
                  <a:pt x="12898" y="7640"/>
                </a:cubicBezTo>
                <a:cubicBezTo>
                  <a:pt x="12884" y="7704"/>
                  <a:pt x="12857" y="7749"/>
                  <a:pt x="12824" y="7813"/>
                </a:cubicBezTo>
              </a:path>
              <a:path w="11535" h="1861">
                <a:moveTo>
                  <a:pt x="12303" y="6350"/>
                </a:moveTo>
                <a:cubicBezTo>
                  <a:pt x="12247" y="6336"/>
                  <a:pt x="12200" y="6308"/>
                  <a:pt x="12129" y="6325"/>
                </a:cubicBezTo>
                <a:cubicBezTo>
                  <a:pt x="12042" y="6346"/>
                  <a:pt x="11965" y="6359"/>
                  <a:pt x="11881" y="6400"/>
                </a:cubicBezTo>
                <a:cubicBezTo>
                  <a:pt x="11830" y="6425"/>
                  <a:pt x="11761" y="6414"/>
                  <a:pt x="11733" y="6474"/>
                </a:cubicBezTo>
                <a:cubicBezTo>
                  <a:pt x="11704" y="6534"/>
                  <a:pt x="11727" y="6621"/>
                  <a:pt x="11782" y="6672"/>
                </a:cubicBezTo>
                <a:cubicBezTo>
                  <a:pt x="11838" y="6724"/>
                  <a:pt x="11918" y="6774"/>
                  <a:pt x="11981" y="6821"/>
                </a:cubicBezTo>
                <a:cubicBezTo>
                  <a:pt x="12069" y="6886"/>
                  <a:pt x="12106" y="6924"/>
                  <a:pt x="12154" y="7020"/>
                </a:cubicBezTo>
                <a:cubicBezTo>
                  <a:pt x="12187" y="7085"/>
                  <a:pt x="12225" y="7126"/>
                  <a:pt x="12154" y="7193"/>
                </a:cubicBezTo>
                <a:cubicBezTo>
                  <a:pt x="12105" y="7238"/>
                  <a:pt x="12007" y="7251"/>
                  <a:pt x="11956" y="7218"/>
                </a:cubicBezTo>
                <a:cubicBezTo>
                  <a:pt x="11885" y="7173"/>
                  <a:pt x="11858" y="7074"/>
                  <a:pt x="11881" y="6995"/>
                </a:cubicBezTo>
                <a:cubicBezTo>
                  <a:pt x="11915" y="6880"/>
                  <a:pt x="11978" y="6786"/>
                  <a:pt x="12055" y="6697"/>
                </a:cubicBezTo>
                <a:cubicBezTo>
                  <a:pt x="12106" y="6638"/>
                  <a:pt x="12148" y="6580"/>
                  <a:pt x="12204" y="6524"/>
                </a:cubicBezTo>
                <a:cubicBezTo>
                  <a:pt x="12256" y="6472"/>
                  <a:pt x="12290" y="6435"/>
                  <a:pt x="12353" y="6400"/>
                </a:cubicBezTo>
              </a:path>
              <a:path w="11535" h="1861">
                <a:moveTo>
                  <a:pt x="13494" y="6325"/>
                </a:moveTo>
                <a:cubicBezTo>
                  <a:pt x="13494" y="6574"/>
                  <a:pt x="13486" y="6825"/>
                  <a:pt x="13519" y="7069"/>
                </a:cubicBezTo>
                <a:cubicBezTo>
                  <a:pt x="13529" y="7139"/>
                  <a:pt x="13543" y="7195"/>
                  <a:pt x="13543" y="7268"/>
                </a:cubicBezTo>
              </a:path>
              <a:path w="11535" h="1861">
                <a:moveTo>
                  <a:pt x="13940" y="6474"/>
                </a:moveTo>
                <a:cubicBezTo>
                  <a:pt x="13903" y="6631"/>
                  <a:pt x="13859" y="6756"/>
                  <a:pt x="13841" y="6921"/>
                </a:cubicBezTo>
                <a:cubicBezTo>
                  <a:pt x="13832" y="7002"/>
                  <a:pt x="13844" y="7055"/>
                  <a:pt x="13891" y="7119"/>
                </a:cubicBezTo>
                <a:cubicBezTo>
                  <a:pt x="13930" y="7172"/>
                  <a:pt x="14000" y="7192"/>
                  <a:pt x="14064" y="7169"/>
                </a:cubicBezTo>
                <a:cubicBezTo>
                  <a:pt x="14131" y="7145"/>
                  <a:pt x="14158" y="7080"/>
                  <a:pt x="14188" y="7020"/>
                </a:cubicBezTo>
                <a:cubicBezTo>
                  <a:pt x="14231" y="6935"/>
                  <a:pt x="14256" y="6844"/>
                  <a:pt x="14238" y="6747"/>
                </a:cubicBezTo>
                <a:cubicBezTo>
                  <a:pt x="14222" y="6660"/>
                  <a:pt x="14172" y="6586"/>
                  <a:pt x="14114" y="6524"/>
                </a:cubicBezTo>
                <a:cubicBezTo>
                  <a:pt x="14034" y="6439"/>
                  <a:pt x="13923" y="6416"/>
                  <a:pt x="13816" y="637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Ink 8"/>
          <p:cNvSpPr/>
          <p:nvPr/>
        </p:nvSpPr>
        <p:spPr>
          <a:xfrm>
            <a:off x="1874880" y="2894040"/>
            <a:ext cx="4626000" cy="669960"/>
          </a:xfrm>
          <a:custGeom>
            <a:avLst/>
            <a:gdLst/>
            <a:ahLst/>
            <a:rect l="l" t="t" r="r" b="b"/>
            <a:pathLst>
              <a:path w="12850" h="1861">
                <a:moveTo>
                  <a:pt x="5209" y="8632"/>
                </a:moveTo>
                <a:cubicBezTo>
                  <a:pt x="5366" y="8632"/>
                  <a:pt x="5523" y="8632"/>
                  <a:pt x="5680" y="8632"/>
                </a:cubicBezTo>
              </a:path>
              <a:path w="12850" h="1861">
                <a:moveTo>
                  <a:pt x="5259" y="8781"/>
                </a:moveTo>
                <a:cubicBezTo>
                  <a:pt x="5340" y="8781"/>
                  <a:pt x="5415" y="8792"/>
                  <a:pt x="5482" y="8806"/>
                </a:cubicBezTo>
                <a:cubicBezTo>
                  <a:pt x="5548" y="8819"/>
                  <a:pt x="5651" y="8810"/>
                  <a:pt x="5680" y="8781"/>
                </a:cubicBezTo>
              </a:path>
              <a:path w="12850" h="1861">
                <a:moveTo>
                  <a:pt x="6846" y="8086"/>
                </a:moveTo>
                <a:cubicBezTo>
                  <a:pt x="6804" y="8128"/>
                  <a:pt x="6775" y="8159"/>
                  <a:pt x="6722" y="8186"/>
                </a:cubicBezTo>
                <a:cubicBezTo>
                  <a:pt x="6653" y="8222"/>
                  <a:pt x="6624" y="8272"/>
                  <a:pt x="6548" y="8310"/>
                </a:cubicBezTo>
                <a:cubicBezTo>
                  <a:pt x="6477" y="8345"/>
                  <a:pt x="6419" y="8372"/>
                  <a:pt x="6350" y="8409"/>
                </a:cubicBezTo>
                <a:cubicBezTo>
                  <a:pt x="6305" y="8433"/>
                  <a:pt x="6258" y="8454"/>
                  <a:pt x="6226" y="8483"/>
                </a:cubicBezTo>
                <a:cubicBezTo>
                  <a:pt x="6218" y="8491"/>
                  <a:pt x="6209" y="8500"/>
                  <a:pt x="6201" y="8508"/>
                </a:cubicBezTo>
                <a:cubicBezTo>
                  <a:pt x="6238" y="8572"/>
                  <a:pt x="6277" y="8649"/>
                  <a:pt x="6325" y="8706"/>
                </a:cubicBezTo>
                <a:cubicBezTo>
                  <a:pt x="6350" y="8735"/>
                  <a:pt x="6419" y="8823"/>
                  <a:pt x="6449" y="8855"/>
                </a:cubicBezTo>
                <a:cubicBezTo>
                  <a:pt x="6506" y="8915"/>
                  <a:pt x="6567" y="8975"/>
                  <a:pt x="6623" y="9029"/>
                </a:cubicBezTo>
                <a:cubicBezTo>
                  <a:pt x="6680" y="9083"/>
                  <a:pt x="6720" y="9122"/>
                  <a:pt x="6772" y="9178"/>
                </a:cubicBezTo>
                <a:cubicBezTo>
                  <a:pt x="6841" y="9253"/>
                  <a:pt x="6806" y="9211"/>
                  <a:pt x="6871" y="9227"/>
                </a:cubicBezTo>
              </a:path>
              <a:path w="12850" h="1861">
                <a:moveTo>
                  <a:pt x="6747" y="8632"/>
                </a:moveTo>
                <a:cubicBezTo>
                  <a:pt x="6826" y="8536"/>
                  <a:pt x="6828" y="8601"/>
                  <a:pt x="6921" y="8632"/>
                </a:cubicBezTo>
                <a:cubicBezTo>
                  <a:pt x="7018" y="8665"/>
                  <a:pt x="7146" y="8637"/>
                  <a:pt x="7218" y="8582"/>
                </a:cubicBezTo>
              </a:path>
              <a:path w="12850" h="1861">
                <a:moveTo>
                  <a:pt x="7441" y="8186"/>
                </a:moveTo>
                <a:cubicBezTo>
                  <a:pt x="7433" y="8271"/>
                  <a:pt x="7417" y="8348"/>
                  <a:pt x="7417" y="8434"/>
                </a:cubicBezTo>
                <a:cubicBezTo>
                  <a:pt x="7417" y="8542"/>
                  <a:pt x="7449" y="8680"/>
                  <a:pt x="7441" y="8781"/>
                </a:cubicBezTo>
                <a:cubicBezTo>
                  <a:pt x="7435" y="8855"/>
                  <a:pt x="7417" y="8926"/>
                  <a:pt x="7417" y="9004"/>
                </a:cubicBezTo>
                <a:cubicBezTo>
                  <a:pt x="7417" y="9029"/>
                  <a:pt x="7417" y="9054"/>
                  <a:pt x="7417" y="9079"/>
                </a:cubicBezTo>
              </a:path>
              <a:path w="12850" h="1861">
                <a:moveTo>
                  <a:pt x="7640" y="8880"/>
                </a:moveTo>
                <a:cubicBezTo>
                  <a:pt x="7653" y="8999"/>
                  <a:pt x="7652" y="9027"/>
                  <a:pt x="7640" y="9153"/>
                </a:cubicBezTo>
                <a:cubicBezTo>
                  <a:pt x="7634" y="9215"/>
                  <a:pt x="7612" y="9411"/>
                  <a:pt x="7665" y="9376"/>
                </a:cubicBezTo>
              </a:path>
              <a:path w="12850" h="1861">
                <a:moveTo>
                  <a:pt x="8062" y="8334"/>
                </a:moveTo>
                <a:cubicBezTo>
                  <a:pt x="8055" y="8412"/>
                  <a:pt x="8055" y="8506"/>
                  <a:pt x="8037" y="8582"/>
                </a:cubicBezTo>
                <a:cubicBezTo>
                  <a:pt x="8007" y="8706"/>
                  <a:pt x="7987" y="8798"/>
                  <a:pt x="7987" y="8930"/>
                </a:cubicBezTo>
                <a:cubicBezTo>
                  <a:pt x="7987" y="8990"/>
                  <a:pt x="8024" y="9086"/>
                  <a:pt x="8086" y="9103"/>
                </a:cubicBezTo>
                <a:cubicBezTo>
                  <a:pt x="8129" y="9115"/>
                  <a:pt x="8275" y="9104"/>
                  <a:pt x="8310" y="9079"/>
                </a:cubicBezTo>
                <a:cubicBezTo>
                  <a:pt x="8387" y="9025"/>
                  <a:pt x="8428" y="8948"/>
                  <a:pt x="8409" y="8855"/>
                </a:cubicBezTo>
                <a:cubicBezTo>
                  <a:pt x="8389" y="8756"/>
                  <a:pt x="8312" y="8674"/>
                  <a:pt x="8235" y="8781"/>
                </a:cubicBezTo>
                <a:cubicBezTo>
                  <a:pt x="8209" y="8816"/>
                  <a:pt x="8210" y="8885"/>
                  <a:pt x="8210" y="8930"/>
                </a:cubicBezTo>
                <a:cubicBezTo>
                  <a:pt x="8210" y="9003"/>
                  <a:pt x="8204" y="9045"/>
                  <a:pt x="8235" y="9103"/>
                </a:cubicBezTo>
                <a:cubicBezTo>
                  <a:pt x="8259" y="9148"/>
                  <a:pt x="8284" y="9183"/>
                  <a:pt x="8310" y="9227"/>
                </a:cubicBezTo>
              </a:path>
              <a:path w="12850" h="1861">
                <a:moveTo>
                  <a:pt x="8334" y="8037"/>
                </a:moveTo>
                <a:cubicBezTo>
                  <a:pt x="8392" y="8094"/>
                  <a:pt x="8446" y="8114"/>
                  <a:pt x="8508" y="8161"/>
                </a:cubicBezTo>
                <a:cubicBezTo>
                  <a:pt x="8578" y="8215"/>
                  <a:pt x="8646" y="8275"/>
                  <a:pt x="8731" y="8310"/>
                </a:cubicBezTo>
                <a:cubicBezTo>
                  <a:pt x="8817" y="8345"/>
                  <a:pt x="8902" y="8379"/>
                  <a:pt x="8979" y="8409"/>
                </a:cubicBezTo>
                <a:cubicBezTo>
                  <a:pt x="9042" y="8434"/>
                  <a:pt x="9092" y="8472"/>
                  <a:pt x="9079" y="8483"/>
                </a:cubicBezTo>
                <a:cubicBezTo>
                  <a:pt x="9047" y="8511"/>
                  <a:pt x="9011" y="8536"/>
                  <a:pt x="8979" y="8582"/>
                </a:cubicBezTo>
                <a:cubicBezTo>
                  <a:pt x="8916" y="8673"/>
                  <a:pt x="8829" y="8754"/>
                  <a:pt x="8781" y="8855"/>
                </a:cubicBezTo>
                <a:cubicBezTo>
                  <a:pt x="8744" y="8932"/>
                  <a:pt x="8709" y="9010"/>
                  <a:pt x="8657" y="9079"/>
                </a:cubicBezTo>
                <a:cubicBezTo>
                  <a:pt x="8627" y="9108"/>
                  <a:pt x="8615" y="9122"/>
                  <a:pt x="8607" y="9153"/>
                </a:cubicBezTo>
              </a:path>
              <a:path w="12850" h="1861">
                <a:moveTo>
                  <a:pt x="9624" y="8409"/>
                </a:moveTo>
                <a:cubicBezTo>
                  <a:pt x="9624" y="8638"/>
                  <a:pt x="9607" y="8892"/>
                  <a:pt x="9649" y="9103"/>
                </a:cubicBezTo>
                <a:cubicBezTo>
                  <a:pt x="9649" y="9148"/>
                  <a:pt x="9652" y="9161"/>
                  <a:pt x="9624" y="9178"/>
                </a:cubicBezTo>
              </a:path>
              <a:path w="12850" h="1861">
                <a:moveTo>
                  <a:pt x="9327" y="8781"/>
                </a:moveTo>
                <a:cubicBezTo>
                  <a:pt x="9534" y="8781"/>
                  <a:pt x="9740" y="8781"/>
                  <a:pt x="9947" y="8781"/>
                </a:cubicBezTo>
              </a:path>
              <a:path w="12850" h="1861">
                <a:moveTo>
                  <a:pt x="10666" y="8186"/>
                </a:moveTo>
                <a:cubicBezTo>
                  <a:pt x="10596" y="8307"/>
                  <a:pt x="10542" y="8370"/>
                  <a:pt x="10468" y="8483"/>
                </a:cubicBezTo>
                <a:cubicBezTo>
                  <a:pt x="10415" y="8564"/>
                  <a:pt x="10364" y="8589"/>
                  <a:pt x="10294" y="8632"/>
                </a:cubicBezTo>
                <a:cubicBezTo>
                  <a:pt x="10268" y="8648"/>
                  <a:pt x="10211" y="8707"/>
                  <a:pt x="10195" y="8731"/>
                </a:cubicBezTo>
                <a:cubicBezTo>
                  <a:pt x="10142" y="8810"/>
                  <a:pt x="10242" y="8814"/>
                  <a:pt x="10269" y="8855"/>
                </a:cubicBezTo>
                <a:cubicBezTo>
                  <a:pt x="10329" y="8945"/>
                  <a:pt x="10374" y="8957"/>
                  <a:pt x="10468" y="9029"/>
                </a:cubicBezTo>
                <a:cubicBezTo>
                  <a:pt x="10550" y="9092"/>
                  <a:pt x="10670" y="9157"/>
                  <a:pt x="10740" y="9227"/>
                </a:cubicBezTo>
                <a:cubicBezTo>
                  <a:pt x="10791" y="9278"/>
                  <a:pt x="10863" y="9347"/>
                  <a:pt x="10939" y="9376"/>
                </a:cubicBezTo>
                <a:cubicBezTo>
                  <a:pt x="10955" y="9376"/>
                  <a:pt x="10972" y="9376"/>
                  <a:pt x="10988" y="9376"/>
                </a:cubicBezTo>
              </a:path>
              <a:path w="12850" h="1861">
                <a:moveTo>
                  <a:pt x="10964" y="8434"/>
                </a:moveTo>
                <a:cubicBezTo>
                  <a:pt x="10931" y="8506"/>
                  <a:pt x="10916" y="8586"/>
                  <a:pt x="10889" y="8657"/>
                </a:cubicBezTo>
                <a:cubicBezTo>
                  <a:pt x="10872" y="8703"/>
                  <a:pt x="10859" y="8736"/>
                  <a:pt x="10840" y="8781"/>
                </a:cubicBezTo>
                <a:cubicBezTo>
                  <a:pt x="10991" y="8781"/>
                  <a:pt x="11194" y="8819"/>
                  <a:pt x="11311" y="8731"/>
                </a:cubicBezTo>
              </a:path>
              <a:path w="12850" h="1861">
                <a:moveTo>
                  <a:pt x="11336" y="8235"/>
                </a:moveTo>
                <a:cubicBezTo>
                  <a:pt x="11261" y="8295"/>
                  <a:pt x="11221" y="8332"/>
                  <a:pt x="11212" y="8434"/>
                </a:cubicBezTo>
                <a:cubicBezTo>
                  <a:pt x="11189" y="8702"/>
                  <a:pt x="11212" y="8983"/>
                  <a:pt x="11212" y="9252"/>
                </a:cubicBezTo>
              </a:path>
              <a:path w="12850" h="1861">
                <a:moveTo>
                  <a:pt x="11609" y="9227"/>
                </a:moveTo>
                <a:cubicBezTo>
                  <a:pt x="11594" y="9329"/>
                  <a:pt x="11562" y="9433"/>
                  <a:pt x="11559" y="9525"/>
                </a:cubicBezTo>
                <a:cubicBezTo>
                  <a:pt x="11556" y="9597"/>
                  <a:pt x="11547" y="9712"/>
                  <a:pt x="11584" y="9748"/>
                </a:cubicBezTo>
              </a:path>
              <a:path w="12850" h="1861">
                <a:moveTo>
                  <a:pt x="11906" y="8334"/>
                </a:moveTo>
                <a:cubicBezTo>
                  <a:pt x="11994" y="8334"/>
                  <a:pt x="12250" y="8362"/>
                  <a:pt x="12303" y="8310"/>
                </a:cubicBezTo>
              </a:path>
              <a:path w="12850" h="1861">
                <a:moveTo>
                  <a:pt x="11857" y="8359"/>
                </a:moveTo>
                <a:cubicBezTo>
                  <a:pt x="11839" y="8454"/>
                  <a:pt x="11811" y="8539"/>
                  <a:pt x="11807" y="8632"/>
                </a:cubicBezTo>
                <a:cubicBezTo>
                  <a:pt x="11807" y="8657"/>
                  <a:pt x="11807" y="8681"/>
                  <a:pt x="11807" y="8706"/>
                </a:cubicBezTo>
                <a:cubicBezTo>
                  <a:pt x="11880" y="8706"/>
                  <a:pt x="11850" y="8663"/>
                  <a:pt x="11906" y="8632"/>
                </a:cubicBezTo>
                <a:cubicBezTo>
                  <a:pt x="11946" y="8610"/>
                  <a:pt x="11983" y="8550"/>
                  <a:pt x="12055" y="8582"/>
                </a:cubicBezTo>
                <a:cubicBezTo>
                  <a:pt x="12157" y="8627"/>
                  <a:pt x="12177" y="8698"/>
                  <a:pt x="12229" y="8781"/>
                </a:cubicBezTo>
                <a:cubicBezTo>
                  <a:pt x="12278" y="8860"/>
                  <a:pt x="12278" y="8911"/>
                  <a:pt x="12278" y="9004"/>
                </a:cubicBezTo>
                <a:cubicBezTo>
                  <a:pt x="12278" y="9096"/>
                  <a:pt x="12274" y="9104"/>
                  <a:pt x="12229" y="9178"/>
                </a:cubicBezTo>
                <a:cubicBezTo>
                  <a:pt x="12195" y="9235"/>
                  <a:pt x="12147" y="9248"/>
                  <a:pt x="12080" y="9252"/>
                </a:cubicBezTo>
                <a:cubicBezTo>
                  <a:pt x="11988" y="9257"/>
                  <a:pt x="11939" y="9182"/>
                  <a:pt x="11857" y="9153"/>
                </a:cubicBezTo>
                <a:cubicBezTo>
                  <a:pt x="11849" y="9153"/>
                  <a:pt x="11840" y="9153"/>
                  <a:pt x="11832" y="9153"/>
                </a:cubicBezTo>
              </a:path>
              <a:path w="12850" h="1861">
                <a:moveTo>
                  <a:pt x="12378" y="8161"/>
                </a:moveTo>
                <a:cubicBezTo>
                  <a:pt x="12486" y="8238"/>
                  <a:pt x="12587" y="8297"/>
                  <a:pt x="12700" y="8359"/>
                </a:cubicBezTo>
                <a:cubicBezTo>
                  <a:pt x="12799" y="8413"/>
                  <a:pt x="12887" y="8526"/>
                  <a:pt x="12973" y="8558"/>
                </a:cubicBezTo>
                <a:cubicBezTo>
                  <a:pt x="13033" y="8581"/>
                  <a:pt x="13114" y="8613"/>
                  <a:pt x="13171" y="8632"/>
                </a:cubicBezTo>
                <a:cubicBezTo>
                  <a:pt x="13188" y="8632"/>
                  <a:pt x="13204" y="8632"/>
                  <a:pt x="13221" y="8632"/>
                </a:cubicBezTo>
                <a:cubicBezTo>
                  <a:pt x="13158" y="8695"/>
                  <a:pt x="13089" y="8724"/>
                  <a:pt x="13022" y="8781"/>
                </a:cubicBezTo>
                <a:cubicBezTo>
                  <a:pt x="12928" y="8861"/>
                  <a:pt x="12845" y="8978"/>
                  <a:pt x="12774" y="9079"/>
                </a:cubicBezTo>
                <a:cubicBezTo>
                  <a:pt x="12701" y="9184"/>
                  <a:pt x="12637" y="9268"/>
                  <a:pt x="12576" y="9376"/>
                </a:cubicBezTo>
                <a:cubicBezTo>
                  <a:pt x="12546" y="9406"/>
                  <a:pt x="12541" y="9420"/>
                  <a:pt x="12576" y="9451"/>
                </a:cubicBezTo>
              </a:path>
              <a:path w="12850" h="1861">
                <a:moveTo>
                  <a:pt x="13519" y="8855"/>
                </a:moveTo>
                <a:cubicBezTo>
                  <a:pt x="13599" y="8859"/>
                  <a:pt x="13735" y="8903"/>
                  <a:pt x="13816" y="8880"/>
                </a:cubicBezTo>
                <a:cubicBezTo>
                  <a:pt x="13833" y="8872"/>
                  <a:pt x="13849" y="8863"/>
                  <a:pt x="13866" y="8855"/>
                </a:cubicBezTo>
              </a:path>
              <a:path w="12850" h="1861">
                <a:moveTo>
                  <a:pt x="13444" y="9004"/>
                </a:moveTo>
                <a:cubicBezTo>
                  <a:pt x="13526" y="9073"/>
                  <a:pt x="13563" y="9079"/>
                  <a:pt x="13667" y="9079"/>
                </a:cubicBezTo>
              </a:path>
              <a:path w="12850" h="1861">
                <a:moveTo>
                  <a:pt x="14957" y="8235"/>
                </a:moveTo>
                <a:cubicBezTo>
                  <a:pt x="14886" y="8342"/>
                  <a:pt x="14847" y="8341"/>
                  <a:pt x="14759" y="8409"/>
                </a:cubicBezTo>
                <a:cubicBezTo>
                  <a:pt x="14670" y="8478"/>
                  <a:pt x="14594" y="8563"/>
                  <a:pt x="14511" y="8632"/>
                </a:cubicBezTo>
                <a:cubicBezTo>
                  <a:pt x="14448" y="8685"/>
                  <a:pt x="14365" y="8716"/>
                  <a:pt x="14312" y="8781"/>
                </a:cubicBezTo>
                <a:cubicBezTo>
                  <a:pt x="14280" y="8821"/>
                  <a:pt x="14242" y="8873"/>
                  <a:pt x="14263" y="8930"/>
                </a:cubicBezTo>
                <a:cubicBezTo>
                  <a:pt x="14282" y="8983"/>
                  <a:pt x="14351" y="9039"/>
                  <a:pt x="14387" y="9079"/>
                </a:cubicBezTo>
                <a:cubicBezTo>
                  <a:pt x="14470" y="9170"/>
                  <a:pt x="14565" y="9251"/>
                  <a:pt x="14660" y="9327"/>
                </a:cubicBezTo>
                <a:cubicBezTo>
                  <a:pt x="14768" y="9414"/>
                  <a:pt x="14913" y="9500"/>
                  <a:pt x="15007" y="9599"/>
                </a:cubicBezTo>
                <a:cubicBezTo>
                  <a:pt x="15085" y="9681"/>
                  <a:pt x="15114" y="9723"/>
                  <a:pt x="15230" y="9748"/>
                </a:cubicBezTo>
              </a:path>
              <a:path w="12850" h="1861">
                <a:moveTo>
                  <a:pt x="15180" y="8632"/>
                </a:moveTo>
                <a:cubicBezTo>
                  <a:pt x="15266" y="8572"/>
                  <a:pt x="15278" y="8558"/>
                  <a:pt x="15379" y="8558"/>
                </a:cubicBezTo>
                <a:cubicBezTo>
                  <a:pt x="15436" y="8558"/>
                  <a:pt x="15536" y="8591"/>
                  <a:pt x="15553" y="8657"/>
                </a:cubicBezTo>
                <a:cubicBezTo>
                  <a:pt x="15574" y="8738"/>
                  <a:pt x="15515" y="8811"/>
                  <a:pt x="15453" y="8855"/>
                </a:cubicBezTo>
                <a:cubicBezTo>
                  <a:pt x="15437" y="8866"/>
                  <a:pt x="15246" y="8990"/>
                  <a:pt x="15230" y="8954"/>
                </a:cubicBezTo>
                <a:cubicBezTo>
                  <a:pt x="15247" y="8946"/>
                  <a:pt x="15263" y="8938"/>
                  <a:pt x="15280" y="8930"/>
                </a:cubicBezTo>
                <a:cubicBezTo>
                  <a:pt x="15390" y="8930"/>
                  <a:pt x="15443" y="8931"/>
                  <a:pt x="15528" y="9004"/>
                </a:cubicBezTo>
                <a:cubicBezTo>
                  <a:pt x="15595" y="9061"/>
                  <a:pt x="15624" y="9147"/>
                  <a:pt x="15652" y="9227"/>
                </a:cubicBezTo>
                <a:cubicBezTo>
                  <a:pt x="15679" y="9305"/>
                  <a:pt x="15702" y="9407"/>
                  <a:pt x="15652" y="9475"/>
                </a:cubicBezTo>
                <a:cubicBezTo>
                  <a:pt x="15612" y="9529"/>
                  <a:pt x="15567" y="9546"/>
                  <a:pt x="15503" y="9550"/>
                </a:cubicBezTo>
                <a:cubicBezTo>
                  <a:pt x="15421" y="9555"/>
                  <a:pt x="15377" y="9537"/>
                  <a:pt x="15304" y="9500"/>
                </a:cubicBezTo>
                <a:cubicBezTo>
                  <a:pt x="15264" y="9480"/>
                  <a:pt x="15244" y="9460"/>
                  <a:pt x="15205" y="9451"/>
                </a:cubicBezTo>
              </a:path>
              <a:path w="12850" h="1861">
                <a:moveTo>
                  <a:pt x="16098" y="9327"/>
                </a:moveTo>
                <a:cubicBezTo>
                  <a:pt x="16119" y="9469"/>
                  <a:pt x="16123" y="9604"/>
                  <a:pt x="16123" y="9748"/>
                </a:cubicBezTo>
                <a:cubicBezTo>
                  <a:pt x="16123" y="9798"/>
                  <a:pt x="16123" y="9847"/>
                  <a:pt x="16123" y="9897"/>
                </a:cubicBezTo>
              </a:path>
              <a:path w="12850" h="1861">
                <a:moveTo>
                  <a:pt x="16520" y="8706"/>
                </a:moveTo>
                <a:cubicBezTo>
                  <a:pt x="16520" y="8935"/>
                  <a:pt x="16525" y="9151"/>
                  <a:pt x="16545" y="9376"/>
                </a:cubicBezTo>
                <a:cubicBezTo>
                  <a:pt x="16552" y="9460"/>
                  <a:pt x="16563" y="9543"/>
                  <a:pt x="16594" y="9624"/>
                </a:cubicBezTo>
                <a:cubicBezTo>
                  <a:pt x="16629" y="9716"/>
                  <a:pt x="16604" y="9746"/>
                  <a:pt x="16669" y="9699"/>
                </a:cubicBezTo>
              </a:path>
              <a:path w="12850" h="1861">
                <a:moveTo>
                  <a:pt x="16991" y="8657"/>
                </a:moveTo>
                <a:cubicBezTo>
                  <a:pt x="16991" y="8900"/>
                  <a:pt x="17005" y="9140"/>
                  <a:pt x="17066" y="9376"/>
                </a:cubicBezTo>
                <a:cubicBezTo>
                  <a:pt x="17100" y="9505"/>
                  <a:pt x="17165" y="9628"/>
                  <a:pt x="17214" y="9748"/>
                </a:cubicBezTo>
                <a:cubicBezTo>
                  <a:pt x="17245" y="9824"/>
                  <a:pt x="17228" y="9852"/>
                  <a:pt x="17289" y="9823"/>
                </a:cubicBezTo>
              </a:path>
              <a:path w="12850" h="1861">
                <a:moveTo>
                  <a:pt x="16991" y="8260"/>
                </a:moveTo>
                <a:cubicBezTo>
                  <a:pt x="17056" y="8275"/>
                  <a:pt x="17180" y="8316"/>
                  <a:pt x="17239" y="8359"/>
                </a:cubicBezTo>
                <a:cubicBezTo>
                  <a:pt x="17351" y="8441"/>
                  <a:pt x="17454" y="8544"/>
                  <a:pt x="17562" y="8632"/>
                </a:cubicBezTo>
                <a:cubicBezTo>
                  <a:pt x="17642" y="8697"/>
                  <a:pt x="17794" y="8810"/>
                  <a:pt x="17884" y="8855"/>
                </a:cubicBezTo>
                <a:cubicBezTo>
                  <a:pt x="17906" y="8866"/>
                  <a:pt x="18059" y="8921"/>
                  <a:pt x="18058" y="8930"/>
                </a:cubicBezTo>
                <a:cubicBezTo>
                  <a:pt x="18045" y="9022"/>
                  <a:pt x="17917" y="9177"/>
                  <a:pt x="17859" y="9252"/>
                </a:cubicBezTo>
                <a:cubicBezTo>
                  <a:pt x="17769" y="9367"/>
                  <a:pt x="17681" y="9473"/>
                  <a:pt x="17611" y="9599"/>
                </a:cubicBezTo>
                <a:cubicBezTo>
                  <a:pt x="17562" y="9687"/>
                  <a:pt x="17528" y="9749"/>
                  <a:pt x="17462" y="982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Ink 9"/>
          <p:cNvSpPr/>
          <p:nvPr/>
        </p:nvSpPr>
        <p:spPr>
          <a:xfrm>
            <a:off x="2340000" y="3616200"/>
            <a:ext cx="731880" cy="384480"/>
          </a:xfrm>
          <a:custGeom>
            <a:avLst/>
            <a:gdLst/>
            <a:ahLst/>
            <a:rect l="l" t="t" r="r" b="b"/>
            <a:pathLst>
              <a:path w="2035" h="1067">
                <a:moveTo>
                  <a:pt x="6499" y="10443"/>
                </a:moveTo>
                <a:cubicBezTo>
                  <a:pt x="6595" y="10495"/>
                  <a:pt x="6636" y="10492"/>
                  <a:pt x="6747" y="10492"/>
                </a:cubicBezTo>
                <a:cubicBezTo>
                  <a:pt x="6796" y="10492"/>
                  <a:pt x="6813" y="10492"/>
                  <a:pt x="6846" y="10492"/>
                </a:cubicBezTo>
              </a:path>
              <a:path w="2035" h="1067">
                <a:moveTo>
                  <a:pt x="6598" y="10567"/>
                </a:moveTo>
                <a:cubicBezTo>
                  <a:pt x="6655" y="10637"/>
                  <a:pt x="6654" y="10641"/>
                  <a:pt x="6747" y="10641"/>
                </a:cubicBezTo>
                <a:cubicBezTo>
                  <a:pt x="6763" y="10641"/>
                  <a:pt x="6780" y="10641"/>
                  <a:pt x="6796" y="10641"/>
                </a:cubicBezTo>
              </a:path>
              <a:path w="2035" h="1067">
                <a:moveTo>
                  <a:pt x="7615" y="10046"/>
                </a:moveTo>
                <a:cubicBezTo>
                  <a:pt x="7605" y="10165"/>
                  <a:pt x="7576" y="10181"/>
                  <a:pt x="7516" y="10269"/>
                </a:cubicBezTo>
                <a:cubicBezTo>
                  <a:pt x="7466" y="10342"/>
                  <a:pt x="7404" y="10368"/>
                  <a:pt x="7342" y="10418"/>
                </a:cubicBezTo>
                <a:cubicBezTo>
                  <a:pt x="7297" y="10454"/>
                  <a:pt x="7260" y="10485"/>
                  <a:pt x="7218" y="10517"/>
                </a:cubicBezTo>
                <a:cubicBezTo>
                  <a:pt x="7257" y="10575"/>
                  <a:pt x="7346" y="10692"/>
                  <a:pt x="7392" y="10740"/>
                </a:cubicBezTo>
                <a:cubicBezTo>
                  <a:pt x="7448" y="10799"/>
                  <a:pt x="7529" y="10853"/>
                  <a:pt x="7590" y="10914"/>
                </a:cubicBezTo>
                <a:cubicBezTo>
                  <a:pt x="7640" y="10964"/>
                  <a:pt x="7725" y="11009"/>
                  <a:pt x="7764" y="11063"/>
                </a:cubicBezTo>
                <a:cubicBezTo>
                  <a:pt x="7784" y="11103"/>
                  <a:pt x="7782" y="11119"/>
                  <a:pt x="7813" y="11112"/>
                </a:cubicBezTo>
              </a:path>
              <a:path w="2035" h="1067">
                <a:moveTo>
                  <a:pt x="7739" y="10517"/>
                </a:moveTo>
                <a:cubicBezTo>
                  <a:pt x="7805" y="10517"/>
                  <a:pt x="7872" y="10517"/>
                  <a:pt x="7938" y="10517"/>
                </a:cubicBezTo>
              </a:path>
              <a:path w="2035" h="1067">
                <a:moveTo>
                  <a:pt x="8136" y="10294"/>
                </a:moveTo>
                <a:cubicBezTo>
                  <a:pt x="8180" y="10267"/>
                  <a:pt x="8167" y="10298"/>
                  <a:pt x="8210" y="10269"/>
                </a:cubicBezTo>
                <a:cubicBezTo>
                  <a:pt x="8238" y="10250"/>
                  <a:pt x="8335" y="10183"/>
                  <a:pt x="8384" y="10220"/>
                </a:cubicBezTo>
                <a:cubicBezTo>
                  <a:pt x="8429" y="10254"/>
                  <a:pt x="8481" y="10279"/>
                  <a:pt x="8508" y="10344"/>
                </a:cubicBezTo>
                <a:cubicBezTo>
                  <a:pt x="8531" y="10401"/>
                  <a:pt x="8552" y="10506"/>
                  <a:pt x="8533" y="10567"/>
                </a:cubicBezTo>
                <a:cubicBezTo>
                  <a:pt x="8512" y="10635"/>
                  <a:pt x="8469" y="10720"/>
                  <a:pt x="8434" y="10790"/>
                </a:cubicBezTo>
                <a:cubicBezTo>
                  <a:pt x="8397" y="10865"/>
                  <a:pt x="8340" y="10881"/>
                  <a:pt x="8285" y="10914"/>
                </a:cubicBezTo>
                <a:cubicBezTo>
                  <a:pt x="8229" y="10947"/>
                  <a:pt x="8165" y="10957"/>
                  <a:pt x="8111" y="10914"/>
                </a:cubicBezTo>
                <a:cubicBezTo>
                  <a:pt x="8077" y="10887"/>
                  <a:pt x="8070" y="10781"/>
                  <a:pt x="8086" y="10740"/>
                </a:cubicBezTo>
                <a:cubicBezTo>
                  <a:pt x="8096" y="10715"/>
                  <a:pt x="8147" y="10666"/>
                  <a:pt x="8161" y="10641"/>
                </a:cubicBezTo>
                <a:cubicBezTo>
                  <a:pt x="8211" y="10685"/>
                  <a:pt x="8263" y="10717"/>
                  <a:pt x="8310" y="10765"/>
                </a:cubicBezTo>
                <a:cubicBezTo>
                  <a:pt x="8345" y="10801"/>
                  <a:pt x="8375" y="10845"/>
                  <a:pt x="8384" y="10889"/>
                </a:cubicBezTo>
                <a:cubicBezTo>
                  <a:pt x="8394" y="10941"/>
                  <a:pt x="8412" y="11014"/>
                  <a:pt x="8434" y="11063"/>
                </a:cubicBezTo>
                <a:cubicBezTo>
                  <a:pt x="8458" y="11088"/>
                  <a:pt x="8466" y="11096"/>
                  <a:pt x="8483" y="1106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Ink 10"/>
          <p:cNvSpPr/>
          <p:nvPr/>
        </p:nvSpPr>
        <p:spPr>
          <a:xfrm>
            <a:off x="3259080" y="3643200"/>
            <a:ext cx="4233960" cy="696960"/>
          </a:xfrm>
          <a:custGeom>
            <a:avLst/>
            <a:gdLst/>
            <a:ahLst/>
            <a:rect l="l" t="t" r="r" b="b"/>
            <a:pathLst>
              <a:path w="11758" h="1936">
                <a:moveTo>
                  <a:pt x="9847" y="10120"/>
                </a:moveTo>
                <a:cubicBezTo>
                  <a:pt x="9897" y="10127"/>
                  <a:pt x="9970" y="10169"/>
                  <a:pt x="9996" y="10195"/>
                </a:cubicBezTo>
                <a:cubicBezTo>
                  <a:pt x="10082" y="10280"/>
                  <a:pt x="10136" y="10308"/>
                  <a:pt x="10244" y="10368"/>
                </a:cubicBezTo>
                <a:cubicBezTo>
                  <a:pt x="10353" y="10428"/>
                  <a:pt x="10441" y="10496"/>
                  <a:pt x="10542" y="10567"/>
                </a:cubicBezTo>
                <a:cubicBezTo>
                  <a:pt x="10570" y="10567"/>
                  <a:pt x="10581" y="10569"/>
                  <a:pt x="10592" y="10592"/>
                </a:cubicBezTo>
                <a:cubicBezTo>
                  <a:pt x="10543" y="10649"/>
                  <a:pt x="10483" y="10675"/>
                  <a:pt x="10418" y="10740"/>
                </a:cubicBezTo>
                <a:cubicBezTo>
                  <a:pt x="10359" y="10798"/>
                  <a:pt x="10259" y="10892"/>
                  <a:pt x="10220" y="10964"/>
                </a:cubicBezTo>
                <a:cubicBezTo>
                  <a:pt x="10171" y="11054"/>
                  <a:pt x="10131" y="11161"/>
                  <a:pt x="10120" y="11261"/>
                </a:cubicBezTo>
              </a:path>
              <a:path w="11758" h="1936">
                <a:moveTo>
                  <a:pt x="9128" y="11237"/>
                </a:moveTo>
                <a:cubicBezTo>
                  <a:pt x="9111" y="11371"/>
                  <a:pt x="9112" y="11468"/>
                  <a:pt x="9054" y="11584"/>
                </a:cubicBezTo>
              </a:path>
              <a:path w="11758" h="1936">
                <a:moveTo>
                  <a:pt x="9203" y="10418"/>
                </a:moveTo>
                <a:cubicBezTo>
                  <a:pt x="9203" y="10555"/>
                  <a:pt x="9207" y="10685"/>
                  <a:pt x="9227" y="10815"/>
                </a:cubicBezTo>
                <a:cubicBezTo>
                  <a:pt x="9235" y="10866"/>
                  <a:pt x="9227" y="11070"/>
                  <a:pt x="9227" y="11038"/>
                </a:cubicBezTo>
              </a:path>
              <a:path w="11758" h="1936">
                <a:moveTo>
                  <a:pt x="9426" y="10517"/>
                </a:moveTo>
                <a:cubicBezTo>
                  <a:pt x="9501" y="10494"/>
                  <a:pt x="9546" y="10492"/>
                  <a:pt x="9624" y="10492"/>
                </a:cubicBezTo>
                <a:cubicBezTo>
                  <a:pt x="9689" y="10492"/>
                  <a:pt x="9755" y="10524"/>
                  <a:pt x="9773" y="10592"/>
                </a:cubicBezTo>
                <a:cubicBezTo>
                  <a:pt x="9801" y="10697"/>
                  <a:pt x="9788" y="10787"/>
                  <a:pt x="9773" y="10889"/>
                </a:cubicBezTo>
                <a:cubicBezTo>
                  <a:pt x="9763" y="10960"/>
                  <a:pt x="9750" y="10987"/>
                  <a:pt x="9699" y="11038"/>
                </a:cubicBezTo>
                <a:cubicBezTo>
                  <a:pt x="9668" y="11069"/>
                  <a:pt x="9599" y="11126"/>
                  <a:pt x="9550" y="11088"/>
                </a:cubicBezTo>
                <a:cubicBezTo>
                  <a:pt x="9500" y="11049"/>
                  <a:pt x="9489" y="10983"/>
                  <a:pt x="9525" y="10939"/>
                </a:cubicBezTo>
                <a:cubicBezTo>
                  <a:pt x="9558" y="10898"/>
                  <a:pt x="9635" y="10920"/>
                  <a:pt x="9674" y="10939"/>
                </a:cubicBezTo>
                <a:cubicBezTo>
                  <a:pt x="9737" y="10970"/>
                  <a:pt x="9789" y="11026"/>
                  <a:pt x="9847" y="11063"/>
                </a:cubicBezTo>
                <a:cubicBezTo>
                  <a:pt x="9889" y="11090"/>
                  <a:pt x="9912" y="11102"/>
                  <a:pt x="9947" y="11137"/>
                </a:cubicBezTo>
              </a:path>
              <a:path w="11758" h="1936">
                <a:moveTo>
                  <a:pt x="11286" y="10294"/>
                </a:moveTo>
                <a:cubicBezTo>
                  <a:pt x="11295" y="10372"/>
                  <a:pt x="11311" y="10437"/>
                  <a:pt x="11311" y="10517"/>
                </a:cubicBezTo>
                <a:cubicBezTo>
                  <a:pt x="11311" y="10616"/>
                  <a:pt x="11286" y="10712"/>
                  <a:pt x="11286" y="10815"/>
                </a:cubicBezTo>
                <a:cubicBezTo>
                  <a:pt x="11286" y="10907"/>
                  <a:pt x="11262" y="11089"/>
                  <a:pt x="11311" y="11137"/>
                </a:cubicBezTo>
              </a:path>
              <a:path w="11758" h="1936">
                <a:moveTo>
                  <a:pt x="10964" y="10641"/>
                </a:moveTo>
                <a:cubicBezTo>
                  <a:pt x="11129" y="10641"/>
                  <a:pt x="11256" y="10660"/>
                  <a:pt x="11410" y="10691"/>
                </a:cubicBezTo>
                <a:cubicBezTo>
                  <a:pt x="11485" y="10691"/>
                  <a:pt x="11509" y="10691"/>
                  <a:pt x="11559" y="10691"/>
                </a:cubicBezTo>
              </a:path>
              <a:path w="11758" h="1936">
                <a:moveTo>
                  <a:pt x="12303" y="10269"/>
                </a:moveTo>
                <a:cubicBezTo>
                  <a:pt x="12260" y="10355"/>
                  <a:pt x="12252" y="10345"/>
                  <a:pt x="12179" y="10418"/>
                </a:cubicBezTo>
                <a:cubicBezTo>
                  <a:pt x="12114" y="10483"/>
                  <a:pt x="12046" y="10527"/>
                  <a:pt x="11981" y="10592"/>
                </a:cubicBezTo>
                <a:cubicBezTo>
                  <a:pt x="11933" y="10640"/>
                  <a:pt x="11872" y="10657"/>
                  <a:pt x="11832" y="10716"/>
                </a:cubicBezTo>
                <a:cubicBezTo>
                  <a:pt x="11810" y="10759"/>
                  <a:pt x="11806" y="10771"/>
                  <a:pt x="11782" y="10790"/>
                </a:cubicBezTo>
                <a:cubicBezTo>
                  <a:pt x="11847" y="10806"/>
                  <a:pt x="11898" y="10846"/>
                  <a:pt x="11956" y="10889"/>
                </a:cubicBezTo>
                <a:cubicBezTo>
                  <a:pt x="12046" y="10956"/>
                  <a:pt x="12143" y="11015"/>
                  <a:pt x="12229" y="11088"/>
                </a:cubicBezTo>
                <a:cubicBezTo>
                  <a:pt x="12300" y="11149"/>
                  <a:pt x="12416" y="11196"/>
                  <a:pt x="12477" y="11261"/>
                </a:cubicBezTo>
                <a:cubicBezTo>
                  <a:pt x="12533" y="11320"/>
                  <a:pt x="12542" y="11349"/>
                  <a:pt x="12626" y="11361"/>
                </a:cubicBezTo>
              </a:path>
              <a:path w="11758" h="1936">
                <a:moveTo>
                  <a:pt x="14734" y="10195"/>
                </a:moveTo>
                <a:cubicBezTo>
                  <a:pt x="14877" y="10208"/>
                  <a:pt x="14875" y="10273"/>
                  <a:pt x="14982" y="10344"/>
                </a:cubicBezTo>
                <a:cubicBezTo>
                  <a:pt x="15080" y="10409"/>
                  <a:pt x="15204" y="10457"/>
                  <a:pt x="15304" y="10517"/>
                </a:cubicBezTo>
                <a:cubicBezTo>
                  <a:pt x="15402" y="10575"/>
                  <a:pt x="15485" y="10623"/>
                  <a:pt x="15577" y="10691"/>
                </a:cubicBezTo>
                <a:cubicBezTo>
                  <a:pt x="15636" y="10734"/>
                  <a:pt x="15696" y="10770"/>
                  <a:pt x="15751" y="10815"/>
                </a:cubicBezTo>
                <a:cubicBezTo>
                  <a:pt x="15679" y="10851"/>
                  <a:pt x="15612" y="10885"/>
                  <a:pt x="15553" y="10939"/>
                </a:cubicBezTo>
                <a:cubicBezTo>
                  <a:pt x="15427" y="11054"/>
                  <a:pt x="15375" y="11150"/>
                  <a:pt x="15280" y="11286"/>
                </a:cubicBezTo>
                <a:cubicBezTo>
                  <a:pt x="15237" y="11347"/>
                  <a:pt x="15202" y="11401"/>
                  <a:pt x="15156" y="11460"/>
                </a:cubicBezTo>
              </a:path>
              <a:path w="11758" h="1936">
                <a:moveTo>
                  <a:pt x="13841" y="11609"/>
                </a:moveTo>
                <a:cubicBezTo>
                  <a:pt x="13825" y="11762"/>
                  <a:pt x="13801" y="11905"/>
                  <a:pt x="13791" y="12055"/>
                </a:cubicBezTo>
              </a:path>
              <a:path w="11758" h="1936">
                <a:moveTo>
                  <a:pt x="12650" y="10443"/>
                </a:moveTo>
                <a:cubicBezTo>
                  <a:pt x="12690" y="10501"/>
                  <a:pt x="12707" y="10514"/>
                  <a:pt x="12725" y="10592"/>
                </a:cubicBezTo>
                <a:cubicBezTo>
                  <a:pt x="12749" y="10697"/>
                  <a:pt x="12746" y="10813"/>
                  <a:pt x="12774" y="10914"/>
                </a:cubicBezTo>
                <a:cubicBezTo>
                  <a:pt x="12795" y="10991"/>
                  <a:pt x="12799" y="11055"/>
                  <a:pt x="12799" y="11137"/>
                </a:cubicBezTo>
                <a:cubicBezTo>
                  <a:pt x="12799" y="11196"/>
                  <a:pt x="12824" y="11223"/>
                  <a:pt x="12824" y="11286"/>
                </a:cubicBezTo>
              </a:path>
              <a:path w="11758" h="1936">
                <a:moveTo>
                  <a:pt x="12998" y="10641"/>
                </a:moveTo>
                <a:cubicBezTo>
                  <a:pt x="13084" y="10625"/>
                  <a:pt x="13137" y="10582"/>
                  <a:pt x="13196" y="10641"/>
                </a:cubicBezTo>
                <a:cubicBezTo>
                  <a:pt x="13279" y="10724"/>
                  <a:pt x="13291" y="10831"/>
                  <a:pt x="13295" y="10939"/>
                </a:cubicBezTo>
                <a:cubicBezTo>
                  <a:pt x="13298" y="11027"/>
                  <a:pt x="13272" y="11114"/>
                  <a:pt x="13221" y="11187"/>
                </a:cubicBezTo>
                <a:cubicBezTo>
                  <a:pt x="13187" y="11235"/>
                  <a:pt x="13123" y="11257"/>
                  <a:pt x="13072" y="11261"/>
                </a:cubicBezTo>
                <a:cubicBezTo>
                  <a:pt x="13015" y="11266"/>
                  <a:pt x="12984" y="11185"/>
                  <a:pt x="12998" y="11137"/>
                </a:cubicBezTo>
                <a:cubicBezTo>
                  <a:pt x="13006" y="11129"/>
                  <a:pt x="13014" y="11120"/>
                  <a:pt x="13022" y="11112"/>
                </a:cubicBezTo>
                <a:cubicBezTo>
                  <a:pt x="13095" y="11104"/>
                  <a:pt x="13191" y="11138"/>
                  <a:pt x="13271" y="11187"/>
                </a:cubicBezTo>
                <a:cubicBezTo>
                  <a:pt x="13330" y="11223"/>
                  <a:pt x="13383" y="11255"/>
                  <a:pt x="13444" y="11286"/>
                </a:cubicBezTo>
              </a:path>
              <a:path w="11758" h="1936">
                <a:moveTo>
                  <a:pt x="14163" y="10641"/>
                </a:moveTo>
                <a:cubicBezTo>
                  <a:pt x="14163" y="10786"/>
                  <a:pt x="14164" y="10858"/>
                  <a:pt x="14213" y="10988"/>
                </a:cubicBezTo>
                <a:cubicBezTo>
                  <a:pt x="14243" y="11067"/>
                  <a:pt x="14246" y="11116"/>
                  <a:pt x="14288" y="11187"/>
                </a:cubicBezTo>
                <a:cubicBezTo>
                  <a:pt x="14296" y="11204"/>
                  <a:pt x="14304" y="11220"/>
                  <a:pt x="14312" y="11237"/>
                </a:cubicBezTo>
              </a:path>
              <a:path w="11758" h="1936">
                <a:moveTo>
                  <a:pt x="14585" y="10641"/>
                </a:moveTo>
                <a:cubicBezTo>
                  <a:pt x="14693" y="10641"/>
                  <a:pt x="14800" y="10641"/>
                  <a:pt x="14908" y="10641"/>
                </a:cubicBezTo>
              </a:path>
              <a:path w="11758" h="1936">
                <a:moveTo>
                  <a:pt x="14684" y="10641"/>
                </a:moveTo>
                <a:cubicBezTo>
                  <a:pt x="14603" y="10735"/>
                  <a:pt x="14543" y="10789"/>
                  <a:pt x="14536" y="10914"/>
                </a:cubicBezTo>
                <a:cubicBezTo>
                  <a:pt x="14531" y="11014"/>
                  <a:pt x="14587" y="10978"/>
                  <a:pt x="14660" y="10988"/>
                </a:cubicBezTo>
                <a:cubicBezTo>
                  <a:pt x="14785" y="11005"/>
                  <a:pt x="14879" y="10989"/>
                  <a:pt x="14932" y="11112"/>
                </a:cubicBezTo>
                <a:cubicBezTo>
                  <a:pt x="14960" y="11176"/>
                  <a:pt x="15020" y="11298"/>
                  <a:pt x="14957" y="11361"/>
                </a:cubicBezTo>
                <a:cubicBezTo>
                  <a:pt x="14902" y="11416"/>
                  <a:pt x="14801" y="11412"/>
                  <a:pt x="14734" y="11385"/>
                </a:cubicBezTo>
                <a:cubicBezTo>
                  <a:pt x="14709" y="11369"/>
                  <a:pt x="14685" y="11352"/>
                  <a:pt x="14660" y="11336"/>
                </a:cubicBezTo>
              </a:path>
              <a:path w="11758" h="1936">
                <a:moveTo>
                  <a:pt x="16049" y="11112"/>
                </a:moveTo>
                <a:cubicBezTo>
                  <a:pt x="16101" y="11060"/>
                  <a:pt x="16122" y="11063"/>
                  <a:pt x="16197" y="11063"/>
                </a:cubicBezTo>
                <a:cubicBezTo>
                  <a:pt x="16263" y="11063"/>
                  <a:pt x="16330" y="11063"/>
                  <a:pt x="16396" y="11063"/>
                </a:cubicBezTo>
              </a:path>
              <a:path w="11758" h="1936">
                <a:moveTo>
                  <a:pt x="16123" y="11261"/>
                </a:moveTo>
                <a:cubicBezTo>
                  <a:pt x="16213" y="11343"/>
                  <a:pt x="16250" y="11372"/>
                  <a:pt x="16371" y="11385"/>
                </a:cubicBezTo>
              </a:path>
              <a:path w="11758" h="1936">
                <a:moveTo>
                  <a:pt x="17462" y="10740"/>
                </a:moveTo>
                <a:cubicBezTo>
                  <a:pt x="17413" y="10804"/>
                  <a:pt x="17389" y="10827"/>
                  <a:pt x="17314" y="10864"/>
                </a:cubicBezTo>
                <a:cubicBezTo>
                  <a:pt x="17230" y="10906"/>
                  <a:pt x="17151" y="10948"/>
                  <a:pt x="17066" y="10988"/>
                </a:cubicBezTo>
                <a:cubicBezTo>
                  <a:pt x="17006" y="11016"/>
                  <a:pt x="16964" y="11042"/>
                  <a:pt x="16917" y="11088"/>
                </a:cubicBezTo>
                <a:cubicBezTo>
                  <a:pt x="16909" y="11096"/>
                  <a:pt x="16900" y="11104"/>
                  <a:pt x="16892" y="11112"/>
                </a:cubicBezTo>
                <a:cubicBezTo>
                  <a:pt x="16956" y="11176"/>
                  <a:pt x="17023" y="11230"/>
                  <a:pt x="17090" y="11286"/>
                </a:cubicBezTo>
                <a:cubicBezTo>
                  <a:pt x="17168" y="11352"/>
                  <a:pt x="17220" y="11436"/>
                  <a:pt x="17289" y="11509"/>
                </a:cubicBezTo>
                <a:cubicBezTo>
                  <a:pt x="17378" y="11603"/>
                  <a:pt x="17485" y="11655"/>
                  <a:pt x="17587" y="11733"/>
                </a:cubicBezTo>
                <a:cubicBezTo>
                  <a:pt x="17624" y="11762"/>
                  <a:pt x="17640" y="11753"/>
                  <a:pt x="17686" y="11757"/>
                </a:cubicBezTo>
              </a:path>
              <a:path w="11758" h="1936">
                <a:moveTo>
                  <a:pt x="17735" y="10889"/>
                </a:moveTo>
                <a:cubicBezTo>
                  <a:pt x="17771" y="10949"/>
                  <a:pt x="17760" y="11013"/>
                  <a:pt x="17760" y="11088"/>
                </a:cubicBezTo>
                <a:cubicBezTo>
                  <a:pt x="17760" y="11241"/>
                  <a:pt x="17768" y="11386"/>
                  <a:pt x="17785" y="11534"/>
                </a:cubicBezTo>
                <a:cubicBezTo>
                  <a:pt x="17787" y="11548"/>
                  <a:pt x="17801" y="11752"/>
                  <a:pt x="17810" y="11757"/>
                </a:cubicBezTo>
                <a:cubicBezTo>
                  <a:pt x="17818" y="11749"/>
                  <a:pt x="17827" y="11741"/>
                  <a:pt x="17835" y="11733"/>
                </a:cubicBezTo>
              </a:path>
              <a:path w="11758" h="1936">
                <a:moveTo>
                  <a:pt x="18058" y="10939"/>
                </a:moveTo>
                <a:cubicBezTo>
                  <a:pt x="18010" y="11033"/>
                  <a:pt x="17964" y="11106"/>
                  <a:pt x="17959" y="11212"/>
                </a:cubicBezTo>
                <a:cubicBezTo>
                  <a:pt x="17955" y="11298"/>
                  <a:pt x="17952" y="11379"/>
                  <a:pt x="17983" y="11460"/>
                </a:cubicBezTo>
                <a:cubicBezTo>
                  <a:pt x="18004" y="11515"/>
                  <a:pt x="18101" y="11616"/>
                  <a:pt x="18157" y="11633"/>
                </a:cubicBezTo>
                <a:cubicBezTo>
                  <a:pt x="18215" y="11650"/>
                  <a:pt x="18314" y="11632"/>
                  <a:pt x="18355" y="11584"/>
                </a:cubicBezTo>
                <a:cubicBezTo>
                  <a:pt x="18413" y="11516"/>
                  <a:pt x="18427" y="11394"/>
                  <a:pt x="18430" y="11311"/>
                </a:cubicBezTo>
                <a:cubicBezTo>
                  <a:pt x="18434" y="11194"/>
                  <a:pt x="18425" y="11097"/>
                  <a:pt x="18380" y="10988"/>
                </a:cubicBezTo>
                <a:cubicBezTo>
                  <a:pt x="18351" y="10917"/>
                  <a:pt x="18299" y="10848"/>
                  <a:pt x="18231" y="10840"/>
                </a:cubicBezTo>
                <a:cubicBezTo>
                  <a:pt x="18170" y="10833"/>
                  <a:pt x="18118" y="10833"/>
                  <a:pt x="18083" y="10889"/>
                </a:cubicBezTo>
                <a:cubicBezTo>
                  <a:pt x="18059" y="10937"/>
                  <a:pt x="18051" y="10951"/>
                  <a:pt x="18058" y="10988"/>
                </a:cubicBezTo>
              </a:path>
              <a:path w="11758" h="1936">
                <a:moveTo>
                  <a:pt x="18653" y="11708"/>
                </a:moveTo>
                <a:cubicBezTo>
                  <a:pt x="18635" y="11827"/>
                  <a:pt x="18604" y="11938"/>
                  <a:pt x="18604" y="12055"/>
                </a:cubicBezTo>
              </a:path>
              <a:path w="11758" h="1936">
                <a:moveTo>
                  <a:pt x="18852" y="11063"/>
                </a:moveTo>
                <a:cubicBezTo>
                  <a:pt x="18886" y="11015"/>
                  <a:pt x="18944" y="10870"/>
                  <a:pt x="19025" y="10889"/>
                </a:cubicBezTo>
                <a:cubicBezTo>
                  <a:pt x="19095" y="10906"/>
                  <a:pt x="19139" y="11024"/>
                  <a:pt x="19149" y="11088"/>
                </a:cubicBezTo>
                <a:cubicBezTo>
                  <a:pt x="19164" y="11182"/>
                  <a:pt x="19146" y="11278"/>
                  <a:pt x="19100" y="11361"/>
                </a:cubicBezTo>
                <a:cubicBezTo>
                  <a:pt x="19032" y="11483"/>
                  <a:pt x="19014" y="11508"/>
                  <a:pt x="18926" y="11559"/>
                </a:cubicBezTo>
                <a:cubicBezTo>
                  <a:pt x="18898" y="11587"/>
                  <a:pt x="18885" y="11596"/>
                  <a:pt x="18852" y="11584"/>
                </a:cubicBezTo>
                <a:cubicBezTo>
                  <a:pt x="18881" y="11467"/>
                  <a:pt x="18900" y="11493"/>
                  <a:pt x="19000" y="11509"/>
                </a:cubicBezTo>
                <a:cubicBezTo>
                  <a:pt x="19055" y="11518"/>
                  <a:pt x="19141" y="11556"/>
                  <a:pt x="19199" y="11534"/>
                </a:cubicBezTo>
                <a:cubicBezTo>
                  <a:pt x="19207" y="11526"/>
                  <a:pt x="19216" y="11517"/>
                  <a:pt x="19224" y="11509"/>
                </a:cubicBezTo>
              </a:path>
              <a:path w="11758" h="1936">
                <a:moveTo>
                  <a:pt x="19496" y="10914"/>
                </a:moveTo>
                <a:cubicBezTo>
                  <a:pt x="19628" y="10914"/>
                  <a:pt x="19761" y="10914"/>
                  <a:pt x="19893" y="10914"/>
                </a:cubicBezTo>
                <a:cubicBezTo>
                  <a:pt x="19851" y="10967"/>
                  <a:pt x="19825" y="11027"/>
                  <a:pt x="19794" y="11088"/>
                </a:cubicBezTo>
                <a:cubicBezTo>
                  <a:pt x="19755" y="11166"/>
                  <a:pt x="19748" y="11273"/>
                  <a:pt x="19745" y="11361"/>
                </a:cubicBezTo>
                <a:cubicBezTo>
                  <a:pt x="19742" y="11449"/>
                  <a:pt x="19743" y="11550"/>
                  <a:pt x="19769" y="11633"/>
                </a:cubicBezTo>
                <a:cubicBezTo>
                  <a:pt x="19794" y="11683"/>
                  <a:pt x="19802" y="11700"/>
                  <a:pt x="19819" y="11733"/>
                </a:cubicBezTo>
              </a:path>
              <a:path w="11758" h="1936">
                <a:moveTo>
                  <a:pt x="19993" y="10592"/>
                </a:moveTo>
                <a:cubicBezTo>
                  <a:pt x="20154" y="10661"/>
                  <a:pt x="20218" y="10718"/>
                  <a:pt x="20340" y="10840"/>
                </a:cubicBezTo>
                <a:cubicBezTo>
                  <a:pt x="20425" y="10925"/>
                  <a:pt x="20513" y="11020"/>
                  <a:pt x="20613" y="11088"/>
                </a:cubicBezTo>
                <a:cubicBezTo>
                  <a:pt x="20643" y="11108"/>
                  <a:pt x="20730" y="11178"/>
                  <a:pt x="20762" y="11187"/>
                </a:cubicBezTo>
                <a:cubicBezTo>
                  <a:pt x="20778" y="11187"/>
                  <a:pt x="20795" y="11187"/>
                  <a:pt x="20811" y="11187"/>
                </a:cubicBezTo>
                <a:cubicBezTo>
                  <a:pt x="20766" y="11277"/>
                  <a:pt x="20719" y="11378"/>
                  <a:pt x="20662" y="11460"/>
                </a:cubicBezTo>
                <a:cubicBezTo>
                  <a:pt x="20551" y="11619"/>
                  <a:pt x="20409" y="11732"/>
                  <a:pt x="20290" y="11881"/>
                </a:cubicBezTo>
                <a:cubicBezTo>
                  <a:pt x="20265" y="11914"/>
                  <a:pt x="20241" y="11948"/>
                  <a:pt x="20216" y="1198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Ink 11"/>
          <p:cNvSpPr/>
          <p:nvPr/>
        </p:nvSpPr>
        <p:spPr>
          <a:xfrm>
            <a:off x="1847880" y="4152960"/>
            <a:ext cx="858960" cy="411120"/>
          </a:xfrm>
          <a:custGeom>
            <a:avLst/>
            <a:gdLst/>
            <a:ahLst/>
            <a:rect l="l" t="t" r="r" b="b"/>
            <a:pathLst>
              <a:path w="2382" h="1142">
                <a:moveTo>
                  <a:pt x="5209" y="11956"/>
                </a:moveTo>
                <a:cubicBezTo>
                  <a:pt x="5303" y="11956"/>
                  <a:pt x="5371" y="11964"/>
                  <a:pt x="5457" y="11981"/>
                </a:cubicBezTo>
              </a:path>
              <a:path w="2382" h="1142">
                <a:moveTo>
                  <a:pt x="5135" y="12055"/>
                </a:moveTo>
                <a:cubicBezTo>
                  <a:pt x="5213" y="12081"/>
                  <a:pt x="5299" y="12101"/>
                  <a:pt x="5383" y="12105"/>
                </a:cubicBezTo>
                <a:cubicBezTo>
                  <a:pt x="5408" y="12105"/>
                  <a:pt x="5432" y="12105"/>
                  <a:pt x="5457" y="12105"/>
                </a:cubicBezTo>
              </a:path>
              <a:path w="2382" h="1142">
                <a:moveTo>
                  <a:pt x="6548" y="11534"/>
                </a:moveTo>
                <a:cubicBezTo>
                  <a:pt x="6466" y="11617"/>
                  <a:pt x="6382" y="11679"/>
                  <a:pt x="6300" y="11757"/>
                </a:cubicBezTo>
                <a:cubicBezTo>
                  <a:pt x="6215" y="11837"/>
                  <a:pt x="6136" y="11924"/>
                  <a:pt x="6052" y="12005"/>
                </a:cubicBezTo>
                <a:cubicBezTo>
                  <a:pt x="6092" y="12045"/>
                  <a:pt x="6117" y="12086"/>
                  <a:pt x="6152" y="12129"/>
                </a:cubicBezTo>
                <a:cubicBezTo>
                  <a:pt x="6217" y="12209"/>
                  <a:pt x="6300" y="12262"/>
                  <a:pt x="6375" y="12328"/>
                </a:cubicBezTo>
                <a:cubicBezTo>
                  <a:pt x="6485" y="12425"/>
                  <a:pt x="6586" y="12533"/>
                  <a:pt x="6697" y="12626"/>
                </a:cubicBezTo>
                <a:cubicBezTo>
                  <a:pt x="6714" y="12642"/>
                  <a:pt x="6730" y="12659"/>
                  <a:pt x="6747" y="12675"/>
                </a:cubicBezTo>
              </a:path>
              <a:path w="2382" h="1142">
                <a:moveTo>
                  <a:pt x="7045" y="11584"/>
                </a:moveTo>
                <a:cubicBezTo>
                  <a:pt x="7116" y="11584"/>
                  <a:pt x="7154" y="11605"/>
                  <a:pt x="7218" y="11609"/>
                </a:cubicBezTo>
                <a:cubicBezTo>
                  <a:pt x="7273" y="11612"/>
                  <a:pt x="7369" y="11647"/>
                  <a:pt x="7417" y="11633"/>
                </a:cubicBezTo>
                <a:cubicBezTo>
                  <a:pt x="7425" y="11625"/>
                  <a:pt x="7433" y="11617"/>
                  <a:pt x="7441" y="11609"/>
                </a:cubicBezTo>
              </a:path>
              <a:path w="2382" h="1142">
                <a:moveTo>
                  <a:pt x="7119" y="11584"/>
                </a:moveTo>
                <a:cubicBezTo>
                  <a:pt x="7074" y="11655"/>
                  <a:pt x="7042" y="11739"/>
                  <a:pt x="6995" y="11807"/>
                </a:cubicBezTo>
                <a:cubicBezTo>
                  <a:pt x="6961" y="11856"/>
                  <a:pt x="6952" y="11948"/>
                  <a:pt x="7045" y="11931"/>
                </a:cubicBezTo>
                <a:cubicBezTo>
                  <a:pt x="7121" y="11917"/>
                  <a:pt x="7159" y="11881"/>
                  <a:pt x="7243" y="11881"/>
                </a:cubicBezTo>
                <a:cubicBezTo>
                  <a:pt x="7317" y="11881"/>
                  <a:pt x="7333" y="11918"/>
                  <a:pt x="7367" y="11981"/>
                </a:cubicBezTo>
                <a:cubicBezTo>
                  <a:pt x="7415" y="12070"/>
                  <a:pt x="7457" y="12159"/>
                  <a:pt x="7491" y="12254"/>
                </a:cubicBezTo>
                <a:cubicBezTo>
                  <a:pt x="7523" y="12344"/>
                  <a:pt x="7522" y="12397"/>
                  <a:pt x="7466" y="12477"/>
                </a:cubicBezTo>
                <a:cubicBezTo>
                  <a:pt x="7426" y="12534"/>
                  <a:pt x="7294" y="12506"/>
                  <a:pt x="7243" y="12477"/>
                </a:cubicBezTo>
                <a:cubicBezTo>
                  <a:pt x="7189" y="12446"/>
                  <a:pt x="7140" y="12423"/>
                  <a:pt x="7094" y="12378"/>
                </a:cubicBezTo>
                <a:cubicBezTo>
                  <a:pt x="7064" y="12348"/>
                  <a:pt x="7053" y="12334"/>
                  <a:pt x="7045" y="1230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Ink 12"/>
          <p:cNvSpPr/>
          <p:nvPr/>
        </p:nvSpPr>
        <p:spPr>
          <a:xfrm>
            <a:off x="2982960" y="4259160"/>
            <a:ext cx="866880" cy="581040"/>
          </a:xfrm>
          <a:custGeom>
            <a:avLst/>
            <a:gdLst/>
            <a:ahLst/>
            <a:rect l="l" t="t" r="r" b="b"/>
            <a:pathLst>
              <a:path w="2407" h="1613">
                <a:moveTo>
                  <a:pt x="9971" y="11832"/>
                </a:moveTo>
                <a:cubicBezTo>
                  <a:pt x="10053" y="11873"/>
                  <a:pt x="10125" y="11921"/>
                  <a:pt x="10195" y="11981"/>
                </a:cubicBezTo>
                <a:cubicBezTo>
                  <a:pt x="10280" y="12054"/>
                  <a:pt x="10378" y="12111"/>
                  <a:pt x="10468" y="12179"/>
                </a:cubicBezTo>
                <a:cubicBezTo>
                  <a:pt x="10496" y="12200"/>
                  <a:pt x="10604" y="12293"/>
                  <a:pt x="10641" y="12303"/>
                </a:cubicBezTo>
                <a:cubicBezTo>
                  <a:pt x="10658" y="12303"/>
                  <a:pt x="10674" y="12303"/>
                  <a:pt x="10691" y="12303"/>
                </a:cubicBezTo>
                <a:cubicBezTo>
                  <a:pt x="10642" y="12372"/>
                  <a:pt x="10577" y="12411"/>
                  <a:pt x="10517" y="12477"/>
                </a:cubicBezTo>
                <a:cubicBezTo>
                  <a:pt x="10439" y="12564"/>
                  <a:pt x="10360" y="12662"/>
                  <a:pt x="10319" y="12774"/>
                </a:cubicBezTo>
                <a:cubicBezTo>
                  <a:pt x="10265" y="12920"/>
                  <a:pt x="10212" y="13015"/>
                  <a:pt x="10096" y="13122"/>
                </a:cubicBezTo>
              </a:path>
              <a:path w="2407" h="1613">
                <a:moveTo>
                  <a:pt x="8483" y="12898"/>
                </a:moveTo>
                <a:cubicBezTo>
                  <a:pt x="8451" y="13020"/>
                  <a:pt x="8426" y="13152"/>
                  <a:pt x="8384" y="13271"/>
                </a:cubicBezTo>
                <a:cubicBezTo>
                  <a:pt x="8360" y="13341"/>
                  <a:pt x="8329" y="13387"/>
                  <a:pt x="8285" y="13444"/>
                </a:cubicBezTo>
              </a:path>
              <a:path w="2407" h="1613">
                <a:moveTo>
                  <a:pt x="8558" y="12254"/>
                </a:moveTo>
                <a:cubicBezTo>
                  <a:pt x="8634" y="12282"/>
                  <a:pt x="8698" y="12278"/>
                  <a:pt x="8781" y="12278"/>
                </a:cubicBezTo>
                <a:cubicBezTo>
                  <a:pt x="8806" y="12278"/>
                  <a:pt x="8830" y="12278"/>
                  <a:pt x="8855" y="12278"/>
                </a:cubicBezTo>
              </a:path>
              <a:path w="2407" h="1613">
                <a:moveTo>
                  <a:pt x="9327" y="11931"/>
                </a:moveTo>
                <a:cubicBezTo>
                  <a:pt x="9352" y="12026"/>
                  <a:pt x="9351" y="12105"/>
                  <a:pt x="9351" y="12204"/>
                </a:cubicBezTo>
                <a:cubicBezTo>
                  <a:pt x="9351" y="12356"/>
                  <a:pt x="9365" y="12501"/>
                  <a:pt x="9376" y="12650"/>
                </a:cubicBezTo>
                <a:cubicBezTo>
                  <a:pt x="9387" y="12803"/>
                  <a:pt x="9418" y="13089"/>
                  <a:pt x="9351" y="1322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Ink 13"/>
          <p:cNvSpPr/>
          <p:nvPr/>
        </p:nvSpPr>
        <p:spPr>
          <a:xfrm>
            <a:off x="6724800" y="2320920"/>
            <a:ext cx="1990440" cy="108000"/>
          </a:xfrm>
          <a:custGeom>
            <a:avLst/>
            <a:gdLst/>
            <a:ahLst/>
            <a:rect l="l" t="t" r="r" b="b"/>
            <a:pathLst>
              <a:path w="5532" h="299">
                <a:moveTo>
                  <a:pt x="18678" y="6499"/>
                </a:moveTo>
                <a:cubicBezTo>
                  <a:pt x="18763" y="6465"/>
                  <a:pt x="18799" y="6453"/>
                  <a:pt x="18901" y="6449"/>
                </a:cubicBezTo>
                <a:cubicBezTo>
                  <a:pt x="19119" y="6440"/>
                  <a:pt x="19331" y="6470"/>
                  <a:pt x="19546" y="6474"/>
                </a:cubicBezTo>
                <a:cubicBezTo>
                  <a:pt x="19853" y="6480"/>
                  <a:pt x="20157" y="6537"/>
                  <a:pt x="20464" y="6548"/>
                </a:cubicBezTo>
                <a:cubicBezTo>
                  <a:pt x="20868" y="6563"/>
                  <a:pt x="21275" y="6588"/>
                  <a:pt x="21679" y="6623"/>
                </a:cubicBezTo>
                <a:cubicBezTo>
                  <a:pt x="22019" y="6652"/>
                  <a:pt x="22357" y="6667"/>
                  <a:pt x="22696" y="6697"/>
                </a:cubicBezTo>
                <a:cubicBezTo>
                  <a:pt x="22993" y="6724"/>
                  <a:pt x="23291" y="6742"/>
                  <a:pt x="23589" y="6747"/>
                </a:cubicBezTo>
                <a:cubicBezTo>
                  <a:pt x="23753" y="6750"/>
                  <a:pt x="23927" y="6764"/>
                  <a:pt x="24085" y="6722"/>
                </a:cubicBezTo>
                <a:cubicBezTo>
                  <a:pt x="24192" y="6694"/>
                  <a:pt x="24179" y="6679"/>
                  <a:pt x="24209" y="6598"/>
                </a:cubicBezTo>
                <a:cubicBezTo>
                  <a:pt x="24201" y="6590"/>
                  <a:pt x="24193" y="6581"/>
                  <a:pt x="24185" y="657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Ink 14"/>
          <p:cNvSpPr/>
          <p:nvPr/>
        </p:nvSpPr>
        <p:spPr>
          <a:xfrm>
            <a:off x="7796160" y="1589040"/>
            <a:ext cx="88920" cy="1608120"/>
          </a:xfrm>
          <a:custGeom>
            <a:avLst/>
            <a:gdLst/>
            <a:ahLst/>
            <a:rect l="l" t="t" r="r" b="b"/>
            <a:pathLst>
              <a:path w="250" h="4466">
                <a:moveTo>
                  <a:pt x="21654" y="4415"/>
                </a:moveTo>
                <a:cubicBezTo>
                  <a:pt x="21664" y="4639"/>
                  <a:pt x="21692" y="4863"/>
                  <a:pt x="21704" y="5085"/>
                </a:cubicBezTo>
                <a:cubicBezTo>
                  <a:pt x="21717" y="5325"/>
                  <a:pt x="21740" y="5564"/>
                  <a:pt x="21754" y="5804"/>
                </a:cubicBezTo>
                <a:cubicBezTo>
                  <a:pt x="21770" y="6085"/>
                  <a:pt x="21815" y="6367"/>
                  <a:pt x="21828" y="6648"/>
                </a:cubicBezTo>
                <a:cubicBezTo>
                  <a:pt x="21846" y="7046"/>
                  <a:pt x="21878" y="7439"/>
                  <a:pt x="21878" y="7838"/>
                </a:cubicBezTo>
                <a:cubicBezTo>
                  <a:pt x="21878" y="8153"/>
                  <a:pt x="21868" y="8473"/>
                  <a:pt x="21903" y="8781"/>
                </a:cubicBezTo>
                <a:cubicBezTo>
                  <a:pt x="21908" y="8822"/>
                  <a:pt x="21900" y="8814"/>
                  <a:pt x="21903" y="885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Ink 15"/>
          <p:cNvSpPr/>
          <p:nvPr/>
        </p:nvSpPr>
        <p:spPr>
          <a:xfrm>
            <a:off x="7678800" y="2411280"/>
            <a:ext cx="19080" cy="98640"/>
          </a:xfrm>
          <a:custGeom>
            <a:avLst/>
            <a:gdLst/>
            <a:ahLst/>
            <a:rect l="l" t="t" r="r" b="b"/>
            <a:pathLst>
              <a:path w="51" h="274">
                <a:moveTo>
                  <a:pt x="21332" y="6697"/>
                </a:moveTo>
                <a:cubicBezTo>
                  <a:pt x="21349" y="6795"/>
                  <a:pt x="21370" y="6878"/>
                  <a:pt x="21382" y="697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Ink 16"/>
          <p:cNvSpPr/>
          <p:nvPr/>
        </p:nvSpPr>
        <p:spPr>
          <a:xfrm>
            <a:off x="7759800" y="2268360"/>
            <a:ext cx="90360" cy="9720"/>
          </a:xfrm>
          <a:custGeom>
            <a:avLst/>
            <a:gdLst/>
            <a:ahLst/>
            <a:rect l="l" t="t" r="r" b="b"/>
            <a:pathLst>
              <a:path w="249" h="26">
                <a:moveTo>
                  <a:pt x="21555" y="6300"/>
                </a:moveTo>
                <a:cubicBezTo>
                  <a:pt x="21644" y="6300"/>
                  <a:pt x="21721" y="6294"/>
                  <a:pt x="21803" y="632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Ink 17"/>
          <p:cNvSpPr/>
          <p:nvPr/>
        </p:nvSpPr>
        <p:spPr>
          <a:xfrm>
            <a:off x="7840800" y="2152800"/>
            <a:ext cx="27000" cy="9360"/>
          </a:xfrm>
          <a:custGeom>
            <a:avLst/>
            <a:gdLst/>
            <a:ahLst/>
            <a:rect l="l" t="t" r="r" b="b"/>
            <a:pathLst>
              <a:path w="75" h="26">
                <a:moveTo>
                  <a:pt x="21779" y="6003"/>
                </a:moveTo>
                <a:cubicBezTo>
                  <a:pt x="21823" y="6003"/>
                  <a:pt x="21837" y="6006"/>
                  <a:pt x="21853" y="597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Ink 18"/>
          <p:cNvSpPr/>
          <p:nvPr/>
        </p:nvSpPr>
        <p:spPr>
          <a:xfrm>
            <a:off x="7777080" y="2062080"/>
            <a:ext cx="73080" cy="27000"/>
          </a:xfrm>
          <a:custGeom>
            <a:avLst/>
            <a:gdLst/>
            <a:ahLst/>
            <a:rect l="l" t="t" r="r" b="b"/>
            <a:pathLst>
              <a:path w="199" h="75">
                <a:moveTo>
                  <a:pt x="21605" y="5804"/>
                </a:moveTo>
                <a:cubicBezTo>
                  <a:pt x="21673" y="5779"/>
                  <a:pt x="21748" y="5764"/>
                  <a:pt x="21803" y="573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Ink 19"/>
          <p:cNvSpPr/>
          <p:nvPr/>
        </p:nvSpPr>
        <p:spPr>
          <a:xfrm>
            <a:off x="7804080" y="1963800"/>
            <a:ext cx="27000" cy="19080"/>
          </a:xfrm>
          <a:custGeom>
            <a:avLst/>
            <a:gdLst/>
            <a:ahLst/>
            <a:rect l="l" t="t" r="r" b="b"/>
            <a:pathLst>
              <a:path w="76" h="51">
                <a:moveTo>
                  <a:pt x="21679" y="5507"/>
                </a:moveTo>
                <a:cubicBezTo>
                  <a:pt x="21709" y="5477"/>
                  <a:pt x="21723" y="5466"/>
                  <a:pt x="21754" y="545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Ink 20"/>
          <p:cNvSpPr/>
          <p:nvPr/>
        </p:nvSpPr>
        <p:spPr>
          <a:xfrm>
            <a:off x="7742160" y="1839960"/>
            <a:ext cx="54000" cy="34920"/>
          </a:xfrm>
          <a:custGeom>
            <a:avLst/>
            <a:gdLst/>
            <a:ahLst/>
            <a:rect l="l" t="t" r="r" b="b"/>
            <a:pathLst>
              <a:path w="149" h="100">
                <a:moveTo>
                  <a:pt x="21506" y="5209"/>
                </a:moveTo>
                <a:cubicBezTo>
                  <a:pt x="21557" y="5157"/>
                  <a:pt x="21583" y="5125"/>
                  <a:pt x="21654" y="511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Ink 21"/>
          <p:cNvSpPr/>
          <p:nvPr/>
        </p:nvSpPr>
        <p:spPr>
          <a:xfrm>
            <a:off x="7786800" y="1687680"/>
            <a:ext cx="71280" cy="9360"/>
          </a:xfrm>
          <a:custGeom>
            <a:avLst/>
            <a:gdLst/>
            <a:ahLst/>
            <a:rect l="l" t="t" r="r" b="b"/>
            <a:pathLst>
              <a:path w="199" h="26">
                <a:moveTo>
                  <a:pt x="21630" y="4713"/>
                </a:moveTo>
                <a:cubicBezTo>
                  <a:pt x="21710" y="4682"/>
                  <a:pt x="21748" y="4682"/>
                  <a:pt x="21828" y="471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Ink 22"/>
          <p:cNvSpPr/>
          <p:nvPr/>
        </p:nvSpPr>
        <p:spPr>
          <a:xfrm>
            <a:off x="7500960" y="1660680"/>
            <a:ext cx="312840" cy="723600"/>
          </a:xfrm>
          <a:custGeom>
            <a:avLst/>
            <a:gdLst/>
            <a:ahLst/>
            <a:rect l="l" t="t" r="r" b="b"/>
            <a:pathLst>
              <a:path w="869" h="2010">
                <a:moveTo>
                  <a:pt x="21704" y="6623"/>
                </a:moveTo>
                <a:cubicBezTo>
                  <a:pt x="21686" y="6573"/>
                  <a:pt x="21657" y="6525"/>
                  <a:pt x="21630" y="6474"/>
                </a:cubicBezTo>
                <a:cubicBezTo>
                  <a:pt x="21595" y="6407"/>
                  <a:pt x="21583" y="6324"/>
                  <a:pt x="21555" y="6251"/>
                </a:cubicBezTo>
                <a:cubicBezTo>
                  <a:pt x="21507" y="6124"/>
                  <a:pt x="21470" y="6001"/>
                  <a:pt x="21406" y="5879"/>
                </a:cubicBezTo>
                <a:cubicBezTo>
                  <a:pt x="21353" y="5778"/>
                  <a:pt x="21298" y="5662"/>
                  <a:pt x="21258" y="5556"/>
                </a:cubicBezTo>
                <a:cubicBezTo>
                  <a:pt x="21209" y="5424"/>
                  <a:pt x="21154" y="5294"/>
                  <a:pt x="21109" y="5159"/>
                </a:cubicBezTo>
                <a:cubicBezTo>
                  <a:pt x="21080" y="5071"/>
                  <a:pt x="21027" y="4978"/>
                  <a:pt x="21010" y="4887"/>
                </a:cubicBezTo>
                <a:cubicBezTo>
                  <a:pt x="20998" y="4822"/>
                  <a:pt x="21000" y="4773"/>
                  <a:pt x="20985" y="4713"/>
                </a:cubicBezTo>
                <a:cubicBezTo>
                  <a:pt x="20977" y="4683"/>
                  <a:pt x="20945" y="4644"/>
                  <a:pt x="20935" y="4614"/>
                </a:cubicBezTo>
                <a:cubicBezTo>
                  <a:pt x="20927" y="4684"/>
                  <a:pt x="20896" y="4736"/>
                  <a:pt x="20886" y="4812"/>
                </a:cubicBezTo>
                <a:cubicBezTo>
                  <a:pt x="20886" y="4864"/>
                  <a:pt x="20885" y="4882"/>
                  <a:pt x="20861" y="4911"/>
                </a:cubicBezTo>
                <a:cubicBezTo>
                  <a:pt x="20846" y="4850"/>
                  <a:pt x="20836" y="4789"/>
                  <a:pt x="20836" y="4713"/>
                </a:cubicBezTo>
                <a:cubicBezTo>
                  <a:pt x="20836" y="4668"/>
                  <a:pt x="20833" y="4655"/>
                  <a:pt x="20861" y="4638"/>
                </a:cubicBezTo>
                <a:cubicBezTo>
                  <a:pt x="20908" y="4650"/>
                  <a:pt x="20989" y="4682"/>
                  <a:pt x="21034" y="4688"/>
                </a:cubicBezTo>
                <a:cubicBezTo>
                  <a:pt x="21093" y="4688"/>
                  <a:pt x="21119" y="4691"/>
                  <a:pt x="21158" y="471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Ink 23"/>
          <p:cNvSpPr/>
          <p:nvPr/>
        </p:nvSpPr>
        <p:spPr>
          <a:xfrm>
            <a:off x="7466040" y="2027160"/>
            <a:ext cx="204840" cy="135000"/>
          </a:xfrm>
          <a:custGeom>
            <a:avLst/>
            <a:gdLst/>
            <a:ahLst/>
            <a:rect l="l" t="t" r="r" b="b"/>
            <a:pathLst>
              <a:path w="571" h="373">
                <a:moveTo>
                  <a:pt x="20737" y="5680"/>
                </a:moveTo>
                <a:cubicBezTo>
                  <a:pt x="20745" y="5664"/>
                  <a:pt x="20754" y="5647"/>
                  <a:pt x="20762" y="5631"/>
                </a:cubicBezTo>
                <a:cubicBezTo>
                  <a:pt x="20762" y="5712"/>
                  <a:pt x="20773" y="5785"/>
                  <a:pt x="20786" y="5854"/>
                </a:cubicBezTo>
                <a:cubicBezTo>
                  <a:pt x="20795" y="5898"/>
                  <a:pt x="20800" y="5985"/>
                  <a:pt x="20861" y="6003"/>
                </a:cubicBezTo>
                <a:cubicBezTo>
                  <a:pt x="20935" y="6024"/>
                  <a:pt x="20974" y="5934"/>
                  <a:pt x="20985" y="5879"/>
                </a:cubicBezTo>
                <a:cubicBezTo>
                  <a:pt x="20998" y="5816"/>
                  <a:pt x="21010" y="5775"/>
                  <a:pt x="21010" y="5705"/>
                </a:cubicBezTo>
                <a:cubicBezTo>
                  <a:pt x="21010" y="5688"/>
                  <a:pt x="21010" y="5672"/>
                  <a:pt x="21010" y="5655"/>
                </a:cubicBezTo>
                <a:cubicBezTo>
                  <a:pt x="21018" y="5711"/>
                  <a:pt x="21031" y="5745"/>
                  <a:pt x="21084" y="5779"/>
                </a:cubicBezTo>
                <a:cubicBezTo>
                  <a:pt x="21164" y="5830"/>
                  <a:pt x="21209" y="5829"/>
                  <a:pt x="21307" y="582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Ink 24"/>
          <p:cNvSpPr/>
          <p:nvPr/>
        </p:nvSpPr>
        <p:spPr>
          <a:xfrm>
            <a:off x="7545240" y="1160640"/>
            <a:ext cx="652680" cy="482400"/>
          </a:xfrm>
          <a:custGeom>
            <a:avLst/>
            <a:gdLst/>
            <a:ahLst/>
            <a:rect l="l" t="t" r="r" b="b"/>
            <a:pathLst>
              <a:path w="1812" h="1340">
                <a:moveTo>
                  <a:pt x="20960" y="4564"/>
                </a:moveTo>
                <a:cubicBezTo>
                  <a:pt x="21001" y="4528"/>
                  <a:pt x="21044" y="4499"/>
                  <a:pt x="21084" y="4465"/>
                </a:cubicBezTo>
                <a:cubicBezTo>
                  <a:pt x="21129" y="4427"/>
                  <a:pt x="21168" y="4373"/>
                  <a:pt x="21208" y="4341"/>
                </a:cubicBezTo>
                <a:cubicBezTo>
                  <a:pt x="21268" y="4294"/>
                  <a:pt x="21327" y="4266"/>
                  <a:pt x="21382" y="4217"/>
                </a:cubicBezTo>
                <a:cubicBezTo>
                  <a:pt x="21454" y="4153"/>
                  <a:pt x="21529" y="4108"/>
                  <a:pt x="21605" y="4043"/>
                </a:cubicBezTo>
                <a:cubicBezTo>
                  <a:pt x="21699" y="3963"/>
                  <a:pt x="21805" y="3894"/>
                  <a:pt x="21903" y="3820"/>
                </a:cubicBezTo>
                <a:cubicBezTo>
                  <a:pt x="21987" y="3756"/>
                  <a:pt x="22068" y="3705"/>
                  <a:pt x="22151" y="3646"/>
                </a:cubicBezTo>
                <a:cubicBezTo>
                  <a:pt x="22233" y="3588"/>
                  <a:pt x="22317" y="3529"/>
                  <a:pt x="22399" y="3473"/>
                </a:cubicBezTo>
                <a:cubicBezTo>
                  <a:pt x="22459" y="3432"/>
                  <a:pt x="22513" y="3391"/>
                  <a:pt x="22572" y="3349"/>
                </a:cubicBezTo>
                <a:cubicBezTo>
                  <a:pt x="22626" y="3311"/>
                  <a:pt x="22687" y="3254"/>
                  <a:pt x="22746" y="3225"/>
                </a:cubicBezTo>
                <a:cubicBezTo>
                  <a:pt x="22754" y="3225"/>
                  <a:pt x="22763" y="3225"/>
                  <a:pt x="22771" y="322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Ink 25"/>
          <p:cNvSpPr/>
          <p:nvPr/>
        </p:nvSpPr>
        <p:spPr>
          <a:xfrm>
            <a:off x="8116920" y="1116000"/>
            <a:ext cx="142920" cy="152280"/>
          </a:xfrm>
          <a:custGeom>
            <a:avLst/>
            <a:gdLst/>
            <a:ahLst/>
            <a:rect l="l" t="t" r="r" b="b"/>
            <a:pathLst>
              <a:path w="398" h="422">
                <a:moveTo>
                  <a:pt x="22547" y="3175"/>
                </a:moveTo>
                <a:cubicBezTo>
                  <a:pt x="22613" y="3150"/>
                  <a:pt x="22681" y="3146"/>
                  <a:pt x="22746" y="3125"/>
                </a:cubicBezTo>
                <a:cubicBezTo>
                  <a:pt x="22815" y="3103"/>
                  <a:pt x="22910" y="3058"/>
                  <a:pt x="22944" y="3150"/>
                </a:cubicBezTo>
                <a:cubicBezTo>
                  <a:pt x="22969" y="3217"/>
                  <a:pt x="22924" y="3270"/>
                  <a:pt x="22895" y="3324"/>
                </a:cubicBezTo>
                <a:cubicBezTo>
                  <a:pt x="22869" y="3373"/>
                  <a:pt x="22830" y="3425"/>
                  <a:pt x="22820" y="3473"/>
                </a:cubicBezTo>
                <a:cubicBezTo>
                  <a:pt x="22820" y="3514"/>
                  <a:pt x="22828" y="3530"/>
                  <a:pt x="22796" y="352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Ink 26"/>
          <p:cNvSpPr/>
          <p:nvPr/>
        </p:nvSpPr>
        <p:spPr>
          <a:xfrm>
            <a:off x="7678800" y="1170000"/>
            <a:ext cx="152280" cy="223920"/>
          </a:xfrm>
          <a:custGeom>
            <a:avLst/>
            <a:gdLst/>
            <a:ahLst/>
            <a:rect l="l" t="t" r="r" b="b"/>
            <a:pathLst>
              <a:path w="423" h="622">
                <a:moveTo>
                  <a:pt x="21332" y="3646"/>
                </a:moveTo>
                <a:cubicBezTo>
                  <a:pt x="21372" y="3686"/>
                  <a:pt x="21394" y="3729"/>
                  <a:pt x="21431" y="3770"/>
                </a:cubicBezTo>
                <a:cubicBezTo>
                  <a:pt x="21458" y="3800"/>
                  <a:pt x="21539" y="3916"/>
                  <a:pt x="21580" y="3845"/>
                </a:cubicBezTo>
                <a:cubicBezTo>
                  <a:pt x="21605" y="3801"/>
                  <a:pt x="21591" y="3618"/>
                  <a:pt x="21605" y="3572"/>
                </a:cubicBezTo>
                <a:cubicBezTo>
                  <a:pt x="21628" y="3495"/>
                  <a:pt x="21641" y="3444"/>
                  <a:pt x="21679" y="3373"/>
                </a:cubicBezTo>
                <a:cubicBezTo>
                  <a:pt x="21708" y="3318"/>
                  <a:pt x="21759" y="3279"/>
                  <a:pt x="21729" y="324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Ink 27"/>
          <p:cNvSpPr/>
          <p:nvPr/>
        </p:nvSpPr>
        <p:spPr>
          <a:xfrm>
            <a:off x="7804080" y="1197000"/>
            <a:ext cx="447840" cy="1231920"/>
          </a:xfrm>
          <a:custGeom>
            <a:avLst/>
            <a:gdLst/>
            <a:ahLst/>
            <a:rect l="l" t="t" r="r" b="b"/>
            <a:pathLst>
              <a:path w="1242" h="3424">
                <a:moveTo>
                  <a:pt x="21704" y="6623"/>
                </a:moveTo>
                <a:cubicBezTo>
                  <a:pt x="21729" y="6648"/>
                  <a:pt x="21737" y="6656"/>
                  <a:pt x="21754" y="6672"/>
                </a:cubicBezTo>
                <a:cubicBezTo>
                  <a:pt x="21742" y="6620"/>
                  <a:pt x="21733" y="6553"/>
                  <a:pt x="21704" y="6598"/>
                </a:cubicBezTo>
                <a:cubicBezTo>
                  <a:pt x="21686" y="6625"/>
                  <a:pt x="21655" y="6750"/>
                  <a:pt x="21729" y="6747"/>
                </a:cubicBezTo>
                <a:cubicBezTo>
                  <a:pt x="21841" y="6742"/>
                  <a:pt x="21832" y="6662"/>
                  <a:pt x="21828" y="6598"/>
                </a:cubicBezTo>
                <a:cubicBezTo>
                  <a:pt x="21820" y="6590"/>
                  <a:pt x="21811" y="6581"/>
                  <a:pt x="21803" y="6573"/>
                </a:cubicBezTo>
                <a:cubicBezTo>
                  <a:pt x="21795" y="6592"/>
                  <a:pt x="21696" y="6712"/>
                  <a:pt x="21779" y="6722"/>
                </a:cubicBezTo>
                <a:cubicBezTo>
                  <a:pt x="21842" y="6729"/>
                  <a:pt x="21933" y="6562"/>
                  <a:pt x="21853" y="6548"/>
                </a:cubicBezTo>
                <a:cubicBezTo>
                  <a:pt x="21809" y="6540"/>
                  <a:pt x="21807" y="6640"/>
                  <a:pt x="21803" y="6648"/>
                </a:cubicBezTo>
                <a:cubicBezTo>
                  <a:pt x="21823" y="6587"/>
                  <a:pt x="21829" y="6510"/>
                  <a:pt x="21853" y="6449"/>
                </a:cubicBezTo>
                <a:cubicBezTo>
                  <a:pt x="21884" y="6370"/>
                  <a:pt x="21904" y="6305"/>
                  <a:pt x="21927" y="6226"/>
                </a:cubicBezTo>
                <a:cubicBezTo>
                  <a:pt x="21955" y="6132"/>
                  <a:pt x="21999" y="6046"/>
                  <a:pt x="22027" y="5953"/>
                </a:cubicBezTo>
                <a:cubicBezTo>
                  <a:pt x="22068" y="5817"/>
                  <a:pt x="22096" y="5663"/>
                  <a:pt x="22151" y="5531"/>
                </a:cubicBezTo>
                <a:cubicBezTo>
                  <a:pt x="22203" y="5408"/>
                  <a:pt x="22242" y="5289"/>
                  <a:pt x="22275" y="5159"/>
                </a:cubicBezTo>
                <a:cubicBezTo>
                  <a:pt x="22312" y="5014"/>
                  <a:pt x="22379" y="4882"/>
                  <a:pt x="22423" y="4738"/>
                </a:cubicBezTo>
                <a:cubicBezTo>
                  <a:pt x="22465" y="4601"/>
                  <a:pt x="22520" y="4474"/>
                  <a:pt x="22572" y="4341"/>
                </a:cubicBezTo>
                <a:cubicBezTo>
                  <a:pt x="22635" y="4181"/>
                  <a:pt x="22707" y="4028"/>
                  <a:pt x="22771" y="3870"/>
                </a:cubicBezTo>
                <a:cubicBezTo>
                  <a:pt x="22806" y="3783"/>
                  <a:pt x="22843" y="3687"/>
                  <a:pt x="22870" y="3597"/>
                </a:cubicBezTo>
                <a:cubicBezTo>
                  <a:pt x="22890" y="3531"/>
                  <a:pt x="22923" y="3445"/>
                  <a:pt x="22920" y="3373"/>
                </a:cubicBezTo>
                <a:cubicBezTo>
                  <a:pt x="22912" y="3357"/>
                  <a:pt x="22903" y="3340"/>
                  <a:pt x="22895" y="332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Ink 28"/>
          <p:cNvSpPr/>
          <p:nvPr/>
        </p:nvSpPr>
        <p:spPr>
          <a:xfrm>
            <a:off x="8178840" y="1160640"/>
            <a:ext cx="152280" cy="117360"/>
          </a:xfrm>
          <a:custGeom>
            <a:avLst/>
            <a:gdLst/>
            <a:ahLst/>
            <a:rect l="l" t="t" r="r" b="b"/>
            <a:pathLst>
              <a:path w="423" h="323">
                <a:moveTo>
                  <a:pt x="22771" y="3423"/>
                </a:moveTo>
                <a:cubicBezTo>
                  <a:pt x="22754" y="3440"/>
                  <a:pt x="22738" y="3456"/>
                  <a:pt x="22721" y="3473"/>
                </a:cubicBezTo>
                <a:cubicBezTo>
                  <a:pt x="22751" y="3414"/>
                  <a:pt x="22781" y="3351"/>
                  <a:pt x="22820" y="3299"/>
                </a:cubicBezTo>
                <a:cubicBezTo>
                  <a:pt x="22862" y="3242"/>
                  <a:pt x="22956" y="3186"/>
                  <a:pt x="23019" y="3249"/>
                </a:cubicBezTo>
                <a:cubicBezTo>
                  <a:pt x="23062" y="3291"/>
                  <a:pt x="23129" y="3411"/>
                  <a:pt x="23143" y="3473"/>
                </a:cubicBezTo>
                <a:cubicBezTo>
                  <a:pt x="23143" y="3514"/>
                  <a:pt x="23143" y="3522"/>
                  <a:pt x="23143" y="354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Ink 29"/>
          <p:cNvSpPr/>
          <p:nvPr/>
        </p:nvSpPr>
        <p:spPr>
          <a:xfrm>
            <a:off x="8001000" y="1982880"/>
            <a:ext cx="160200" cy="152280"/>
          </a:xfrm>
          <a:custGeom>
            <a:avLst/>
            <a:gdLst/>
            <a:ahLst/>
            <a:rect l="l" t="t" r="r" b="b"/>
            <a:pathLst>
              <a:path w="447" h="422">
                <a:moveTo>
                  <a:pt x="22225" y="5730"/>
                </a:moveTo>
                <a:cubicBezTo>
                  <a:pt x="22277" y="5803"/>
                  <a:pt x="22300" y="5882"/>
                  <a:pt x="22399" y="5904"/>
                </a:cubicBezTo>
                <a:cubicBezTo>
                  <a:pt x="22441" y="5913"/>
                  <a:pt x="22518" y="5938"/>
                  <a:pt x="22547" y="5879"/>
                </a:cubicBezTo>
                <a:cubicBezTo>
                  <a:pt x="22575" y="5822"/>
                  <a:pt x="22544" y="5686"/>
                  <a:pt x="22523" y="5631"/>
                </a:cubicBezTo>
                <a:cubicBezTo>
                  <a:pt x="22498" y="5581"/>
                  <a:pt x="22490" y="5564"/>
                  <a:pt x="22473" y="5531"/>
                </a:cubicBezTo>
                <a:cubicBezTo>
                  <a:pt x="22440" y="5614"/>
                  <a:pt x="22509" y="5659"/>
                  <a:pt x="22597" y="5631"/>
                </a:cubicBezTo>
                <a:cubicBezTo>
                  <a:pt x="22670" y="5608"/>
                  <a:pt x="22663" y="5570"/>
                  <a:pt x="22671" y="550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Ink 30"/>
          <p:cNvSpPr/>
          <p:nvPr/>
        </p:nvSpPr>
        <p:spPr>
          <a:xfrm>
            <a:off x="8089920" y="1893960"/>
            <a:ext cx="90360" cy="61920"/>
          </a:xfrm>
          <a:custGeom>
            <a:avLst/>
            <a:gdLst/>
            <a:ahLst/>
            <a:rect l="l" t="t" r="r" b="b"/>
            <a:pathLst>
              <a:path w="249" h="174">
                <a:moveTo>
                  <a:pt x="22473" y="5259"/>
                </a:moveTo>
                <a:cubicBezTo>
                  <a:pt x="22569" y="5368"/>
                  <a:pt x="22587" y="5415"/>
                  <a:pt x="22721" y="543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Ink 31"/>
          <p:cNvSpPr/>
          <p:nvPr/>
        </p:nvSpPr>
        <p:spPr>
          <a:xfrm>
            <a:off x="8082000" y="1866960"/>
            <a:ext cx="61920" cy="98280"/>
          </a:xfrm>
          <a:custGeom>
            <a:avLst/>
            <a:gdLst/>
            <a:ahLst/>
            <a:rect l="l" t="t" r="r" b="b"/>
            <a:pathLst>
              <a:path w="175" h="274">
                <a:moveTo>
                  <a:pt x="22448" y="5457"/>
                </a:moveTo>
                <a:cubicBezTo>
                  <a:pt x="22477" y="5398"/>
                  <a:pt x="22508" y="5335"/>
                  <a:pt x="22547" y="5283"/>
                </a:cubicBezTo>
                <a:cubicBezTo>
                  <a:pt x="22572" y="5250"/>
                  <a:pt x="22596" y="5217"/>
                  <a:pt x="22622" y="518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Ink 32"/>
          <p:cNvSpPr/>
          <p:nvPr/>
        </p:nvSpPr>
        <p:spPr>
          <a:xfrm>
            <a:off x="8170920" y="1697040"/>
            <a:ext cx="71280" cy="177840"/>
          </a:xfrm>
          <a:custGeom>
            <a:avLst/>
            <a:gdLst/>
            <a:ahLst/>
            <a:rect l="l" t="t" r="r" b="b"/>
            <a:pathLst>
              <a:path w="200" h="497">
                <a:moveTo>
                  <a:pt x="22696" y="5085"/>
                </a:moveTo>
                <a:cubicBezTo>
                  <a:pt x="22734" y="5139"/>
                  <a:pt x="22783" y="5236"/>
                  <a:pt x="22870" y="5209"/>
                </a:cubicBezTo>
                <a:cubicBezTo>
                  <a:pt x="22878" y="5201"/>
                  <a:pt x="22887" y="5192"/>
                  <a:pt x="22895" y="5184"/>
                </a:cubicBezTo>
                <a:cubicBezTo>
                  <a:pt x="22866" y="5108"/>
                  <a:pt x="22875" y="5039"/>
                  <a:pt x="22845" y="4961"/>
                </a:cubicBezTo>
                <a:cubicBezTo>
                  <a:pt x="22824" y="4905"/>
                  <a:pt x="22796" y="4800"/>
                  <a:pt x="22820" y="4738"/>
                </a:cubicBezTo>
                <a:cubicBezTo>
                  <a:pt x="22828" y="4730"/>
                  <a:pt x="22837" y="4721"/>
                  <a:pt x="22845" y="471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Ink 33"/>
          <p:cNvSpPr/>
          <p:nvPr/>
        </p:nvSpPr>
        <p:spPr>
          <a:xfrm>
            <a:off x="8296200" y="1946160"/>
            <a:ext cx="125640" cy="169920"/>
          </a:xfrm>
          <a:custGeom>
            <a:avLst/>
            <a:gdLst/>
            <a:ahLst/>
            <a:rect l="l" t="t" r="r" b="b"/>
            <a:pathLst>
              <a:path w="348" h="473">
                <a:moveTo>
                  <a:pt x="23118" y="5407"/>
                </a:moveTo>
                <a:cubicBezTo>
                  <a:pt x="23118" y="5507"/>
                  <a:pt x="23088" y="5541"/>
                  <a:pt x="23068" y="5631"/>
                </a:cubicBezTo>
                <a:cubicBezTo>
                  <a:pt x="23056" y="5682"/>
                  <a:pt x="23024" y="5774"/>
                  <a:pt x="23044" y="5829"/>
                </a:cubicBezTo>
                <a:cubicBezTo>
                  <a:pt x="23062" y="5877"/>
                  <a:pt x="23177" y="5854"/>
                  <a:pt x="23217" y="5854"/>
                </a:cubicBezTo>
                <a:cubicBezTo>
                  <a:pt x="23285" y="5854"/>
                  <a:pt x="23351" y="5874"/>
                  <a:pt x="23391" y="585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Ink 34"/>
          <p:cNvSpPr/>
          <p:nvPr/>
        </p:nvSpPr>
        <p:spPr>
          <a:xfrm>
            <a:off x="8348760" y="1884240"/>
            <a:ext cx="117360" cy="179640"/>
          </a:xfrm>
          <a:custGeom>
            <a:avLst/>
            <a:gdLst/>
            <a:ahLst/>
            <a:rect l="l" t="t" r="r" b="b"/>
            <a:pathLst>
              <a:path w="324" h="497">
                <a:moveTo>
                  <a:pt x="23192" y="5308"/>
                </a:moveTo>
                <a:cubicBezTo>
                  <a:pt x="23236" y="5264"/>
                  <a:pt x="23306" y="5172"/>
                  <a:pt x="23341" y="5283"/>
                </a:cubicBezTo>
                <a:cubicBezTo>
                  <a:pt x="23359" y="5341"/>
                  <a:pt x="23299" y="5423"/>
                  <a:pt x="23292" y="5482"/>
                </a:cubicBezTo>
                <a:cubicBezTo>
                  <a:pt x="23354" y="5482"/>
                  <a:pt x="23418" y="5467"/>
                  <a:pt x="23465" y="5507"/>
                </a:cubicBezTo>
                <a:cubicBezTo>
                  <a:pt x="23540" y="5572"/>
                  <a:pt x="23518" y="5629"/>
                  <a:pt x="23465" y="5705"/>
                </a:cubicBezTo>
                <a:cubicBezTo>
                  <a:pt x="23429" y="5758"/>
                  <a:pt x="23423" y="5710"/>
                  <a:pt x="23416" y="568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Ink 35"/>
          <p:cNvSpPr/>
          <p:nvPr/>
        </p:nvSpPr>
        <p:spPr>
          <a:xfrm>
            <a:off x="8501040" y="1938240"/>
            <a:ext cx="44640" cy="88920"/>
          </a:xfrm>
          <a:custGeom>
            <a:avLst/>
            <a:gdLst/>
            <a:ahLst/>
            <a:rect l="l" t="t" r="r" b="b"/>
            <a:pathLst>
              <a:path w="125" h="249">
                <a:moveTo>
                  <a:pt x="23614" y="5383"/>
                </a:moveTo>
                <a:cubicBezTo>
                  <a:pt x="23664" y="5461"/>
                  <a:pt x="23678" y="5531"/>
                  <a:pt x="23713" y="5606"/>
                </a:cubicBezTo>
                <a:cubicBezTo>
                  <a:pt x="23738" y="5631"/>
                  <a:pt x="23746" y="5639"/>
                  <a:pt x="23713" y="560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Ink 36"/>
          <p:cNvSpPr/>
          <p:nvPr/>
        </p:nvSpPr>
        <p:spPr>
          <a:xfrm>
            <a:off x="8491680" y="1803240"/>
            <a:ext cx="81000" cy="117720"/>
          </a:xfrm>
          <a:custGeom>
            <a:avLst/>
            <a:gdLst/>
            <a:ahLst/>
            <a:rect l="l" t="t" r="r" b="b"/>
            <a:pathLst>
              <a:path w="224" h="323">
                <a:moveTo>
                  <a:pt x="23589" y="5011"/>
                </a:moveTo>
                <a:cubicBezTo>
                  <a:pt x="23639" y="5096"/>
                  <a:pt x="23678" y="5182"/>
                  <a:pt x="23738" y="5259"/>
                </a:cubicBezTo>
                <a:cubicBezTo>
                  <a:pt x="23767" y="5297"/>
                  <a:pt x="23797" y="5340"/>
                  <a:pt x="23812" y="530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Ink 37"/>
          <p:cNvSpPr/>
          <p:nvPr/>
        </p:nvSpPr>
        <p:spPr>
          <a:xfrm>
            <a:off x="8545680" y="1724040"/>
            <a:ext cx="80640" cy="106200"/>
          </a:xfrm>
          <a:custGeom>
            <a:avLst/>
            <a:gdLst/>
            <a:ahLst/>
            <a:rect l="l" t="t" r="r" b="b"/>
            <a:pathLst>
              <a:path w="224" h="299">
                <a:moveTo>
                  <a:pt x="23738" y="4787"/>
                </a:moveTo>
                <a:cubicBezTo>
                  <a:pt x="23783" y="4858"/>
                  <a:pt x="23814" y="4943"/>
                  <a:pt x="23862" y="5011"/>
                </a:cubicBezTo>
                <a:cubicBezTo>
                  <a:pt x="23897" y="5060"/>
                  <a:pt x="23920" y="5081"/>
                  <a:pt x="23961" y="506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Ink 38"/>
          <p:cNvSpPr/>
          <p:nvPr/>
        </p:nvSpPr>
        <p:spPr>
          <a:xfrm>
            <a:off x="8582040" y="1589040"/>
            <a:ext cx="125280" cy="304920"/>
          </a:xfrm>
          <a:custGeom>
            <a:avLst/>
            <a:gdLst/>
            <a:ahLst/>
            <a:rect l="l" t="t" r="r" b="b"/>
            <a:pathLst>
              <a:path w="349" h="845">
                <a:moveTo>
                  <a:pt x="23837" y="4490"/>
                </a:moveTo>
                <a:cubicBezTo>
                  <a:pt x="23955" y="4451"/>
                  <a:pt x="24039" y="4415"/>
                  <a:pt x="24160" y="4415"/>
                </a:cubicBezTo>
                <a:cubicBezTo>
                  <a:pt x="24149" y="4502"/>
                  <a:pt x="24113" y="4572"/>
                  <a:pt x="24110" y="4663"/>
                </a:cubicBezTo>
                <a:cubicBezTo>
                  <a:pt x="24106" y="4798"/>
                  <a:pt x="24118" y="4933"/>
                  <a:pt x="24135" y="5060"/>
                </a:cubicBezTo>
                <a:cubicBezTo>
                  <a:pt x="24145" y="5131"/>
                  <a:pt x="24160" y="5192"/>
                  <a:pt x="24185" y="525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2:53:06Z</dcterms:created>
  <dc:creator>jnewman</dc:creator>
  <dc:description/>
  <dc:language>en-US</dc:language>
  <cp:lastModifiedBy>abeason</cp:lastModifiedBy>
  <dcterms:modified xsi:type="dcterms:W3CDTF">2010-01-20T15:19:02Z</dcterms:modified>
  <cp:revision>10</cp:revision>
  <dc:subject/>
  <dc:title>Lesson 6.3 part two</dc:title>
</cp:coreProperties>
</file>